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DFE1-706C-4588-84EC-E81B5BFBD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537F-B9AF-4218-9313-5E837AB1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67C0-8525-472C-BD3C-F4E127BE1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4B15-F4B4-476D-A8FF-A27974DBB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8683-FCAF-4776-8124-E3C542FE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7589-7994-41A0-B167-DFFD8329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9B87-BFFF-49EC-8822-16F8EFFD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63FF-04D4-4BF2-B8D7-757F49E2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615C-6333-4A9B-B298-98EAF97A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BE54-9E89-47C6-B2A6-FADAA439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70FC-408C-4209-973E-1C512D9D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B5BC-7EA9-4BB0-9114-F818D019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9BC1-EC68-4ABE-A41D-98938127A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30320"/>
            <a:ext cx="9144000" cy="1954800"/>
          </a:xfrm>
          <a:prstGeom prst="roundRect">
            <a:avLst>
              <a:gd name="adj" fmla="val 16667"/>
            </a:avLst>
          </a:pr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entury Gothic"/>
              </a:rPr>
              <a:t>R e p u b l i c   o f   S e r b i a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Century Gothic"/>
              </a:rPr>
              <a:t>MINISTRY OF URBAN PLANNING AND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entury Gothic"/>
              </a:rPr>
              <a:t>Belgrade, 22-26 Nemanjina St.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br>
              <a:rPr sz="2000"/>
            </a:br>
            <a:r>
              <a:rPr b="1" lang="sl-SI" sz="2400" spc="-1" strike="noStrike">
                <a:solidFill>
                  <a:srgbClr val="99ffcc"/>
                </a:solidFill>
                <a:latin typeface="Century Gothic"/>
              </a:rPr>
              <a:t>http:</a:t>
            </a:r>
            <a:r>
              <a:rPr b="1" lang="en-US" sz="2400" spc="-1" strike="noStrike">
                <a:solidFill>
                  <a:srgbClr val="99ffcc"/>
                </a:solidFill>
                <a:latin typeface="Century Gothic"/>
              </a:rPr>
              <a:t>//www.mugrs.sr.gov.yu</a:t>
            </a:r>
            <a:r>
              <a:rPr b="0" lang="en-US" sz="2400" spc="-1" strike="noStrike">
                <a:solidFill>
                  <a:srgbClr val="99ffcc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99ffcc"/>
                </a:solidFill>
                <a:latin typeface="Century Gothic"/>
              </a:rPr>
              <a:t>e-mail: mugrs@EUnet.y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800600"/>
            <a:ext cx="9144000" cy="1828800"/>
          </a:xfrm>
          <a:prstGeom prst="roundRect">
            <a:avLst>
              <a:gd name="adj" fmla="val 16667"/>
            </a:avLst>
          </a:pr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entury Gothic"/>
              </a:rPr>
              <a:t>M i n i s t e r</a:t>
            </a:r>
            <a:r>
              <a:rPr b="0" lang="en-US" sz="2800" spc="-1" strike="noStrike">
                <a:solidFill>
                  <a:srgbClr val="ffffcc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Century Gothic"/>
              </a:rPr>
              <a:t>Prof. Dragoslav </a:t>
            </a:r>
            <a:r>
              <a:rPr b="1" i="1" lang="sl-SI" sz="2800" spc="-1" strike="noStrike">
                <a:solidFill>
                  <a:srgbClr val="ffffcc"/>
                </a:solidFill>
                <a:latin typeface="Century Gothic"/>
              </a:rPr>
              <a:t>Š</a:t>
            </a:r>
            <a:r>
              <a:rPr b="1" i="1" lang="en-US" sz="2800" spc="-1" strike="noStrike">
                <a:solidFill>
                  <a:srgbClr val="ffffcc"/>
                </a:solidFill>
                <a:latin typeface="Century Gothic"/>
              </a:rPr>
              <a:t>umarac, Ph.D., C.E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cc"/>
                </a:solidFill>
                <a:latin typeface="Century Gothic"/>
              </a:rPr>
              <a:t>Be</a:t>
            </a:r>
            <a:r>
              <a:rPr b="0" lang="en-US" sz="2000" spc="-1" strike="noStrike">
                <a:solidFill>
                  <a:srgbClr val="ffffcc"/>
                </a:solidFill>
                <a:latin typeface="Century Gothic"/>
              </a:rPr>
              <a:t>lgrade</a:t>
            </a:r>
            <a:r>
              <a:rPr b="0" lang="sr-Latn-CS" sz="2000" spc="-1" strike="noStrike">
                <a:solidFill>
                  <a:srgbClr val="ffffcc"/>
                </a:solidFill>
                <a:latin typeface="Century Gothic"/>
              </a:rPr>
              <a:t>, </a:t>
            </a:r>
            <a:r>
              <a:rPr b="0" lang="en-US" sz="2000" spc="-1" strike="noStrike">
                <a:solidFill>
                  <a:srgbClr val="ffffcc"/>
                </a:solidFill>
                <a:latin typeface="Century Gothic"/>
              </a:rPr>
              <a:t>14</a:t>
            </a:r>
            <a:r>
              <a:rPr b="0" lang="en-US" sz="2000" spc="-1" strike="noStrike" baseline="30000">
                <a:solidFill>
                  <a:srgbClr val="ffffcc"/>
                </a:solidFill>
                <a:latin typeface="Century Gothic"/>
              </a:rPr>
              <a:t>th</a:t>
            </a:r>
            <a:r>
              <a:rPr b="0" lang="en-US" sz="2000" spc="-1" strike="noStrike">
                <a:solidFill>
                  <a:srgbClr val="ffffcc"/>
                </a:solidFill>
                <a:latin typeface="Century Gothic"/>
              </a:rPr>
              <a:t> </a:t>
            </a:r>
            <a:r>
              <a:rPr b="0" lang="sr-Latn-CS" sz="2000" spc="-1" strike="noStrike">
                <a:solidFill>
                  <a:srgbClr val="ffffcc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Century Gothic"/>
              </a:rPr>
              <a:t>Novem</a:t>
            </a:r>
            <a:r>
              <a:rPr b="0" lang="sr-Latn-CS" sz="2000" spc="-1" strike="noStrike">
                <a:solidFill>
                  <a:srgbClr val="ffffcc"/>
                </a:solidFill>
                <a:latin typeface="Century Gothic"/>
              </a:rPr>
              <a:t>b</a:t>
            </a:r>
            <a:r>
              <a:rPr b="0" lang="en-US" sz="2000" spc="-1" strike="noStrike">
                <a:solidFill>
                  <a:srgbClr val="ffffcc"/>
                </a:solidFill>
                <a:latin typeface="Century Gothic"/>
              </a:rPr>
              <a:t>e</a:t>
            </a:r>
            <a:r>
              <a:rPr b="0" lang="sr-Latn-CS" sz="2000" spc="-1" strike="noStrike">
                <a:solidFill>
                  <a:srgbClr val="ffffcc"/>
                </a:solidFill>
                <a:latin typeface="Century Gothic"/>
              </a:rPr>
              <a:t>r 2002</a:t>
            </a:r>
            <a:r>
              <a:rPr b="1" i="1" lang="en-US" sz="28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37296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372960"/>
            <a:ext cx="228600" cy="22860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37296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772400" y="37296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001000" y="372960"/>
            <a:ext cx="228600" cy="22860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29600" y="37296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438280"/>
            <a:ext cx="9144000" cy="1905120"/>
          </a:xfrm>
          <a:prstGeom prst="roundRect">
            <a:avLst>
              <a:gd name="adj" fmla="val 16667"/>
            </a:avLst>
          </a:pr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Century Gothic"/>
              </a:rPr>
              <a:t>REAL ESTATE </a:t>
            </a:r>
            <a:br>
              <a:rPr sz="6000"/>
            </a:br>
            <a:r>
              <a:rPr b="1" lang="en-US" sz="6000" spc="-1" strike="noStrike">
                <a:solidFill>
                  <a:srgbClr val="ffffcc"/>
                </a:solidFill>
                <a:latin typeface="Century Gothic"/>
              </a:rPr>
              <a:t>CADAST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354560" y="0"/>
            <a:ext cx="4789440" cy="6858000"/>
          </a:xfrm>
          <a:custGeom>
            <a:avLst/>
            <a:gdLst/>
            <a:ahLst/>
            <a:rect l="l" t="t" r="r" b="b"/>
            <a:pathLst>
              <a:path w="2704" h="3879">
                <a:moveTo>
                  <a:pt x="883" y="43"/>
                </a:moveTo>
                <a:lnTo>
                  <a:pt x="903" y="55"/>
                </a:lnTo>
                <a:lnTo>
                  <a:pt x="921" y="72"/>
                </a:lnTo>
                <a:lnTo>
                  <a:pt x="940" y="90"/>
                </a:lnTo>
                <a:lnTo>
                  <a:pt x="961" y="115"/>
                </a:lnTo>
                <a:lnTo>
                  <a:pt x="967" y="141"/>
                </a:lnTo>
                <a:lnTo>
                  <a:pt x="972" y="169"/>
                </a:lnTo>
                <a:lnTo>
                  <a:pt x="990" y="193"/>
                </a:lnTo>
                <a:lnTo>
                  <a:pt x="1014" y="213"/>
                </a:lnTo>
                <a:lnTo>
                  <a:pt x="1033" y="202"/>
                </a:lnTo>
                <a:lnTo>
                  <a:pt x="1057" y="196"/>
                </a:lnTo>
                <a:lnTo>
                  <a:pt x="1059" y="225"/>
                </a:lnTo>
                <a:lnTo>
                  <a:pt x="1063" y="252"/>
                </a:lnTo>
                <a:lnTo>
                  <a:pt x="1077" y="268"/>
                </a:lnTo>
                <a:lnTo>
                  <a:pt x="1098" y="258"/>
                </a:lnTo>
                <a:lnTo>
                  <a:pt x="1116" y="252"/>
                </a:lnTo>
                <a:lnTo>
                  <a:pt x="1119" y="273"/>
                </a:lnTo>
                <a:lnTo>
                  <a:pt x="1108" y="288"/>
                </a:lnTo>
                <a:lnTo>
                  <a:pt x="1120" y="304"/>
                </a:lnTo>
                <a:lnTo>
                  <a:pt x="1140" y="297"/>
                </a:lnTo>
                <a:lnTo>
                  <a:pt x="1156" y="307"/>
                </a:lnTo>
                <a:lnTo>
                  <a:pt x="1168" y="321"/>
                </a:lnTo>
                <a:lnTo>
                  <a:pt x="1159" y="343"/>
                </a:lnTo>
                <a:lnTo>
                  <a:pt x="1171" y="354"/>
                </a:lnTo>
                <a:lnTo>
                  <a:pt x="1191" y="361"/>
                </a:lnTo>
                <a:lnTo>
                  <a:pt x="1191" y="396"/>
                </a:lnTo>
                <a:lnTo>
                  <a:pt x="1215" y="403"/>
                </a:lnTo>
                <a:lnTo>
                  <a:pt x="1245" y="397"/>
                </a:lnTo>
                <a:lnTo>
                  <a:pt x="1243" y="372"/>
                </a:lnTo>
                <a:lnTo>
                  <a:pt x="1258" y="367"/>
                </a:lnTo>
                <a:lnTo>
                  <a:pt x="1275" y="375"/>
                </a:lnTo>
                <a:lnTo>
                  <a:pt x="1267" y="397"/>
                </a:lnTo>
                <a:lnTo>
                  <a:pt x="1257" y="412"/>
                </a:lnTo>
                <a:lnTo>
                  <a:pt x="1254" y="435"/>
                </a:lnTo>
                <a:lnTo>
                  <a:pt x="1255" y="477"/>
                </a:lnTo>
                <a:lnTo>
                  <a:pt x="1245" y="502"/>
                </a:lnTo>
                <a:lnTo>
                  <a:pt x="1234" y="522"/>
                </a:lnTo>
                <a:lnTo>
                  <a:pt x="1233" y="547"/>
                </a:lnTo>
                <a:lnTo>
                  <a:pt x="1261" y="550"/>
                </a:lnTo>
                <a:lnTo>
                  <a:pt x="1261" y="571"/>
                </a:lnTo>
                <a:lnTo>
                  <a:pt x="1272" y="589"/>
                </a:lnTo>
                <a:lnTo>
                  <a:pt x="1252" y="607"/>
                </a:lnTo>
                <a:lnTo>
                  <a:pt x="1233" y="622"/>
                </a:lnTo>
                <a:lnTo>
                  <a:pt x="1233" y="643"/>
                </a:lnTo>
                <a:lnTo>
                  <a:pt x="1267" y="642"/>
                </a:lnTo>
                <a:lnTo>
                  <a:pt x="1294" y="654"/>
                </a:lnTo>
                <a:lnTo>
                  <a:pt x="1296" y="676"/>
                </a:lnTo>
                <a:lnTo>
                  <a:pt x="1314" y="696"/>
                </a:lnTo>
                <a:lnTo>
                  <a:pt x="1332" y="708"/>
                </a:lnTo>
                <a:lnTo>
                  <a:pt x="1356" y="739"/>
                </a:lnTo>
                <a:lnTo>
                  <a:pt x="1372" y="757"/>
                </a:lnTo>
                <a:lnTo>
                  <a:pt x="1390" y="775"/>
                </a:lnTo>
                <a:lnTo>
                  <a:pt x="1411" y="771"/>
                </a:lnTo>
                <a:lnTo>
                  <a:pt x="1423" y="759"/>
                </a:lnTo>
                <a:lnTo>
                  <a:pt x="1428" y="781"/>
                </a:lnTo>
                <a:lnTo>
                  <a:pt x="1441" y="799"/>
                </a:lnTo>
                <a:lnTo>
                  <a:pt x="1455" y="793"/>
                </a:lnTo>
                <a:lnTo>
                  <a:pt x="1480" y="787"/>
                </a:lnTo>
                <a:lnTo>
                  <a:pt x="1492" y="772"/>
                </a:lnTo>
                <a:lnTo>
                  <a:pt x="1504" y="801"/>
                </a:lnTo>
                <a:lnTo>
                  <a:pt x="1516" y="822"/>
                </a:lnTo>
                <a:lnTo>
                  <a:pt x="1528" y="844"/>
                </a:lnTo>
                <a:lnTo>
                  <a:pt x="1551" y="856"/>
                </a:lnTo>
                <a:lnTo>
                  <a:pt x="1578" y="849"/>
                </a:lnTo>
                <a:lnTo>
                  <a:pt x="1605" y="861"/>
                </a:lnTo>
                <a:lnTo>
                  <a:pt x="1615" y="870"/>
                </a:lnTo>
                <a:lnTo>
                  <a:pt x="1644" y="859"/>
                </a:lnTo>
                <a:lnTo>
                  <a:pt x="1656" y="877"/>
                </a:lnTo>
                <a:lnTo>
                  <a:pt x="1677" y="883"/>
                </a:lnTo>
                <a:lnTo>
                  <a:pt x="1699" y="898"/>
                </a:lnTo>
                <a:lnTo>
                  <a:pt x="1720" y="915"/>
                </a:lnTo>
                <a:lnTo>
                  <a:pt x="1731" y="933"/>
                </a:lnTo>
                <a:lnTo>
                  <a:pt x="1716" y="942"/>
                </a:lnTo>
                <a:lnTo>
                  <a:pt x="1695" y="949"/>
                </a:lnTo>
                <a:lnTo>
                  <a:pt x="1678" y="961"/>
                </a:lnTo>
                <a:lnTo>
                  <a:pt x="1693" y="982"/>
                </a:lnTo>
                <a:lnTo>
                  <a:pt x="1684" y="1006"/>
                </a:lnTo>
                <a:lnTo>
                  <a:pt x="1653" y="1012"/>
                </a:lnTo>
                <a:lnTo>
                  <a:pt x="1627" y="1012"/>
                </a:lnTo>
                <a:lnTo>
                  <a:pt x="1600" y="1032"/>
                </a:lnTo>
                <a:lnTo>
                  <a:pt x="1594" y="1057"/>
                </a:lnTo>
                <a:lnTo>
                  <a:pt x="1612" y="1077"/>
                </a:lnTo>
                <a:lnTo>
                  <a:pt x="1639" y="1074"/>
                </a:lnTo>
                <a:lnTo>
                  <a:pt x="1660" y="1096"/>
                </a:lnTo>
                <a:lnTo>
                  <a:pt x="1687" y="1101"/>
                </a:lnTo>
                <a:lnTo>
                  <a:pt x="1708" y="1114"/>
                </a:lnTo>
                <a:lnTo>
                  <a:pt x="1734" y="1123"/>
                </a:lnTo>
                <a:lnTo>
                  <a:pt x="1746" y="1140"/>
                </a:lnTo>
                <a:lnTo>
                  <a:pt x="1740" y="1162"/>
                </a:lnTo>
                <a:lnTo>
                  <a:pt x="1717" y="1167"/>
                </a:lnTo>
                <a:lnTo>
                  <a:pt x="1696" y="1174"/>
                </a:lnTo>
                <a:lnTo>
                  <a:pt x="1668" y="1171"/>
                </a:lnTo>
                <a:lnTo>
                  <a:pt x="1636" y="1176"/>
                </a:lnTo>
                <a:lnTo>
                  <a:pt x="1611" y="1183"/>
                </a:lnTo>
                <a:lnTo>
                  <a:pt x="1609" y="1209"/>
                </a:lnTo>
                <a:lnTo>
                  <a:pt x="1617" y="1236"/>
                </a:lnTo>
                <a:lnTo>
                  <a:pt x="1614" y="1260"/>
                </a:lnTo>
                <a:lnTo>
                  <a:pt x="1620" y="1282"/>
                </a:lnTo>
                <a:lnTo>
                  <a:pt x="1641" y="1281"/>
                </a:lnTo>
                <a:lnTo>
                  <a:pt x="1657" y="1266"/>
                </a:lnTo>
                <a:lnTo>
                  <a:pt x="1678" y="1266"/>
                </a:lnTo>
                <a:lnTo>
                  <a:pt x="1707" y="1264"/>
                </a:lnTo>
                <a:lnTo>
                  <a:pt x="1732" y="1266"/>
                </a:lnTo>
                <a:lnTo>
                  <a:pt x="1756" y="1282"/>
                </a:lnTo>
                <a:lnTo>
                  <a:pt x="1770" y="1305"/>
                </a:lnTo>
                <a:lnTo>
                  <a:pt x="1776" y="1323"/>
                </a:lnTo>
                <a:lnTo>
                  <a:pt x="1768" y="1342"/>
                </a:lnTo>
                <a:lnTo>
                  <a:pt x="1783" y="1371"/>
                </a:lnTo>
                <a:lnTo>
                  <a:pt x="1816" y="1365"/>
                </a:lnTo>
                <a:lnTo>
                  <a:pt x="1842" y="1366"/>
                </a:lnTo>
                <a:lnTo>
                  <a:pt x="1875" y="1366"/>
                </a:lnTo>
                <a:lnTo>
                  <a:pt x="1902" y="1368"/>
                </a:lnTo>
                <a:lnTo>
                  <a:pt x="1930" y="1372"/>
                </a:lnTo>
                <a:lnTo>
                  <a:pt x="1953" y="1377"/>
                </a:lnTo>
                <a:lnTo>
                  <a:pt x="1987" y="1383"/>
                </a:lnTo>
                <a:lnTo>
                  <a:pt x="2008" y="1381"/>
                </a:lnTo>
                <a:lnTo>
                  <a:pt x="2023" y="1395"/>
                </a:lnTo>
                <a:lnTo>
                  <a:pt x="2035" y="1413"/>
                </a:lnTo>
                <a:lnTo>
                  <a:pt x="2041" y="1429"/>
                </a:lnTo>
                <a:lnTo>
                  <a:pt x="2041" y="1450"/>
                </a:lnTo>
                <a:lnTo>
                  <a:pt x="2047" y="1468"/>
                </a:lnTo>
                <a:lnTo>
                  <a:pt x="2064" y="1483"/>
                </a:lnTo>
                <a:lnTo>
                  <a:pt x="2073" y="1506"/>
                </a:lnTo>
                <a:lnTo>
                  <a:pt x="2080" y="1522"/>
                </a:lnTo>
                <a:lnTo>
                  <a:pt x="2095" y="1533"/>
                </a:lnTo>
                <a:lnTo>
                  <a:pt x="2116" y="1542"/>
                </a:lnTo>
                <a:lnTo>
                  <a:pt x="2139" y="1531"/>
                </a:lnTo>
                <a:lnTo>
                  <a:pt x="2149" y="1509"/>
                </a:lnTo>
                <a:lnTo>
                  <a:pt x="2172" y="1480"/>
                </a:lnTo>
                <a:lnTo>
                  <a:pt x="2181" y="1449"/>
                </a:lnTo>
                <a:lnTo>
                  <a:pt x="2193" y="1417"/>
                </a:lnTo>
                <a:lnTo>
                  <a:pt x="2202" y="1395"/>
                </a:lnTo>
                <a:lnTo>
                  <a:pt x="2215" y="1378"/>
                </a:lnTo>
                <a:lnTo>
                  <a:pt x="2223" y="1360"/>
                </a:lnTo>
                <a:lnTo>
                  <a:pt x="2244" y="1353"/>
                </a:lnTo>
                <a:lnTo>
                  <a:pt x="2268" y="1350"/>
                </a:lnTo>
                <a:lnTo>
                  <a:pt x="2287" y="1332"/>
                </a:lnTo>
                <a:lnTo>
                  <a:pt x="2304" y="1317"/>
                </a:lnTo>
                <a:lnTo>
                  <a:pt x="2323" y="1314"/>
                </a:lnTo>
                <a:lnTo>
                  <a:pt x="2346" y="1326"/>
                </a:lnTo>
                <a:lnTo>
                  <a:pt x="2359" y="1342"/>
                </a:lnTo>
                <a:lnTo>
                  <a:pt x="2370" y="1359"/>
                </a:lnTo>
                <a:lnTo>
                  <a:pt x="2394" y="1372"/>
                </a:lnTo>
                <a:lnTo>
                  <a:pt x="2416" y="1395"/>
                </a:lnTo>
                <a:lnTo>
                  <a:pt x="2436" y="1404"/>
                </a:lnTo>
                <a:lnTo>
                  <a:pt x="2455" y="1398"/>
                </a:lnTo>
                <a:lnTo>
                  <a:pt x="2482" y="1407"/>
                </a:lnTo>
                <a:lnTo>
                  <a:pt x="2497" y="1416"/>
                </a:lnTo>
                <a:lnTo>
                  <a:pt x="2514" y="1429"/>
                </a:lnTo>
                <a:lnTo>
                  <a:pt x="2524" y="1453"/>
                </a:lnTo>
                <a:lnTo>
                  <a:pt x="2521" y="1476"/>
                </a:lnTo>
                <a:lnTo>
                  <a:pt x="2505" y="1489"/>
                </a:lnTo>
                <a:lnTo>
                  <a:pt x="2473" y="1488"/>
                </a:lnTo>
                <a:lnTo>
                  <a:pt x="2452" y="1473"/>
                </a:lnTo>
                <a:lnTo>
                  <a:pt x="2431" y="1461"/>
                </a:lnTo>
                <a:lnTo>
                  <a:pt x="2407" y="1462"/>
                </a:lnTo>
                <a:lnTo>
                  <a:pt x="2391" y="1474"/>
                </a:lnTo>
                <a:lnTo>
                  <a:pt x="2395" y="1497"/>
                </a:lnTo>
                <a:lnTo>
                  <a:pt x="2386" y="1519"/>
                </a:lnTo>
                <a:lnTo>
                  <a:pt x="2367" y="1530"/>
                </a:lnTo>
                <a:lnTo>
                  <a:pt x="2343" y="1525"/>
                </a:lnTo>
                <a:lnTo>
                  <a:pt x="2322" y="1536"/>
                </a:lnTo>
                <a:lnTo>
                  <a:pt x="2338" y="1557"/>
                </a:lnTo>
                <a:lnTo>
                  <a:pt x="2355" y="1570"/>
                </a:lnTo>
                <a:lnTo>
                  <a:pt x="2352" y="1599"/>
                </a:lnTo>
                <a:lnTo>
                  <a:pt x="2367" y="1617"/>
                </a:lnTo>
                <a:lnTo>
                  <a:pt x="2367" y="1644"/>
                </a:lnTo>
                <a:lnTo>
                  <a:pt x="2386" y="1654"/>
                </a:lnTo>
                <a:lnTo>
                  <a:pt x="2400" y="1677"/>
                </a:lnTo>
                <a:lnTo>
                  <a:pt x="2419" y="1686"/>
                </a:lnTo>
                <a:lnTo>
                  <a:pt x="2445" y="1689"/>
                </a:lnTo>
                <a:lnTo>
                  <a:pt x="2470" y="1693"/>
                </a:lnTo>
                <a:lnTo>
                  <a:pt x="2479" y="1714"/>
                </a:lnTo>
                <a:lnTo>
                  <a:pt x="2473" y="1749"/>
                </a:lnTo>
                <a:lnTo>
                  <a:pt x="2454" y="1756"/>
                </a:lnTo>
                <a:lnTo>
                  <a:pt x="2448" y="1771"/>
                </a:lnTo>
                <a:lnTo>
                  <a:pt x="2460" y="1779"/>
                </a:lnTo>
                <a:lnTo>
                  <a:pt x="2437" y="1792"/>
                </a:lnTo>
                <a:lnTo>
                  <a:pt x="2431" y="1818"/>
                </a:lnTo>
                <a:lnTo>
                  <a:pt x="2436" y="1837"/>
                </a:lnTo>
                <a:lnTo>
                  <a:pt x="2437" y="1860"/>
                </a:lnTo>
                <a:lnTo>
                  <a:pt x="2440" y="1882"/>
                </a:lnTo>
                <a:lnTo>
                  <a:pt x="2416" y="1893"/>
                </a:lnTo>
                <a:lnTo>
                  <a:pt x="2391" y="1894"/>
                </a:lnTo>
                <a:lnTo>
                  <a:pt x="2373" y="1891"/>
                </a:lnTo>
                <a:lnTo>
                  <a:pt x="2352" y="1890"/>
                </a:lnTo>
                <a:lnTo>
                  <a:pt x="2343" y="1908"/>
                </a:lnTo>
                <a:lnTo>
                  <a:pt x="2326" y="1927"/>
                </a:lnTo>
                <a:lnTo>
                  <a:pt x="2307" y="1933"/>
                </a:lnTo>
                <a:lnTo>
                  <a:pt x="2289" y="1947"/>
                </a:lnTo>
                <a:lnTo>
                  <a:pt x="2269" y="1951"/>
                </a:lnTo>
                <a:lnTo>
                  <a:pt x="2260" y="1971"/>
                </a:lnTo>
                <a:lnTo>
                  <a:pt x="2262" y="1993"/>
                </a:lnTo>
                <a:lnTo>
                  <a:pt x="2256" y="2008"/>
                </a:lnTo>
                <a:lnTo>
                  <a:pt x="2259" y="2029"/>
                </a:lnTo>
                <a:lnTo>
                  <a:pt x="2268" y="2044"/>
                </a:lnTo>
                <a:lnTo>
                  <a:pt x="2283" y="2059"/>
                </a:lnTo>
                <a:lnTo>
                  <a:pt x="2274" y="2083"/>
                </a:lnTo>
                <a:lnTo>
                  <a:pt x="2263" y="2101"/>
                </a:lnTo>
                <a:lnTo>
                  <a:pt x="2274" y="2119"/>
                </a:lnTo>
                <a:lnTo>
                  <a:pt x="2283" y="2130"/>
                </a:lnTo>
                <a:lnTo>
                  <a:pt x="2298" y="2146"/>
                </a:lnTo>
                <a:lnTo>
                  <a:pt x="2295" y="2167"/>
                </a:lnTo>
                <a:lnTo>
                  <a:pt x="2296" y="2193"/>
                </a:lnTo>
                <a:lnTo>
                  <a:pt x="2310" y="2211"/>
                </a:lnTo>
                <a:lnTo>
                  <a:pt x="2326" y="2223"/>
                </a:lnTo>
                <a:lnTo>
                  <a:pt x="2347" y="2236"/>
                </a:lnTo>
                <a:lnTo>
                  <a:pt x="2361" y="2253"/>
                </a:lnTo>
                <a:lnTo>
                  <a:pt x="2355" y="2278"/>
                </a:lnTo>
                <a:lnTo>
                  <a:pt x="2358" y="2302"/>
                </a:lnTo>
                <a:lnTo>
                  <a:pt x="2356" y="2326"/>
                </a:lnTo>
                <a:lnTo>
                  <a:pt x="2371" y="2340"/>
                </a:lnTo>
                <a:lnTo>
                  <a:pt x="2368" y="2362"/>
                </a:lnTo>
                <a:lnTo>
                  <a:pt x="2380" y="2394"/>
                </a:lnTo>
                <a:lnTo>
                  <a:pt x="2401" y="2412"/>
                </a:lnTo>
                <a:lnTo>
                  <a:pt x="2422" y="2415"/>
                </a:lnTo>
                <a:lnTo>
                  <a:pt x="2428" y="2434"/>
                </a:lnTo>
                <a:lnTo>
                  <a:pt x="2440" y="2445"/>
                </a:lnTo>
                <a:lnTo>
                  <a:pt x="2455" y="2437"/>
                </a:lnTo>
                <a:lnTo>
                  <a:pt x="2473" y="2436"/>
                </a:lnTo>
                <a:lnTo>
                  <a:pt x="2476" y="2457"/>
                </a:lnTo>
                <a:lnTo>
                  <a:pt x="2487" y="2473"/>
                </a:lnTo>
                <a:lnTo>
                  <a:pt x="2512" y="2472"/>
                </a:lnTo>
                <a:lnTo>
                  <a:pt x="2532" y="2479"/>
                </a:lnTo>
                <a:lnTo>
                  <a:pt x="2542" y="2502"/>
                </a:lnTo>
                <a:lnTo>
                  <a:pt x="2571" y="2517"/>
                </a:lnTo>
                <a:lnTo>
                  <a:pt x="2590" y="2527"/>
                </a:lnTo>
                <a:lnTo>
                  <a:pt x="2590" y="2550"/>
                </a:lnTo>
                <a:lnTo>
                  <a:pt x="2592" y="2574"/>
                </a:lnTo>
                <a:lnTo>
                  <a:pt x="2610" y="2575"/>
                </a:lnTo>
                <a:lnTo>
                  <a:pt x="2611" y="2596"/>
                </a:lnTo>
                <a:lnTo>
                  <a:pt x="2628" y="2613"/>
                </a:lnTo>
                <a:lnTo>
                  <a:pt x="2644" y="2629"/>
                </a:lnTo>
                <a:lnTo>
                  <a:pt x="2670" y="2631"/>
                </a:lnTo>
                <a:lnTo>
                  <a:pt x="2695" y="2635"/>
                </a:lnTo>
                <a:lnTo>
                  <a:pt x="2704" y="2646"/>
                </a:lnTo>
                <a:lnTo>
                  <a:pt x="2700" y="2671"/>
                </a:lnTo>
                <a:lnTo>
                  <a:pt x="2704" y="2698"/>
                </a:lnTo>
                <a:lnTo>
                  <a:pt x="2689" y="2718"/>
                </a:lnTo>
                <a:lnTo>
                  <a:pt x="2664" y="2733"/>
                </a:lnTo>
                <a:lnTo>
                  <a:pt x="2638" y="2757"/>
                </a:lnTo>
                <a:lnTo>
                  <a:pt x="2631" y="2784"/>
                </a:lnTo>
                <a:lnTo>
                  <a:pt x="2617" y="2803"/>
                </a:lnTo>
                <a:lnTo>
                  <a:pt x="2586" y="2820"/>
                </a:lnTo>
                <a:lnTo>
                  <a:pt x="2563" y="2832"/>
                </a:lnTo>
                <a:lnTo>
                  <a:pt x="2557" y="2862"/>
                </a:lnTo>
                <a:lnTo>
                  <a:pt x="2559" y="2892"/>
                </a:lnTo>
                <a:lnTo>
                  <a:pt x="2550" y="2913"/>
                </a:lnTo>
                <a:lnTo>
                  <a:pt x="2533" y="2920"/>
                </a:lnTo>
                <a:lnTo>
                  <a:pt x="2515" y="2923"/>
                </a:lnTo>
                <a:lnTo>
                  <a:pt x="2497" y="2935"/>
                </a:lnTo>
                <a:lnTo>
                  <a:pt x="2479" y="2922"/>
                </a:lnTo>
                <a:lnTo>
                  <a:pt x="2460" y="2917"/>
                </a:lnTo>
                <a:lnTo>
                  <a:pt x="2442" y="2914"/>
                </a:lnTo>
                <a:lnTo>
                  <a:pt x="2424" y="2916"/>
                </a:lnTo>
                <a:lnTo>
                  <a:pt x="2422" y="2932"/>
                </a:lnTo>
                <a:lnTo>
                  <a:pt x="2407" y="2932"/>
                </a:lnTo>
                <a:lnTo>
                  <a:pt x="2392" y="2928"/>
                </a:lnTo>
                <a:lnTo>
                  <a:pt x="2386" y="2946"/>
                </a:lnTo>
                <a:lnTo>
                  <a:pt x="2373" y="2961"/>
                </a:lnTo>
                <a:lnTo>
                  <a:pt x="2352" y="2964"/>
                </a:lnTo>
                <a:lnTo>
                  <a:pt x="2335" y="2976"/>
                </a:lnTo>
                <a:lnTo>
                  <a:pt x="2338" y="2997"/>
                </a:lnTo>
                <a:lnTo>
                  <a:pt x="2355" y="3009"/>
                </a:lnTo>
                <a:lnTo>
                  <a:pt x="2364" y="3028"/>
                </a:lnTo>
                <a:lnTo>
                  <a:pt x="2379" y="3040"/>
                </a:lnTo>
                <a:lnTo>
                  <a:pt x="2376" y="3058"/>
                </a:lnTo>
                <a:lnTo>
                  <a:pt x="2367" y="3067"/>
                </a:lnTo>
                <a:lnTo>
                  <a:pt x="2359" y="3084"/>
                </a:lnTo>
                <a:lnTo>
                  <a:pt x="2362" y="3106"/>
                </a:lnTo>
                <a:lnTo>
                  <a:pt x="2347" y="3120"/>
                </a:lnTo>
                <a:lnTo>
                  <a:pt x="2359" y="3138"/>
                </a:lnTo>
                <a:lnTo>
                  <a:pt x="2344" y="3153"/>
                </a:lnTo>
                <a:lnTo>
                  <a:pt x="2347" y="3172"/>
                </a:lnTo>
                <a:lnTo>
                  <a:pt x="2337" y="3196"/>
                </a:lnTo>
                <a:lnTo>
                  <a:pt x="2361" y="3193"/>
                </a:lnTo>
                <a:lnTo>
                  <a:pt x="2376" y="3207"/>
                </a:lnTo>
                <a:lnTo>
                  <a:pt x="2376" y="3232"/>
                </a:lnTo>
                <a:lnTo>
                  <a:pt x="2394" y="3228"/>
                </a:lnTo>
                <a:lnTo>
                  <a:pt x="2412" y="3238"/>
                </a:lnTo>
                <a:lnTo>
                  <a:pt x="2421" y="3258"/>
                </a:lnTo>
                <a:lnTo>
                  <a:pt x="2416" y="3282"/>
                </a:lnTo>
                <a:lnTo>
                  <a:pt x="2406" y="3303"/>
                </a:lnTo>
                <a:lnTo>
                  <a:pt x="2410" y="3322"/>
                </a:lnTo>
                <a:lnTo>
                  <a:pt x="2397" y="3333"/>
                </a:lnTo>
                <a:lnTo>
                  <a:pt x="2382" y="3351"/>
                </a:lnTo>
                <a:lnTo>
                  <a:pt x="2379" y="3363"/>
                </a:lnTo>
                <a:lnTo>
                  <a:pt x="2361" y="3366"/>
                </a:lnTo>
                <a:lnTo>
                  <a:pt x="2364" y="3382"/>
                </a:lnTo>
                <a:lnTo>
                  <a:pt x="2353" y="3396"/>
                </a:lnTo>
                <a:lnTo>
                  <a:pt x="2350" y="3412"/>
                </a:lnTo>
                <a:lnTo>
                  <a:pt x="2326" y="3420"/>
                </a:lnTo>
                <a:lnTo>
                  <a:pt x="2299" y="3423"/>
                </a:lnTo>
                <a:lnTo>
                  <a:pt x="2269" y="3417"/>
                </a:lnTo>
                <a:lnTo>
                  <a:pt x="2251" y="3403"/>
                </a:lnTo>
                <a:lnTo>
                  <a:pt x="2254" y="3385"/>
                </a:lnTo>
                <a:lnTo>
                  <a:pt x="2245" y="3366"/>
                </a:lnTo>
                <a:lnTo>
                  <a:pt x="2224" y="3375"/>
                </a:lnTo>
                <a:lnTo>
                  <a:pt x="2208" y="3394"/>
                </a:lnTo>
                <a:lnTo>
                  <a:pt x="2188" y="3400"/>
                </a:lnTo>
                <a:lnTo>
                  <a:pt x="2164" y="3400"/>
                </a:lnTo>
                <a:lnTo>
                  <a:pt x="2157" y="3418"/>
                </a:lnTo>
                <a:lnTo>
                  <a:pt x="2142" y="3430"/>
                </a:lnTo>
                <a:lnTo>
                  <a:pt x="2121" y="3430"/>
                </a:lnTo>
                <a:lnTo>
                  <a:pt x="2098" y="3435"/>
                </a:lnTo>
                <a:lnTo>
                  <a:pt x="2076" y="3438"/>
                </a:lnTo>
                <a:lnTo>
                  <a:pt x="2056" y="3429"/>
                </a:lnTo>
                <a:lnTo>
                  <a:pt x="2031" y="3408"/>
                </a:lnTo>
                <a:lnTo>
                  <a:pt x="2010" y="3396"/>
                </a:lnTo>
                <a:lnTo>
                  <a:pt x="1992" y="3414"/>
                </a:lnTo>
                <a:lnTo>
                  <a:pt x="1990" y="3438"/>
                </a:lnTo>
                <a:lnTo>
                  <a:pt x="1962" y="3432"/>
                </a:lnTo>
                <a:lnTo>
                  <a:pt x="1933" y="3414"/>
                </a:lnTo>
                <a:lnTo>
                  <a:pt x="1924" y="3438"/>
                </a:lnTo>
                <a:lnTo>
                  <a:pt x="1909" y="3459"/>
                </a:lnTo>
                <a:lnTo>
                  <a:pt x="1884" y="3468"/>
                </a:lnTo>
                <a:lnTo>
                  <a:pt x="1855" y="3472"/>
                </a:lnTo>
                <a:lnTo>
                  <a:pt x="1846" y="3493"/>
                </a:lnTo>
                <a:lnTo>
                  <a:pt x="1825" y="3480"/>
                </a:lnTo>
                <a:lnTo>
                  <a:pt x="1803" y="3475"/>
                </a:lnTo>
                <a:lnTo>
                  <a:pt x="1777" y="3474"/>
                </a:lnTo>
                <a:lnTo>
                  <a:pt x="1759" y="3471"/>
                </a:lnTo>
                <a:lnTo>
                  <a:pt x="1741" y="3478"/>
                </a:lnTo>
                <a:lnTo>
                  <a:pt x="1726" y="3490"/>
                </a:lnTo>
                <a:lnTo>
                  <a:pt x="1711" y="3480"/>
                </a:lnTo>
                <a:lnTo>
                  <a:pt x="1714" y="3462"/>
                </a:lnTo>
                <a:lnTo>
                  <a:pt x="1693" y="3456"/>
                </a:lnTo>
                <a:lnTo>
                  <a:pt x="1675" y="3457"/>
                </a:lnTo>
                <a:lnTo>
                  <a:pt x="1663" y="3471"/>
                </a:lnTo>
                <a:lnTo>
                  <a:pt x="1663" y="3486"/>
                </a:lnTo>
                <a:lnTo>
                  <a:pt x="1662" y="3505"/>
                </a:lnTo>
                <a:lnTo>
                  <a:pt x="1653" y="3489"/>
                </a:lnTo>
                <a:lnTo>
                  <a:pt x="1632" y="3484"/>
                </a:lnTo>
                <a:lnTo>
                  <a:pt x="1618" y="3501"/>
                </a:lnTo>
                <a:lnTo>
                  <a:pt x="1596" y="3523"/>
                </a:lnTo>
                <a:lnTo>
                  <a:pt x="1584" y="3549"/>
                </a:lnTo>
                <a:lnTo>
                  <a:pt x="1581" y="3571"/>
                </a:lnTo>
                <a:lnTo>
                  <a:pt x="1578" y="3589"/>
                </a:lnTo>
                <a:lnTo>
                  <a:pt x="1591" y="3606"/>
                </a:lnTo>
                <a:lnTo>
                  <a:pt x="1570" y="3613"/>
                </a:lnTo>
                <a:lnTo>
                  <a:pt x="1551" y="3624"/>
                </a:lnTo>
                <a:lnTo>
                  <a:pt x="1525" y="3625"/>
                </a:lnTo>
                <a:lnTo>
                  <a:pt x="1513" y="3601"/>
                </a:lnTo>
                <a:lnTo>
                  <a:pt x="1512" y="3582"/>
                </a:lnTo>
                <a:lnTo>
                  <a:pt x="1501" y="3564"/>
                </a:lnTo>
                <a:lnTo>
                  <a:pt x="1486" y="3546"/>
                </a:lnTo>
                <a:lnTo>
                  <a:pt x="1468" y="3528"/>
                </a:lnTo>
                <a:lnTo>
                  <a:pt x="1441" y="3520"/>
                </a:lnTo>
                <a:lnTo>
                  <a:pt x="1423" y="3535"/>
                </a:lnTo>
                <a:lnTo>
                  <a:pt x="1398" y="3550"/>
                </a:lnTo>
                <a:lnTo>
                  <a:pt x="1386" y="3571"/>
                </a:lnTo>
                <a:lnTo>
                  <a:pt x="1363" y="3570"/>
                </a:lnTo>
                <a:lnTo>
                  <a:pt x="1344" y="3589"/>
                </a:lnTo>
                <a:lnTo>
                  <a:pt x="1318" y="3589"/>
                </a:lnTo>
                <a:lnTo>
                  <a:pt x="1302" y="3601"/>
                </a:lnTo>
                <a:lnTo>
                  <a:pt x="1288" y="3621"/>
                </a:lnTo>
                <a:lnTo>
                  <a:pt x="1267" y="3613"/>
                </a:lnTo>
                <a:lnTo>
                  <a:pt x="1255" y="3627"/>
                </a:lnTo>
                <a:lnTo>
                  <a:pt x="1228" y="3622"/>
                </a:lnTo>
                <a:lnTo>
                  <a:pt x="1222" y="3646"/>
                </a:lnTo>
                <a:lnTo>
                  <a:pt x="1204" y="3651"/>
                </a:lnTo>
                <a:lnTo>
                  <a:pt x="1210" y="3667"/>
                </a:lnTo>
                <a:lnTo>
                  <a:pt x="1200" y="3679"/>
                </a:lnTo>
                <a:lnTo>
                  <a:pt x="1197" y="3705"/>
                </a:lnTo>
                <a:lnTo>
                  <a:pt x="1198" y="3724"/>
                </a:lnTo>
                <a:lnTo>
                  <a:pt x="1210" y="3739"/>
                </a:lnTo>
                <a:lnTo>
                  <a:pt x="1200" y="3754"/>
                </a:lnTo>
                <a:lnTo>
                  <a:pt x="1216" y="3771"/>
                </a:lnTo>
                <a:lnTo>
                  <a:pt x="1206" y="3775"/>
                </a:lnTo>
                <a:lnTo>
                  <a:pt x="1200" y="3795"/>
                </a:lnTo>
                <a:lnTo>
                  <a:pt x="1212" y="3808"/>
                </a:lnTo>
                <a:lnTo>
                  <a:pt x="1200" y="3820"/>
                </a:lnTo>
                <a:lnTo>
                  <a:pt x="1180" y="3828"/>
                </a:lnTo>
                <a:lnTo>
                  <a:pt x="1165" y="3838"/>
                </a:lnTo>
                <a:lnTo>
                  <a:pt x="1150" y="3856"/>
                </a:lnTo>
                <a:lnTo>
                  <a:pt x="1128" y="3870"/>
                </a:lnTo>
                <a:lnTo>
                  <a:pt x="1110" y="3879"/>
                </a:lnTo>
                <a:lnTo>
                  <a:pt x="1084" y="3877"/>
                </a:lnTo>
                <a:lnTo>
                  <a:pt x="1077" y="3856"/>
                </a:lnTo>
                <a:lnTo>
                  <a:pt x="1081" y="3841"/>
                </a:lnTo>
                <a:lnTo>
                  <a:pt x="1074" y="3826"/>
                </a:lnTo>
                <a:lnTo>
                  <a:pt x="1083" y="3813"/>
                </a:lnTo>
                <a:lnTo>
                  <a:pt x="1101" y="3810"/>
                </a:lnTo>
                <a:lnTo>
                  <a:pt x="1089" y="3792"/>
                </a:lnTo>
                <a:lnTo>
                  <a:pt x="1095" y="3766"/>
                </a:lnTo>
                <a:lnTo>
                  <a:pt x="1111" y="3759"/>
                </a:lnTo>
                <a:lnTo>
                  <a:pt x="1120" y="3744"/>
                </a:lnTo>
                <a:lnTo>
                  <a:pt x="1116" y="3718"/>
                </a:lnTo>
                <a:lnTo>
                  <a:pt x="1104" y="3702"/>
                </a:lnTo>
                <a:lnTo>
                  <a:pt x="1105" y="3673"/>
                </a:lnTo>
                <a:lnTo>
                  <a:pt x="1090" y="3642"/>
                </a:lnTo>
                <a:lnTo>
                  <a:pt x="1077" y="3624"/>
                </a:lnTo>
                <a:lnTo>
                  <a:pt x="1080" y="3604"/>
                </a:lnTo>
                <a:lnTo>
                  <a:pt x="1078" y="3583"/>
                </a:lnTo>
                <a:lnTo>
                  <a:pt x="1065" y="3561"/>
                </a:lnTo>
                <a:lnTo>
                  <a:pt x="1050" y="3531"/>
                </a:lnTo>
                <a:lnTo>
                  <a:pt x="1050" y="3502"/>
                </a:lnTo>
                <a:lnTo>
                  <a:pt x="1038" y="3493"/>
                </a:lnTo>
                <a:lnTo>
                  <a:pt x="1033" y="3477"/>
                </a:lnTo>
                <a:lnTo>
                  <a:pt x="1018" y="3460"/>
                </a:lnTo>
                <a:lnTo>
                  <a:pt x="999" y="3448"/>
                </a:lnTo>
                <a:lnTo>
                  <a:pt x="975" y="3447"/>
                </a:lnTo>
                <a:lnTo>
                  <a:pt x="960" y="3426"/>
                </a:lnTo>
                <a:lnTo>
                  <a:pt x="934" y="3423"/>
                </a:lnTo>
                <a:lnTo>
                  <a:pt x="925" y="3403"/>
                </a:lnTo>
                <a:lnTo>
                  <a:pt x="901" y="3414"/>
                </a:lnTo>
                <a:lnTo>
                  <a:pt x="885" y="3414"/>
                </a:lnTo>
                <a:lnTo>
                  <a:pt x="865" y="3412"/>
                </a:lnTo>
                <a:lnTo>
                  <a:pt x="862" y="3391"/>
                </a:lnTo>
                <a:lnTo>
                  <a:pt x="864" y="3373"/>
                </a:lnTo>
                <a:lnTo>
                  <a:pt x="858" y="3352"/>
                </a:lnTo>
                <a:lnTo>
                  <a:pt x="844" y="3337"/>
                </a:lnTo>
                <a:lnTo>
                  <a:pt x="853" y="3327"/>
                </a:lnTo>
                <a:lnTo>
                  <a:pt x="835" y="3295"/>
                </a:lnTo>
                <a:lnTo>
                  <a:pt x="834" y="3268"/>
                </a:lnTo>
                <a:lnTo>
                  <a:pt x="814" y="3258"/>
                </a:lnTo>
                <a:lnTo>
                  <a:pt x="817" y="3235"/>
                </a:lnTo>
                <a:lnTo>
                  <a:pt x="790" y="3226"/>
                </a:lnTo>
                <a:lnTo>
                  <a:pt x="769" y="3232"/>
                </a:lnTo>
                <a:lnTo>
                  <a:pt x="769" y="3214"/>
                </a:lnTo>
                <a:lnTo>
                  <a:pt x="753" y="3193"/>
                </a:lnTo>
                <a:lnTo>
                  <a:pt x="762" y="3171"/>
                </a:lnTo>
                <a:lnTo>
                  <a:pt x="753" y="3154"/>
                </a:lnTo>
                <a:lnTo>
                  <a:pt x="762" y="3135"/>
                </a:lnTo>
                <a:lnTo>
                  <a:pt x="778" y="3112"/>
                </a:lnTo>
                <a:lnTo>
                  <a:pt x="766" y="3097"/>
                </a:lnTo>
                <a:lnTo>
                  <a:pt x="748" y="3084"/>
                </a:lnTo>
                <a:lnTo>
                  <a:pt x="736" y="3075"/>
                </a:lnTo>
                <a:lnTo>
                  <a:pt x="718" y="3043"/>
                </a:lnTo>
                <a:lnTo>
                  <a:pt x="724" y="3025"/>
                </a:lnTo>
                <a:lnTo>
                  <a:pt x="744" y="3007"/>
                </a:lnTo>
                <a:lnTo>
                  <a:pt x="765" y="3018"/>
                </a:lnTo>
                <a:lnTo>
                  <a:pt x="786" y="3030"/>
                </a:lnTo>
                <a:lnTo>
                  <a:pt x="811" y="3030"/>
                </a:lnTo>
                <a:lnTo>
                  <a:pt x="826" y="3042"/>
                </a:lnTo>
                <a:lnTo>
                  <a:pt x="855" y="3030"/>
                </a:lnTo>
                <a:lnTo>
                  <a:pt x="880" y="3022"/>
                </a:lnTo>
                <a:lnTo>
                  <a:pt x="871" y="2989"/>
                </a:lnTo>
                <a:lnTo>
                  <a:pt x="891" y="2976"/>
                </a:lnTo>
                <a:lnTo>
                  <a:pt x="901" y="2962"/>
                </a:lnTo>
                <a:lnTo>
                  <a:pt x="930" y="2962"/>
                </a:lnTo>
                <a:lnTo>
                  <a:pt x="945" y="2959"/>
                </a:lnTo>
                <a:lnTo>
                  <a:pt x="934" y="2938"/>
                </a:lnTo>
                <a:lnTo>
                  <a:pt x="940" y="2916"/>
                </a:lnTo>
                <a:lnTo>
                  <a:pt x="924" y="2896"/>
                </a:lnTo>
                <a:lnTo>
                  <a:pt x="901" y="2887"/>
                </a:lnTo>
                <a:lnTo>
                  <a:pt x="877" y="2881"/>
                </a:lnTo>
                <a:lnTo>
                  <a:pt x="852" y="2866"/>
                </a:lnTo>
                <a:lnTo>
                  <a:pt x="826" y="2850"/>
                </a:lnTo>
                <a:lnTo>
                  <a:pt x="802" y="2823"/>
                </a:lnTo>
                <a:lnTo>
                  <a:pt x="781" y="2844"/>
                </a:lnTo>
                <a:lnTo>
                  <a:pt x="756" y="2815"/>
                </a:lnTo>
                <a:lnTo>
                  <a:pt x="739" y="2790"/>
                </a:lnTo>
                <a:lnTo>
                  <a:pt x="717" y="2782"/>
                </a:lnTo>
                <a:lnTo>
                  <a:pt x="694" y="2760"/>
                </a:lnTo>
                <a:lnTo>
                  <a:pt x="696" y="2740"/>
                </a:lnTo>
                <a:lnTo>
                  <a:pt x="681" y="2710"/>
                </a:lnTo>
                <a:lnTo>
                  <a:pt x="663" y="2724"/>
                </a:lnTo>
                <a:lnTo>
                  <a:pt x="646" y="2742"/>
                </a:lnTo>
                <a:lnTo>
                  <a:pt x="637" y="2731"/>
                </a:lnTo>
                <a:lnTo>
                  <a:pt x="625" y="2710"/>
                </a:lnTo>
                <a:lnTo>
                  <a:pt x="610" y="2722"/>
                </a:lnTo>
                <a:lnTo>
                  <a:pt x="592" y="2724"/>
                </a:lnTo>
                <a:lnTo>
                  <a:pt x="586" y="2698"/>
                </a:lnTo>
                <a:lnTo>
                  <a:pt x="558" y="2697"/>
                </a:lnTo>
                <a:lnTo>
                  <a:pt x="556" y="2671"/>
                </a:lnTo>
                <a:lnTo>
                  <a:pt x="531" y="2671"/>
                </a:lnTo>
                <a:lnTo>
                  <a:pt x="513" y="2655"/>
                </a:lnTo>
                <a:lnTo>
                  <a:pt x="490" y="2652"/>
                </a:lnTo>
                <a:lnTo>
                  <a:pt x="477" y="2646"/>
                </a:lnTo>
                <a:lnTo>
                  <a:pt x="457" y="2632"/>
                </a:lnTo>
                <a:lnTo>
                  <a:pt x="454" y="2604"/>
                </a:lnTo>
                <a:lnTo>
                  <a:pt x="433" y="2599"/>
                </a:lnTo>
                <a:lnTo>
                  <a:pt x="405" y="2596"/>
                </a:lnTo>
                <a:lnTo>
                  <a:pt x="396" y="2577"/>
                </a:lnTo>
                <a:lnTo>
                  <a:pt x="399" y="2553"/>
                </a:lnTo>
                <a:lnTo>
                  <a:pt x="393" y="2526"/>
                </a:lnTo>
                <a:lnTo>
                  <a:pt x="370" y="2524"/>
                </a:lnTo>
                <a:lnTo>
                  <a:pt x="351" y="2509"/>
                </a:lnTo>
                <a:lnTo>
                  <a:pt x="345" y="2487"/>
                </a:lnTo>
                <a:lnTo>
                  <a:pt x="345" y="2466"/>
                </a:lnTo>
                <a:lnTo>
                  <a:pt x="330" y="2458"/>
                </a:lnTo>
                <a:lnTo>
                  <a:pt x="304" y="2452"/>
                </a:lnTo>
                <a:lnTo>
                  <a:pt x="286" y="2436"/>
                </a:lnTo>
                <a:lnTo>
                  <a:pt x="264" y="2430"/>
                </a:lnTo>
                <a:lnTo>
                  <a:pt x="258" y="2415"/>
                </a:lnTo>
                <a:lnTo>
                  <a:pt x="231" y="2409"/>
                </a:lnTo>
                <a:lnTo>
                  <a:pt x="205" y="2388"/>
                </a:lnTo>
                <a:lnTo>
                  <a:pt x="193" y="2364"/>
                </a:lnTo>
                <a:lnTo>
                  <a:pt x="198" y="2344"/>
                </a:lnTo>
                <a:lnTo>
                  <a:pt x="219" y="2340"/>
                </a:lnTo>
                <a:lnTo>
                  <a:pt x="214" y="2320"/>
                </a:lnTo>
                <a:lnTo>
                  <a:pt x="217" y="2305"/>
                </a:lnTo>
                <a:lnTo>
                  <a:pt x="214" y="2292"/>
                </a:lnTo>
                <a:lnTo>
                  <a:pt x="219" y="2278"/>
                </a:lnTo>
                <a:lnTo>
                  <a:pt x="235" y="2275"/>
                </a:lnTo>
                <a:lnTo>
                  <a:pt x="250" y="2278"/>
                </a:lnTo>
                <a:lnTo>
                  <a:pt x="265" y="2289"/>
                </a:lnTo>
                <a:lnTo>
                  <a:pt x="283" y="2281"/>
                </a:lnTo>
                <a:lnTo>
                  <a:pt x="297" y="2266"/>
                </a:lnTo>
                <a:lnTo>
                  <a:pt x="306" y="2280"/>
                </a:lnTo>
                <a:lnTo>
                  <a:pt x="304" y="2298"/>
                </a:lnTo>
                <a:lnTo>
                  <a:pt x="319" y="2307"/>
                </a:lnTo>
                <a:lnTo>
                  <a:pt x="340" y="2295"/>
                </a:lnTo>
                <a:lnTo>
                  <a:pt x="363" y="2301"/>
                </a:lnTo>
                <a:lnTo>
                  <a:pt x="384" y="2301"/>
                </a:lnTo>
                <a:lnTo>
                  <a:pt x="388" y="2283"/>
                </a:lnTo>
                <a:lnTo>
                  <a:pt x="376" y="2272"/>
                </a:lnTo>
                <a:lnTo>
                  <a:pt x="373" y="2253"/>
                </a:lnTo>
                <a:lnTo>
                  <a:pt x="384" y="2235"/>
                </a:lnTo>
                <a:lnTo>
                  <a:pt x="396" y="2235"/>
                </a:lnTo>
                <a:lnTo>
                  <a:pt x="408" y="2232"/>
                </a:lnTo>
                <a:lnTo>
                  <a:pt x="406" y="2215"/>
                </a:lnTo>
                <a:lnTo>
                  <a:pt x="400" y="2194"/>
                </a:lnTo>
                <a:lnTo>
                  <a:pt x="381" y="2176"/>
                </a:lnTo>
                <a:lnTo>
                  <a:pt x="372" y="2152"/>
                </a:lnTo>
                <a:lnTo>
                  <a:pt x="348" y="2131"/>
                </a:lnTo>
                <a:lnTo>
                  <a:pt x="340" y="2107"/>
                </a:lnTo>
                <a:lnTo>
                  <a:pt x="318" y="2106"/>
                </a:lnTo>
                <a:lnTo>
                  <a:pt x="304" y="2079"/>
                </a:lnTo>
                <a:lnTo>
                  <a:pt x="283" y="2059"/>
                </a:lnTo>
                <a:lnTo>
                  <a:pt x="273" y="2032"/>
                </a:lnTo>
                <a:lnTo>
                  <a:pt x="256" y="2007"/>
                </a:lnTo>
                <a:lnTo>
                  <a:pt x="240" y="1990"/>
                </a:lnTo>
                <a:lnTo>
                  <a:pt x="226" y="1966"/>
                </a:lnTo>
                <a:lnTo>
                  <a:pt x="217" y="1950"/>
                </a:lnTo>
                <a:lnTo>
                  <a:pt x="210" y="1932"/>
                </a:lnTo>
                <a:lnTo>
                  <a:pt x="216" y="1909"/>
                </a:lnTo>
                <a:lnTo>
                  <a:pt x="240" y="1920"/>
                </a:lnTo>
                <a:lnTo>
                  <a:pt x="264" y="1923"/>
                </a:lnTo>
                <a:lnTo>
                  <a:pt x="283" y="1936"/>
                </a:lnTo>
                <a:lnTo>
                  <a:pt x="303" y="1953"/>
                </a:lnTo>
                <a:lnTo>
                  <a:pt x="328" y="1962"/>
                </a:lnTo>
                <a:lnTo>
                  <a:pt x="358" y="1963"/>
                </a:lnTo>
                <a:lnTo>
                  <a:pt x="390" y="1965"/>
                </a:lnTo>
                <a:lnTo>
                  <a:pt x="414" y="1962"/>
                </a:lnTo>
                <a:lnTo>
                  <a:pt x="436" y="1947"/>
                </a:lnTo>
                <a:lnTo>
                  <a:pt x="433" y="1929"/>
                </a:lnTo>
                <a:lnTo>
                  <a:pt x="459" y="1923"/>
                </a:lnTo>
                <a:lnTo>
                  <a:pt x="474" y="1906"/>
                </a:lnTo>
                <a:lnTo>
                  <a:pt x="471" y="1884"/>
                </a:lnTo>
                <a:lnTo>
                  <a:pt x="456" y="1873"/>
                </a:lnTo>
                <a:lnTo>
                  <a:pt x="448" y="1884"/>
                </a:lnTo>
                <a:lnTo>
                  <a:pt x="433" y="1887"/>
                </a:lnTo>
                <a:lnTo>
                  <a:pt x="420" y="1869"/>
                </a:lnTo>
                <a:lnTo>
                  <a:pt x="397" y="1857"/>
                </a:lnTo>
                <a:lnTo>
                  <a:pt x="382" y="1837"/>
                </a:lnTo>
                <a:lnTo>
                  <a:pt x="372" y="1816"/>
                </a:lnTo>
                <a:lnTo>
                  <a:pt x="376" y="1798"/>
                </a:lnTo>
                <a:lnTo>
                  <a:pt x="349" y="1813"/>
                </a:lnTo>
                <a:lnTo>
                  <a:pt x="339" y="1800"/>
                </a:lnTo>
                <a:lnTo>
                  <a:pt x="328" y="1776"/>
                </a:lnTo>
                <a:lnTo>
                  <a:pt x="301" y="1759"/>
                </a:lnTo>
                <a:lnTo>
                  <a:pt x="291" y="1740"/>
                </a:lnTo>
                <a:lnTo>
                  <a:pt x="298" y="1720"/>
                </a:lnTo>
                <a:lnTo>
                  <a:pt x="285" y="1708"/>
                </a:lnTo>
                <a:lnTo>
                  <a:pt x="282" y="1687"/>
                </a:lnTo>
                <a:lnTo>
                  <a:pt x="264" y="1689"/>
                </a:lnTo>
                <a:lnTo>
                  <a:pt x="249" y="1681"/>
                </a:lnTo>
                <a:lnTo>
                  <a:pt x="234" y="1698"/>
                </a:lnTo>
                <a:lnTo>
                  <a:pt x="216" y="1687"/>
                </a:lnTo>
                <a:lnTo>
                  <a:pt x="205" y="1666"/>
                </a:lnTo>
                <a:lnTo>
                  <a:pt x="186" y="1677"/>
                </a:lnTo>
                <a:lnTo>
                  <a:pt x="174" y="1663"/>
                </a:lnTo>
                <a:lnTo>
                  <a:pt x="160" y="1651"/>
                </a:lnTo>
                <a:lnTo>
                  <a:pt x="159" y="1632"/>
                </a:lnTo>
                <a:lnTo>
                  <a:pt x="153" y="1620"/>
                </a:lnTo>
                <a:lnTo>
                  <a:pt x="144" y="1603"/>
                </a:lnTo>
                <a:lnTo>
                  <a:pt x="136" y="1579"/>
                </a:lnTo>
                <a:lnTo>
                  <a:pt x="159" y="1567"/>
                </a:lnTo>
                <a:lnTo>
                  <a:pt x="174" y="1552"/>
                </a:lnTo>
                <a:lnTo>
                  <a:pt x="162" y="1519"/>
                </a:lnTo>
                <a:lnTo>
                  <a:pt x="165" y="1500"/>
                </a:lnTo>
                <a:lnTo>
                  <a:pt x="160" y="1480"/>
                </a:lnTo>
                <a:lnTo>
                  <a:pt x="168" y="1462"/>
                </a:lnTo>
                <a:lnTo>
                  <a:pt x="195" y="1462"/>
                </a:lnTo>
                <a:lnTo>
                  <a:pt x="202" y="1435"/>
                </a:lnTo>
                <a:lnTo>
                  <a:pt x="201" y="1411"/>
                </a:lnTo>
                <a:lnTo>
                  <a:pt x="219" y="1393"/>
                </a:lnTo>
                <a:lnTo>
                  <a:pt x="219" y="1377"/>
                </a:lnTo>
                <a:lnTo>
                  <a:pt x="250" y="1363"/>
                </a:lnTo>
                <a:lnTo>
                  <a:pt x="246" y="1342"/>
                </a:lnTo>
                <a:lnTo>
                  <a:pt x="265" y="1330"/>
                </a:lnTo>
                <a:lnTo>
                  <a:pt x="285" y="1302"/>
                </a:lnTo>
                <a:lnTo>
                  <a:pt x="280" y="1276"/>
                </a:lnTo>
                <a:lnTo>
                  <a:pt x="294" y="1270"/>
                </a:lnTo>
                <a:lnTo>
                  <a:pt x="292" y="1254"/>
                </a:lnTo>
                <a:lnTo>
                  <a:pt x="276" y="1231"/>
                </a:lnTo>
                <a:lnTo>
                  <a:pt x="289" y="1213"/>
                </a:lnTo>
                <a:lnTo>
                  <a:pt x="295" y="1198"/>
                </a:lnTo>
                <a:lnTo>
                  <a:pt x="321" y="1194"/>
                </a:lnTo>
                <a:lnTo>
                  <a:pt x="310" y="1174"/>
                </a:lnTo>
                <a:lnTo>
                  <a:pt x="325" y="1158"/>
                </a:lnTo>
                <a:lnTo>
                  <a:pt x="309" y="1138"/>
                </a:lnTo>
                <a:lnTo>
                  <a:pt x="279" y="1119"/>
                </a:lnTo>
                <a:lnTo>
                  <a:pt x="249" y="1120"/>
                </a:lnTo>
                <a:lnTo>
                  <a:pt x="228" y="1137"/>
                </a:lnTo>
                <a:lnTo>
                  <a:pt x="217" y="1123"/>
                </a:lnTo>
                <a:lnTo>
                  <a:pt x="202" y="1104"/>
                </a:lnTo>
                <a:lnTo>
                  <a:pt x="189" y="1119"/>
                </a:lnTo>
                <a:lnTo>
                  <a:pt x="169" y="1129"/>
                </a:lnTo>
                <a:lnTo>
                  <a:pt x="142" y="1140"/>
                </a:lnTo>
                <a:lnTo>
                  <a:pt x="124" y="1158"/>
                </a:lnTo>
                <a:lnTo>
                  <a:pt x="94" y="1167"/>
                </a:lnTo>
                <a:lnTo>
                  <a:pt x="148" y="1141"/>
                </a:lnTo>
                <a:lnTo>
                  <a:pt x="199" y="1110"/>
                </a:lnTo>
                <a:lnTo>
                  <a:pt x="180" y="1125"/>
                </a:lnTo>
                <a:lnTo>
                  <a:pt x="157" y="1137"/>
                </a:lnTo>
                <a:lnTo>
                  <a:pt x="141" y="1147"/>
                </a:lnTo>
                <a:lnTo>
                  <a:pt x="133" y="1152"/>
                </a:lnTo>
                <a:lnTo>
                  <a:pt x="114" y="1161"/>
                </a:lnTo>
                <a:lnTo>
                  <a:pt x="105" y="1162"/>
                </a:lnTo>
                <a:lnTo>
                  <a:pt x="91" y="1159"/>
                </a:lnTo>
                <a:lnTo>
                  <a:pt x="90" y="1153"/>
                </a:lnTo>
                <a:lnTo>
                  <a:pt x="87" y="1143"/>
                </a:lnTo>
                <a:lnTo>
                  <a:pt x="81" y="1129"/>
                </a:lnTo>
                <a:lnTo>
                  <a:pt x="76" y="1114"/>
                </a:lnTo>
                <a:lnTo>
                  <a:pt x="91" y="1110"/>
                </a:lnTo>
                <a:lnTo>
                  <a:pt x="109" y="1108"/>
                </a:lnTo>
                <a:lnTo>
                  <a:pt x="121" y="1113"/>
                </a:lnTo>
                <a:lnTo>
                  <a:pt x="142" y="1119"/>
                </a:lnTo>
                <a:lnTo>
                  <a:pt x="142" y="1108"/>
                </a:lnTo>
                <a:lnTo>
                  <a:pt x="162" y="1098"/>
                </a:lnTo>
                <a:lnTo>
                  <a:pt x="187" y="1092"/>
                </a:lnTo>
                <a:lnTo>
                  <a:pt x="184" y="1071"/>
                </a:lnTo>
                <a:lnTo>
                  <a:pt x="171" y="1053"/>
                </a:lnTo>
                <a:lnTo>
                  <a:pt x="151" y="1063"/>
                </a:lnTo>
                <a:lnTo>
                  <a:pt x="127" y="1057"/>
                </a:lnTo>
                <a:lnTo>
                  <a:pt x="147" y="1044"/>
                </a:lnTo>
                <a:lnTo>
                  <a:pt x="157" y="1026"/>
                </a:lnTo>
                <a:lnTo>
                  <a:pt x="159" y="1002"/>
                </a:lnTo>
                <a:lnTo>
                  <a:pt x="159" y="970"/>
                </a:lnTo>
                <a:lnTo>
                  <a:pt x="150" y="948"/>
                </a:lnTo>
                <a:lnTo>
                  <a:pt x="142" y="931"/>
                </a:lnTo>
                <a:lnTo>
                  <a:pt x="145" y="912"/>
                </a:lnTo>
                <a:lnTo>
                  <a:pt x="175" y="919"/>
                </a:lnTo>
                <a:lnTo>
                  <a:pt x="196" y="910"/>
                </a:lnTo>
                <a:lnTo>
                  <a:pt x="205" y="895"/>
                </a:lnTo>
                <a:lnTo>
                  <a:pt x="204" y="874"/>
                </a:lnTo>
                <a:lnTo>
                  <a:pt x="207" y="858"/>
                </a:lnTo>
                <a:lnTo>
                  <a:pt x="226" y="874"/>
                </a:lnTo>
                <a:lnTo>
                  <a:pt x="244" y="886"/>
                </a:lnTo>
                <a:lnTo>
                  <a:pt x="268" y="892"/>
                </a:lnTo>
                <a:lnTo>
                  <a:pt x="274" y="874"/>
                </a:lnTo>
                <a:lnTo>
                  <a:pt x="282" y="853"/>
                </a:lnTo>
                <a:lnTo>
                  <a:pt x="304" y="859"/>
                </a:lnTo>
                <a:lnTo>
                  <a:pt x="307" y="883"/>
                </a:lnTo>
                <a:lnTo>
                  <a:pt x="321" y="900"/>
                </a:lnTo>
                <a:lnTo>
                  <a:pt x="345" y="898"/>
                </a:lnTo>
                <a:lnTo>
                  <a:pt x="370" y="895"/>
                </a:lnTo>
                <a:lnTo>
                  <a:pt x="381" y="874"/>
                </a:lnTo>
                <a:lnTo>
                  <a:pt x="376" y="855"/>
                </a:lnTo>
                <a:lnTo>
                  <a:pt x="358" y="838"/>
                </a:lnTo>
                <a:lnTo>
                  <a:pt x="331" y="840"/>
                </a:lnTo>
                <a:lnTo>
                  <a:pt x="303" y="838"/>
                </a:lnTo>
                <a:lnTo>
                  <a:pt x="273" y="835"/>
                </a:lnTo>
                <a:lnTo>
                  <a:pt x="250" y="823"/>
                </a:lnTo>
                <a:lnTo>
                  <a:pt x="229" y="810"/>
                </a:lnTo>
                <a:lnTo>
                  <a:pt x="204" y="802"/>
                </a:lnTo>
                <a:lnTo>
                  <a:pt x="192" y="795"/>
                </a:lnTo>
                <a:lnTo>
                  <a:pt x="171" y="783"/>
                </a:lnTo>
                <a:lnTo>
                  <a:pt x="159" y="762"/>
                </a:lnTo>
                <a:lnTo>
                  <a:pt x="147" y="735"/>
                </a:lnTo>
                <a:lnTo>
                  <a:pt x="117" y="729"/>
                </a:lnTo>
                <a:lnTo>
                  <a:pt x="96" y="723"/>
                </a:lnTo>
                <a:lnTo>
                  <a:pt x="79" y="702"/>
                </a:lnTo>
                <a:lnTo>
                  <a:pt x="84" y="678"/>
                </a:lnTo>
                <a:lnTo>
                  <a:pt x="111" y="678"/>
                </a:lnTo>
                <a:lnTo>
                  <a:pt x="120" y="663"/>
                </a:lnTo>
                <a:lnTo>
                  <a:pt x="97" y="649"/>
                </a:lnTo>
                <a:lnTo>
                  <a:pt x="99" y="621"/>
                </a:lnTo>
                <a:lnTo>
                  <a:pt x="105" y="600"/>
                </a:lnTo>
                <a:lnTo>
                  <a:pt x="132" y="609"/>
                </a:lnTo>
                <a:lnTo>
                  <a:pt x="151" y="607"/>
                </a:lnTo>
                <a:lnTo>
                  <a:pt x="168" y="595"/>
                </a:lnTo>
                <a:lnTo>
                  <a:pt x="165" y="571"/>
                </a:lnTo>
                <a:lnTo>
                  <a:pt x="142" y="567"/>
                </a:lnTo>
                <a:lnTo>
                  <a:pt x="127" y="552"/>
                </a:lnTo>
                <a:lnTo>
                  <a:pt x="94" y="561"/>
                </a:lnTo>
                <a:lnTo>
                  <a:pt x="60" y="562"/>
                </a:lnTo>
                <a:lnTo>
                  <a:pt x="34" y="550"/>
                </a:lnTo>
                <a:lnTo>
                  <a:pt x="21" y="532"/>
                </a:lnTo>
                <a:lnTo>
                  <a:pt x="24" y="514"/>
                </a:lnTo>
                <a:lnTo>
                  <a:pt x="22" y="496"/>
                </a:lnTo>
                <a:lnTo>
                  <a:pt x="39" y="486"/>
                </a:lnTo>
                <a:lnTo>
                  <a:pt x="49" y="471"/>
                </a:lnTo>
                <a:lnTo>
                  <a:pt x="67" y="456"/>
                </a:lnTo>
                <a:lnTo>
                  <a:pt x="87" y="447"/>
                </a:lnTo>
                <a:lnTo>
                  <a:pt x="85" y="430"/>
                </a:lnTo>
                <a:lnTo>
                  <a:pt x="67" y="432"/>
                </a:lnTo>
                <a:lnTo>
                  <a:pt x="45" y="424"/>
                </a:lnTo>
                <a:lnTo>
                  <a:pt x="33" y="405"/>
                </a:lnTo>
                <a:lnTo>
                  <a:pt x="37" y="385"/>
                </a:lnTo>
                <a:lnTo>
                  <a:pt x="42" y="360"/>
                </a:lnTo>
                <a:lnTo>
                  <a:pt x="24" y="334"/>
                </a:lnTo>
                <a:lnTo>
                  <a:pt x="12" y="313"/>
                </a:lnTo>
                <a:lnTo>
                  <a:pt x="12" y="297"/>
                </a:lnTo>
                <a:lnTo>
                  <a:pt x="25" y="282"/>
                </a:lnTo>
                <a:lnTo>
                  <a:pt x="18" y="265"/>
                </a:lnTo>
                <a:lnTo>
                  <a:pt x="1" y="258"/>
                </a:lnTo>
                <a:lnTo>
                  <a:pt x="0" y="243"/>
                </a:lnTo>
                <a:lnTo>
                  <a:pt x="19" y="234"/>
                </a:lnTo>
                <a:lnTo>
                  <a:pt x="37" y="228"/>
                </a:lnTo>
                <a:lnTo>
                  <a:pt x="40" y="211"/>
                </a:lnTo>
                <a:lnTo>
                  <a:pt x="58" y="210"/>
                </a:lnTo>
                <a:lnTo>
                  <a:pt x="81" y="217"/>
                </a:lnTo>
                <a:lnTo>
                  <a:pt x="108" y="220"/>
                </a:lnTo>
                <a:lnTo>
                  <a:pt x="112" y="204"/>
                </a:lnTo>
                <a:lnTo>
                  <a:pt x="118" y="186"/>
                </a:lnTo>
                <a:lnTo>
                  <a:pt x="138" y="189"/>
                </a:lnTo>
                <a:lnTo>
                  <a:pt x="163" y="190"/>
                </a:lnTo>
                <a:lnTo>
                  <a:pt x="162" y="172"/>
                </a:lnTo>
                <a:lnTo>
                  <a:pt x="157" y="153"/>
                </a:lnTo>
                <a:lnTo>
                  <a:pt x="168" y="135"/>
                </a:lnTo>
                <a:lnTo>
                  <a:pt x="186" y="121"/>
                </a:lnTo>
                <a:lnTo>
                  <a:pt x="204" y="121"/>
                </a:lnTo>
                <a:lnTo>
                  <a:pt x="201" y="139"/>
                </a:lnTo>
                <a:lnTo>
                  <a:pt x="201" y="159"/>
                </a:lnTo>
                <a:lnTo>
                  <a:pt x="223" y="168"/>
                </a:lnTo>
                <a:lnTo>
                  <a:pt x="244" y="157"/>
                </a:lnTo>
                <a:lnTo>
                  <a:pt x="267" y="159"/>
                </a:lnTo>
                <a:lnTo>
                  <a:pt x="291" y="162"/>
                </a:lnTo>
                <a:lnTo>
                  <a:pt x="294" y="144"/>
                </a:lnTo>
                <a:lnTo>
                  <a:pt x="310" y="136"/>
                </a:lnTo>
                <a:lnTo>
                  <a:pt x="325" y="120"/>
                </a:lnTo>
                <a:lnTo>
                  <a:pt x="345" y="120"/>
                </a:lnTo>
                <a:lnTo>
                  <a:pt x="367" y="126"/>
                </a:lnTo>
                <a:lnTo>
                  <a:pt x="381" y="109"/>
                </a:lnTo>
                <a:lnTo>
                  <a:pt x="394" y="94"/>
                </a:lnTo>
                <a:lnTo>
                  <a:pt x="412" y="97"/>
                </a:lnTo>
                <a:lnTo>
                  <a:pt x="412" y="79"/>
                </a:lnTo>
                <a:lnTo>
                  <a:pt x="424" y="66"/>
                </a:lnTo>
                <a:lnTo>
                  <a:pt x="447" y="66"/>
                </a:lnTo>
                <a:lnTo>
                  <a:pt x="454" y="51"/>
                </a:lnTo>
                <a:lnTo>
                  <a:pt x="441" y="43"/>
                </a:lnTo>
                <a:lnTo>
                  <a:pt x="441" y="27"/>
                </a:lnTo>
                <a:lnTo>
                  <a:pt x="463" y="28"/>
                </a:lnTo>
                <a:lnTo>
                  <a:pt x="471" y="13"/>
                </a:lnTo>
                <a:lnTo>
                  <a:pt x="486" y="1"/>
                </a:lnTo>
                <a:lnTo>
                  <a:pt x="501" y="9"/>
                </a:lnTo>
                <a:lnTo>
                  <a:pt x="525" y="7"/>
                </a:lnTo>
                <a:lnTo>
                  <a:pt x="550" y="0"/>
                </a:lnTo>
                <a:lnTo>
                  <a:pt x="570" y="7"/>
                </a:lnTo>
                <a:lnTo>
                  <a:pt x="586" y="21"/>
                </a:lnTo>
                <a:lnTo>
                  <a:pt x="606" y="36"/>
                </a:lnTo>
                <a:lnTo>
                  <a:pt x="622" y="51"/>
                </a:lnTo>
                <a:lnTo>
                  <a:pt x="639" y="57"/>
                </a:lnTo>
                <a:lnTo>
                  <a:pt x="649" y="45"/>
                </a:lnTo>
                <a:lnTo>
                  <a:pt x="661" y="30"/>
                </a:lnTo>
                <a:lnTo>
                  <a:pt x="685" y="34"/>
                </a:lnTo>
                <a:lnTo>
                  <a:pt x="702" y="19"/>
                </a:lnTo>
                <a:lnTo>
                  <a:pt x="732" y="13"/>
                </a:lnTo>
                <a:lnTo>
                  <a:pt x="760" y="13"/>
                </a:lnTo>
                <a:lnTo>
                  <a:pt x="774" y="34"/>
                </a:lnTo>
                <a:lnTo>
                  <a:pt x="780" y="51"/>
                </a:lnTo>
                <a:lnTo>
                  <a:pt x="798" y="31"/>
                </a:lnTo>
                <a:lnTo>
                  <a:pt x="817" y="13"/>
                </a:lnTo>
                <a:lnTo>
                  <a:pt x="826" y="31"/>
                </a:lnTo>
                <a:lnTo>
                  <a:pt x="837" y="48"/>
                </a:lnTo>
                <a:lnTo>
                  <a:pt x="856" y="48"/>
                </a:lnTo>
                <a:lnTo>
                  <a:pt x="867" y="31"/>
                </a:lnTo>
                <a:lnTo>
                  <a:pt x="882" y="42"/>
                </a:lnTo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60720" y="131760"/>
            <a:ext cx="8498880" cy="1031400"/>
          </a:xfrm>
          <a:prstGeom prst="rect">
            <a:avLst/>
          </a:prstGeom>
          <a:solidFill>
            <a:srgbClr val="333300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Century Gothic"/>
              </a:rPr>
              <a:t>Real estate cadast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5520" y="1492200"/>
            <a:ext cx="3644640" cy="4788000"/>
          </a:xfrm>
          <a:prstGeom prst="rect">
            <a:avLst/>
          </a:prstGeom>
          <a:solidFill>
            <a:srgbClr val="333300">
              <a:alpha val="9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Century Gothic"/>
              </a:rPr>
              <a:t>Around </a:t>
            </a:r>
            <a:r>
              <a:rPr b="1" i="1" lang="en-US" sz="2600" spc="-1" strike="noStrike">
                <a:solidFill>
                  <a:srgbClr val="00ff00"/>
                </a:solidFill>
                <a:latin typeface="Century Gothic"/>
              </a:rPr>
              <a:t>23</a:t>
            </a:r>
            <a:r>
              <a:rPr b="1" i="1" lang="en-US" sz="2600" spc="-1" strike="noStrike">
                <a:solidFill>
                  <a:srgbClr val="00ff00"/>
                </a:solidFill>
                <a:latin typeface="Arial"/>
              </a:rPr>
              <a:t>%</a:t>
            </a:r>
            <a:r>
              <a:rPr b="1" i="1" lang="en-US" sz="2600" spc="-1" strike="noStrike">
                <a:solidFill>
                  <a:srgbClr val="00ff00"/>
                </a:solidFill>
                <a:latin typeface="Century Gothic"/>
              </a:rPr>
              <a:t> of territory </a:t>
            </a:r>
            <a:r>
              <a:rPr b="1" i="1" lang="en-US" sz="2600" spc="-1" strike="noStrike">
                <a:solidFill>
                  <a:srgbClr val="ffffff"/>
                </a:solidFill>
                <a:latin typeface="Century Gothic"/>
              </a:rPr>
              <a:t>of Republic</a:t>
            </a:r>
            <a:r>
              <a:rPr b="1" i="1" lang="sr-Latn-C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i="1" lang="en-US" sz="2600" spc="-1" strike="noStrike">
                <a:solidFill>
                  <a:srgbClr val="ffffff"/>
                </a:solidFill>
                <a:latin typeface="Century Gothic"/>
              </a:rPr>
              <a:t>is covered with </a:t>
            </a:r>
            <a:r>
              <a:rPr b="1" i="1" lang="sr-Latn-CS" sz="2600" spc="-1" strike="noStrike">
                <a:solidFill>
                  <a:srgbClr val="ffff00"/>
                </a:solidFill>
                <a:latin typeface="Century Gothic"/>
              </a:rPr>
              <a:t> </a:t>
            </a:r>
            <a:br>
              <a:rPr sz="2600"/>
            </a:br>
            <a:r>
              <a:rPr b="1" i="1" lang="en-US" sz="2600" spc="-1" strike="noStrike">
                <a:solidFill>
                  <a:srgbClr val="00ff00"/>
                </a:solidFill>
                <a:latin typeface="Century Gothic"/>
              </a:rPr>
              <a:t>”LAND BOOK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Century Gothic"/>
              </a:rPr>
              <a:t>Around </a:t>
            </a:r>
            <a:r>
              <a:rPr b="1" i="1" lang="en-US" sz="2600" spc="-1" strike="noStrike">
                <a:solidFill>
                  <a:srgbClr val="ffff00"/>
                </a:solidFill>
                <a:latin typeface="Century Gothic"/>
              </a:rPr>
              <a:t>19,1 </a:t>
            </a:r>
            <a:r>
              <a:rPr b="1" i="1" lang="en-US" sz="2600" spc="-1" strike="noStrike">
                <a:solidFill>
                  <a:srgbClr val="ffff00"/>
                </a:solidFill>
                <a:latin typeface="Arial"/>
              </a:rPr>
              <a:t>%</a:t>
            </a:r>
            <a:r>
              <a:rPr b="1" i="1" lang="en-US" sz="2600" spc="-1" strike="noStrike">
                <a:solidFill>
                  <a:srgbClr val="ffff00"/>
                </a:solidFill>
                <a:latin typeface="Century Gothic"/>
              </a:rPr>
              <a:t> </a:t>
            </a:r>
            <a:r>
              <a:rPr b="1" i="1" lang="en-US" sz="2600" spc="-1" strike="noStrike">
                <a:solidFill>
                  <a:srgbClr val="ffffff"/>
                </a:solidFill>
                <a:latin typeface="Century Gothic"/>
              </a:rPr>
              <a:t>territory of </a:t>
            </a:r>
            <a:r>
              <a:rPr b="1" i="1" lang="sr-Latn-CS" sz="2600" spc="-1" strike="noStrike">
                <a:solidFill>
                  <a:srgbClr val="ffffff"/>
                </a:solidFill>
                <a:latin typeface="Century Gothic"/>
              </a:rPr>
              <a:t>Republi</a:t>
            </a:r>
            <a:r>
              <a:rPr b="1" i="1" lang="en-US" sz="2600" spc="-1" strike="noStrike">
                <a:solidFill>
                  <a:srgbClr val="ffffff"/>
                </a:solidFill>
                <a:latin typeface="Century Gothic"/>
              </a:rPr>
              <a:t>c</a:t>
            </a:r>
            <a:r>
              <a:rPr b="1" i="1" lang="sr-Latn-C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i="1" lang="en-US" sz="2600" spc="-1" strike="noStrike">
                <a:solidFill>
                  <a:srgbClr val="ffffff"/>
                </a:solidFill>
                <a:latin typeface="Century Gothic"/>
              </a:rPr>
              <a:t>has</a:t>
            </a:r>
            <a:r>
              <a:rPr b="1" i="1" lang="sr-Latn-CS" sz="2600" spc="-1" strike="noStrike">
                <a:solidFill>
                  <a:srgbClr val="ffff00"/>
                </a:solidFill>
                <a:latin typeface="Century Gothic"/>
              </a:rPr>
              <a:t> </a:t>
            </a:r>
            <a:r>
              <a:rPr b="1" i="1" lang="en-US" sz="2600" spc="-1" strike="noStrike">
                <a:solidFill>
                  <a:srgbClr val="ffff00"/>
                </a:solidFill>
                <a:latin typeface="Century Gothic"/>
              </a:rPr>
              <a:t>new ownership evi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419720" y="2409840"/>
            <a:ext cx="2560680" cy="1015920"/>
            <a:chOff x="4419720" y="2409840"/>
            <a:chExt cx="2560680" cy="1015920"/>
          </a:xfrm>
        </p:grpSpPr>
        <p:sp>
          <p:nvSpPr>
            <p:cNvPr id="56" name=""/>
            <p:cNvSpPr/>
            <p:nvPr/>
          </p:nvSpPr>
          <p:spPr>
            <a:xfrm>
              <a:off x="5715000" y="2409840"/>
              <a:ext cx="1265400" cy="330120"/>
            </a:xfrm>
            <a:custGeom>
              <a:avLst/>
              <a:gdLst/>
              <a:ahLst/>
              <a:rect l="l" t="t" r="r" b="b"/>
              <a:pathLst>
                <a:path w="797" h="208">
                  <a:moveTo>
                    <a:pt x="0" y="0"/>
                  </a:moveTo>
                  <a:lnTo>
                    <a:pt x="15" y="0"/>
                  </a:lnTo>
                  <a:lnTo>
                    <a:pt x="45" y="0"/>
                  </a:lnTo>
                  <a:lnTo>
                    <a:pt x="56" y="0"/>
                  </a:lnTo>
                  <a:lnTo>
                    <a:pt x="71" y="0"/>
                  </a:lnTo>
                  <a:lnTo>
                    <a:pt x="101" y="0"/>
                  </a:lnTo>
                  <a:lnTo>
                    <a:pt x="112" y="0"/>
                  </a:lnTo>
                  <a:lnTo>
                    <a:pt x="127" y="0"/>
                  </a:lnTo>
                  <a:lnTo>
                    <a:pt x="153" y="4"/>
                  </a:lnTo>
                  <a:lnTo>
                    <a:pt x="168" y="4"/>
                  </a:lnTo>
                  <a:lnTo>
                    <a:pt x="183" y="4"/>
                  </a:lnTo>
                  <a:lnTo>
                    <a:pt x="194" y="4"/>
                  </a:lnTo>
                  <a:lnTo>
                    <a:pt x="224" y="7"/>
                  </a:lnTo>
                  <a:lnTo>
                    <a:pt x="235" y="7"/>
                  </a:lnTo>
                  <a:lnTo>
                    <a:pt x="250" y="7"/>
                  </a:lnTo>
                  <a:lnTo>
                    <a:pt x="276" y="11"/>
                  </a:lnTo>
                  <a:lnTo>
                    <a:pt x="287" y="11"/>
                  </a:lnTo>
                  <a:lnTo>
                    <a:pt x="302" y="15"/>
                  </a:lnTo>
                  <a:lnTo>
                    <a:pt x="328" y="19"/>
                  </a:lnTo>
                  <a:lnTo>
                    <a:pt x="339" y="19"/>
                  </a:lnTo>
                  <a:lnTo>
                    <a:pt x="354" y="19"/>
                  </a:lnTo>
                  <a:lnTo>
                    <a:pt x="376" y="22"/>
                  </a:lnTo>
                  <a:lnTo>
                    <a:pt x="391" y="26"/>
                  </a:lnTo>
                  <a:lnTo>
                    <a:pt x="402" y="26"/>
                  </a:lnTo>
                  <a:lnTo>
                    <a:pt x="425" y="30"/>
                  </a:lnTo>
                  <a:lnTo>
                    <a:pt x="439" y="33"/>
                  </a:lnTo>
                  <a:lnTo>
                    <a:pt x="451" y="33"/>
                  </a:lnTo>
                  <a:lnTo>
                    <a:pt x="473" y="37"/>
                  </a:lnTo>
                  <a:lnTo>
                    <a:pt x="484" y="41"/>
                  </a:lnTo>
                  <a:lnTo>
                    <a:pt x="495" y="45"/>
                  </a:lnTo>
                  <a:lnTo>
                    <a:pt x="518" y="48"/>
                  </a:lnTo>
                  <a:lnTo>
                    <a:pt x="529" y="48"/>
                  </a:lnTo>
                  <a:lnTo>
                    <a:pt x="536" y="52"/>
                  </a:lnTo>
                  <a:lnTo>
                    <a:pt x="547" y="56"/>
                  </a:lnTo>
                  <a:lnTo>
                    <a:pt x="570" y="59"/>
                  </a:lnTo>
                  <a:lnTo>
                    <a:pt x="577" y="63"/>
                  </a:lnTo>
                  <a:lnTo>
                    <a:pt x="588" y="67"/>
                  </a:lnTo>
                  <a:lnTo>
                    <a:pt x="607" y="71"/>
                  </a:lnTo>
                  <a:lnTo>
                    <a:pt x="614" y="74"/>
                  </a:lnTo>
                  <a:lnTo>
                    <a:pt x="626" y="78"/>
                  </a:lnTo>
                  <a:lnTo>
                    <a:pt x="641" y="82"/>
                  </a:lnTo>
                  <a:lnTo>
                    <a:pt x="652" y="86"/>
                  </a:lnTo>
                  <a:lnTo>
                    <a:pt x="659" y="89"/>
                  </a:lnTo>
                  <a:lnTo>
                    <a:pt x="674" y="93"/>
                  </a:lnTo>
                  <a:lnTo>
                    <a:pt x="681" y="97"/>
                  </a:lnTo>
                  <a:lnTo>
                    <a:pt x="689" y="100"/>
                  </a:lnTo>
                  <a:lnTo>
                    <a:pt x="704" y="108"/>
                  </a:lnTo>
                  <a:lnTo>
                    <a:pt x="711" y="108"/>
                  </a:lnTo>
                  <a:lnTo>
                    <a:pt x="715" y="112"/>
                  </a:lnTo>
                  <a:lnTo>
                    <a:pt x="730" y="119"/>
                  </a:lnTo>
                  <a:lnTo>
                    <a:pt x="734" y="123"/>
                  </a:lnTo>
                  <a:lnTo>
                    <a:pt x="741" y="126"/>
                  </a:lnTo>
                  <a:lnTo>
                    <a:pt x="749" y="134"/>
                  </a:lnTo>
                  <a:lnTo>
                    <a:pt x="756" y="138"/>
                  </a:lnTo>
                  <a:lnTo>
                    <a:pt x="760" y="141"/>
                  </a:lnTo>
                  <a:lnTo>
                    <a:pt x="763" y="141"/>
                  </a:lnTo>
                  <a:lnTo>
                    <a:pt x="771" y="149"/>
                  </a:lnTo>
                  <a:lnTo>
                    <a:pt x="775" y="153"/>
                  </a:lnTo>
                  <a:lnTo>
                    <a:pt x="778" y="156"/>
                  </a:lnTo>
                  <a:lnTo>
                    <a:pt x="786" y="164"/>
                  </a:lnTo>
                  <a:lnTo>
                    <a:pt x="789" y="167"/>
                  </a:lnTo>
                  <a:lnTo>
                    <a:pt x="789" y="171"/>
                  </a:lnTo>
                  <a:lnTo>
                    <a:pt x="797" y="179"/>
                  </a:lnTo>
                  <a:lnTo>
                    <a:pt x="797" y="182"/>
                  </a:lnTo>
                  <a:lnTo>
                    <a:pt x="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419720" y="2739960"/>
              <a:ext cx="2546280" cy="685800"/>
            </a:xfrm>
            <a:custGeom>
              <a:avLst/>
              <a:gdLst/>
              <a:ahLst/>
              <a:rect l="l" t="t" r="r" b="b"/>
              <a:pathLst>
                <a:path w="1604" h="432">
                  <a:moveTo>
                    <a:pt x="1604" y="0"/>
                  </a:moveTo>
                  <a:lnTo>
                    <a:pt x="1604" y="4"/>
                  </a:lnTo>
                  <a:lnTo>
                    <a:pt x="1601" y="12"/>
                  </a:lnTo>
                  <a:lnTo>
                    <a:pt x="1601" y="15"/>
                  </a:lnTo>
                  <a:lnTo>
                    <a:pt x="1601" y="19"/>
                  </a:lnTo>
                  <a:lnTo>
                    <a:pt x="1597" y="26"/>
                  </a:lnTo>
                  <a:lnTo>
                    <a:pt x="1597" y="30"/>
                  </a:lnTo>
                  <a:lnTo>
                    <a:pt x="1593" y="34"/>
                  </a:lnTo>
                  <a:lnTo>
                    <a:pt x="1589" y="38"/>
                  </a:lnTo>
                  <a:lnTo>
                    <a:pt x="1586" y="41"/>
                  </a:lnTo>
                  <a:lnTo>
                    <a:pt x="1582" y="45"/>
                  </a:lnTo>
                  <a:lnTo>
                    <a:pt x="1575" y="53"/>
                  </a:lnTo>
                  <a:lnTo>
                    <a:pt x="1571" y="56"/>
                  </a:lnTo>
                  <a:lnTo>
                    <a:pt x="1567" y="60"/>
                  </a:lnTo>
                  <a:lnTo>
                    <a:pt x="1560" y="67"/>
                  </a:lnTo>
                  <a:lnTo>
                    <a:pt x="1556" y="71"/>
                  </a:lnTo>
                  <a:lnTo>
                    <a:pt x="1549" y="75"/>
                  </a:lnTo>
                  <a:lnTo>
                    <a:pt x="1541" y="82"/>
                  </a:lnTo>
                  <a:lnTo>
                    <a:pt x="1534" y="86"/>
                  </a:lnTo>
                  <a:lnTo>
                    <a:pt x="1530" y="86"/>
                  </a:lnTo>
                  <a:lnTo>
                    <a:pt x="1515" y="94"/>
                  </a:lnTo>
                  <a:lnTo>
                    <a:pt x="1511" y="97"/>
                  </a:lnTo>
                  <a:lnTo>
                    <a:pt x="1504" y="101"/>
                  </a:lnTo>
                  <a:lnTo>
                    <a:pt x="1489" y="108"/>
                  </a:lnTo>
                  <a:lnTo>
                    <a:pt x="1481" y="108"/>
                  </a:lnTo>
                  <a:lnTo>
                    <a:pt x="1474" y="112"/>
                  </a:lnTo>
                  <a:lnTo>
                    <a:pt x="1459" y="120"/>
                  </a:lnTo>
                  <a:lnTo>
                    <a:pt x="1452" y="123"/>
                  </a:lnTo>
                  <a:lnTo>
                    <a:pt x="1441" y="123"/>
                  </a:lnTo>
                  <a:lnTo>
                    <a:pt x="1426" y="131"/>
                  </a:lnTo>
                  <a:lnTo>
                    <a:pt x="1414" y="134"/>
                  </a:lnTo>
                  <a:lnTo>
                    <a:pt x="1407" y="134"/>
                  </a:lnTo>
                  <a:lnTo>
                    <a:pt x="1388" y="142"/>
                  </a:lnTo>
                  <a:lnTo>
                    <a:pt x="1377" y="146"/>
                  </a:lnTo>
                  <a:lnTo>
                    <a:pt x="1370" y="146"/>
                  </a:lnTo>
                  <a:lnTo>
                    <a:pt x="1347" y="153"/>
                  </a:lnTo>
                  <a:lnTo>
                    <a:pt x="1336" y="153"/>
                  </a:lnTo>
                  <a:lnTo>
                    <a:pt x="1329" y="157"/>
                  </a:lnTo>
                  <a:lnTo>
                    <a:pt x="1306" y="161"/>
                  </a:lnTo>
                  <a:lnTo>
                    <a:pt x="1295" y="164"/>
                  </a:lnTo>
                  <a:lnTo>
                    <a:pt x="1284" y="164"/>
                  </a:lnTo>
                  <a:lnTo>
                    <a:pt x="1262" y="172"/>
                  </a:lnTo>
                  <a:lnTo>
                    <a:pt x="1251" y="172"/>
                  </a:lnTo>
                  <a:lnTo>
                    <a:pt x="1239" y="175"/>
                  </a:lnTo>
                  <a:lnTo>
                    <a:pt x="1213" y="179"/>
                  </a:lnTo>
                  <a:lnTo>
                    <a:pt x="1202" y="179"/>
                  </a:lnTo>
                  <a:lnTo>
                    <a:pt x="1191" y="183"/>
                  </a:lnTo>
                  <a:lnTo>
                    <a:pt x="1165" y="187"/>
                  </a:lnTo>
                  <a:lnTo>
                    <a:pt x="1154" y="187"/>
                  </a:lnTo>
                  <a:lnTo>
                    <a:pt x="1139" y="190"/>
                  </a:lnTo>
                  <a:lnTo>
                    <a:pt x="1113" y="190"/>
                  </a:lnTo>
                  <a:lnTo>
                    <a:pt x="1102" y="194"/>
                  </a:lnTo>
                  <a:lnTo>
                    <a:pt x="1087" y="194"/>
                  </a:lnTo>
                  <a:lnTo>
                    <a:pt x="1061" y="198"/>
                  </a:lnTo>
                  <a:lnTo>
                    <a:pt x="1050" y="198"/>
                  </a:lnTo>
                  <a:lnTo>
                    <a:pt x="1035" y="198"/>
                  </a:lnTo>
                  <a:lnTo>
                    <a:pt x="1009" y="201"/>
                  </a:lnTo>
                  <a:lnTo>
                    <a:pt x="994" y="201"/>
                  </a:lnTo>
                  <a:lnTo>
                    <a:pt x="983" y="201"/>
                  </a:lnTo>
                  <a:lnTo>
                    <a:pt x="953" y="205"/>
                  </a:lnTo>
                  <a:lnTo>
                    <a:pt x="942" y="205"/>
                  </a:lnTo>
                  <a:lnTo>
                    <a:pt x="927" y="205"/>
                  </a:lnTo>
                  <a:lnTo>
                    <a:pt x="901" y="205"/>
                  </a:lnTo>
                  <a:lnTo>
                    <a:pt x="886" y="205"/>
                  </a:lnTo>
                  <a:lnTo>
                    <a:pt x="871" y="209"/>
                  </a:lnTo>
                  <a:lnTo>
                    <a:pt x="845" y="209"/>
                  </a:lnTo>
                  <a:lnTo>
                    <a:pt x="830" y="209"/>
                  </a:lnTo>
                  <a:lnTo>
                    <a:pt x="815" y="209"/>
                  </a:lnTo>
                  <a:lnTo>
                    <a:pt x="785" y="209"/>
                  </a:lnTo>
                  <a:lnTo>
                    <a:pt x="774" y="209"/>
                  </a:lnTo>
                  <a:lnTo>
                    <a:pt x="759" y="209"/>
                  </a:lnTo>
                  <a:lnTo>
                    <a:pt x="729" y="209"/>
                  </a:lnTo>
                  <a:lnTo>
                    <a:pt x="718" y="205"/>
                  </a:lnTo>
                  <a:lnTo>
                    <a:pt x="703" y="205"/>
                  </a:lnTo>
                  <a:lnTo>
                    <a:pt x="677" y="205"/>
                  </a:lnTo>
                  <a:lnTo>
                    <a:pt x="662" y="205"/>
                  </a:lnTo>
                  <a:lnTo>
                    <a:pt x="647" y="205"/>
                  </a:lnTo>
                  <a:lnTo>
                    <a:pt x="621" y="201"/>
                  </a:lnTo>
                  <a:lnTo>
                    <a:pt x="606" y="201"/>
                  </a:lnTo>
                  <a:lnTo>
                    <a:pt x="592" y="201"/>
                  </a:lnTo>
                  <a:lnTo>
                    <a:pt x="566" y="198"/>
                  </a:lnTo>
                  <a:lnTo>
                    <a:pt x="554" y="198"/>
                  </a:lnTo>
                  <a:lnTo>
                    <a:pt x="539" y="198"/>
                  </a:lnTo>
                  <a:lnTo>
                    <a:pt x="513" y="194"/>
                  </a:lnTo>
                  <a:lnTo>
                    <a:pt x="502" y="194"/>
                  </a:lnTo>
                  <a:lnTo>
                    <a:pt x="487" y="190"/>
                  </a:lnTo>
                  <a:lnTo>
                    <a:pt x="461" y="190"/>
                  </a:lnTo>
                  <a:lnTo>
                    <a:pt x="450" y="187"/>
                  </a:lnTo>
                  <a:lnTo>
                    <a:pt x="435" y="187"/>
                  </a:lnTo>
                  <a:lnTo>
                    <a:pt x="413" y="183"/>
                  </a:lnTo>
                  <a:lnTo>
                    <a:pt x="398" y="179"/>
                  </a:lnTo>
                  <a:lnTo>
                    <a:pt x="387" y="179"/>
                  </a:lnTo>
                  <a:lnTo>
                    <a:pt x="364" y="175"/>
                  </a:lnTo>
                  <a:lnTo>
                    <a:pt x="353" y="172"/>
                  </a:lnTo>
                  <a:lnTo>
                    <a:pt x="342" y="172"/>
                  </a:lnTo>
                  <a:lnTo>
                    <a:pt x="320" y="164"/>
                  </a:lnTo>
                  <a:lnTo>
                    <a:pt x="309" y="164"/>
                  </a:lnTo>
                  <a:lnTo>
                    <a:pt x="297" y="161"/>
                  </a:lnTo>
                  <a:lnTo>
                    <a:pt x="275" y="157"/>
                  </a:lnTo>
                  <a:lnTo>
                    <a:pt x="264" y="153"/>
                  </a:lnTo>
                  <a:lnTo>
                    <a:pt x="253" y="153"/>
                  </a:lnTo>
                  <a:lnTo>
                    <a:pt x="234" y="146"/>
                  </a:lnTo>
                  <a:lnTo>
                    <a:pt x="223" y="146"/>
                  </a:lnTo>
                  <a:lnTo>
                    <a:pt x="216" y="142"/>
                  </a:lnTo>
                  <a:lnTo>
                    <a:pt x="197" y="134"/>
                  </a:lnTo>
                  <a:lnTo>
                    <a:pt x="186" y="134"/>
                  </a:lnTo>
                  <a:lnTo>
                    <a:pt x="178" y="131"/>
                  </a:lnTo>
                  <a:lnTo>
                    <a:pt x="160" y="123"/>
                  </a:lnTo>
                  <a:lnTo>
                    <a:pt x="152" y="123"/>
                  </a:lnTo>
                  <a:lnTo>
                    <a:pt x="145" y="120"/>
                  </a:lnTo>
                  <a:lnTo>
                    <a:pt x="130" y="112"/>
                  </a:lnTo>
                  <a:lnTo>
                    <a:pt x="119" y="108"/>
                  </a:lnTo>
                  <a:lnTo>
                    <a:pt x="115" y="108"/>
                  </a:lnTo>
                  <a:lnTo>
                    <a:pt x="100" y="101"/>
                  </a:lnTo>
                  <a:lnTo>
                    <a:pt x="93" y="97"/>
                  </a:lnTo>
                  <a:lnTo>
                    <a:pt x="85" y="94"/>
                  </a:lnTo>
                  <a:lnTo>
                    <a:pt x="74" y="86"/>
                  </a:lnTo>
                  <a:lnTo>
                    <a:pt x="67" y="86"/>
                  </a:lnTo>
                  <a:lnTo>
                    <a:pt x="63" y="82"/>
                  </a:lnTo>
                  <a:lnTo>
                    <a:pt x="52" y="75"/>
                  </a:lnTo>
                  <a:lnTo>
                    <a:pt x="48" y="71"/>
                  </a:lnTo>
                  <a:lnTo>
                    <a:pt x="41" y="67"/>
                  </a:lnTo>
                  <a:lnTo>
                    <a:pt x="33" y="60"/>
                  </a:lnTo>
                  <a:lnTo>
                    <a:pt x="29" y="56"/>
                  </a:lnTo>
                  <a:lnTo>
                    <a:pt x="26" y="53"/>
                  </a:lnTo>
                  <a:lnTo>
                    <a:pt x="18" y="45"/>
                  </a:lnTo>
                  <a:lnTo>
                    <a:pt x="14" y="41"/>
                  </a:lnTo>
                  <a:lnTo>
                    <a:pt x="14" y="38"/>
                  </a:lnTo>
                  <a:lnTo>
                    <a:pt x="7" y="34"/>
                  </a:lnTo>
                  <a:lnTo>
                    <a:pt x="7" y="30"/>
                  </a:lnTo>
                  <a:lnTo>
                    <a:pt x="3" y="26"/>
                  </a:lnTo>
                  <a:lnTo>
                    <a:pt x="3" y="19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224"/>
                  </a:lnTo>
                  <a:lnTo>
                    <a:pt x="0" y="228"/>
                  </a:lnTo>
                  <a:lnTo>
                    <a:pt x="0" y="235"/>
                  </a:lnTo>
                  <a:lnTo>
                    <a:pt x="0" y="239"/>
                  </a:lnTo>
                  <a:lnTo>
                    <a:pt x="3" y="242"/>
                  </a:lnTo>
                  <a:lnTo>
                    <a:pt x="3" y="250"/>
                  </a:lnTo>
                  <a:lnTo>
                    <a:pt x="7" y="254"/>
                  </a:lnTo>
                  <a:lnTo>
                    <a:pt x="7" y="257"/>
                  </a:lnTo>
                  <a:lnTo>
                    <a:pt x="14" y="261"/>
                  </a:lnTo>
                  <a:lnTo>
                    <a:pt x="14" y="265"/>
                  </a:lnTo>
                  <a:lnTo>
                    <a:pt x="18" y="269"/>
                  </a:lnTo>
                  <a:lnTo>
                    <a:pt x="26" y="276"/>
                  </a:lnTo>
                  <a:lnTo>
                    <a:pt x="29" y="280"/>
                  </a:lnTo>
                  <a:lnTo>
                    <a:pt x="33" y="283"/>
                  </a:lnTo>
                  <a:lnTo>
                    <a:pt x="41" y="291"/>
                  </a:lnTo>
                  <a:lnTo>
                    <a:pt x="48" y="295"/>
                  </a:lnTo>
                  <a:lnTo>
                    <a:pt x="52" y="298"/>
                  </a:lnTo>
                  <a:lnTo>
                    <a:pt x="63" y="306"/>
                  </a:lnTo>
                  <a:lnTo>
                    <a:pt x="67" y="309"/>
                  </a:lnTo>
                  <a:lnTo>
                    <a:pt x="74" y="309"/>
                  </a:lnTo>
                  <a:lnTo>
                    <a:pt x="85" y="317"/>
                  </a:lnTo>
                  <a:lnTo>
                    <a:pt x="93" y="321"/>
                  </a:lnTo>
                  <a:lnTo>
                    <a:pt x="100" y="324"/>
                  </a:lnTo>
                  <a:lnTo>
                    <a:pt x="115" y="332"/>
                  </a:lnTo>
                  <a:lnTo>
                    <a:pt x="119" y="332"/>
                  </a:lnTo>
                  <a:lnTo>
                    <a:pt x="130" y="336"/>
                  </a:lnTo>
                  <a:lnTo>
                    <a:pt x="145" y="343"/>
                  </a:lnTo>
                  <a:lnTo>
                    <a:pt x="152" y="347"/>
                  </a:lnTo>
                  <a:lnTo>
                    <a:pt x="160" y="347"/>
                  </a:lnTo>
                  <a:lnTo>
                    <a:pt x="178" y="354"/>
                  </a:lnTo>
                  <a:lnTo>
                    <a:pt x="186" y="358"/>
                  </a:lnTo>
                  <a:lnTo>
                    <a:pt x="197" y="358"/>
                  </a:lnTo>
                  <a:lnTo>
                    <a:pt x="216" y="365"/>
                  </a:lnTo>
                  <a:lnTo>
                    <a:pt x="223" y="369"/>
                  </a:lnTo>
                  <a:lnTo>
                    <a:pt x="234" y="369"/>
                  </a:lnTo>
                  <a:lnTo>
                    <a:pt x="253" y="376"/>
                  </a:lnTo>
                  <a:lnTo>
                    <a:pt x="264" y="376"/>
                  </a:lnTo>
                  <a:lnTo>
                    <a:pt x="275" y="380"/>
                  </a:lnTo>
                  <a:lnTo>
                    <a:pt x="297" y="384"/>
                  </a:lnTo>
                  <a:lnTo>
                    <a:pt x="309" y="388"/>
                  </a:lnTo>
                  <a:lnTo>
                    <a:pt x="320" y="388"/>
                  </a:lnTo>
                  <a:lnTo>
                    <a:pt x="342" y="395"/>
                  </a:lnTo>
                  <a:lnTo>
                    <a:pt x="353" y="395"/>
                  </a:lnTo>
                  <a:lnTo>
                    <a:pt x="364" y="399"/>
                  </a:lnTo>
                  <a:lnTo>
                    <a:pt x="387" y="403"/>
                  </a:lnTo>
                  <a:lnTo>
                    <a:pt x="398" y="403"/>
                  </a:lnTo>
                  <a:lnTo>
                    <a:pt x="413" y="406"/>
                  </a:lnTo>
                  <a:lnTo>
                    <a:pt x="435" y="410"/>
                  </a:lnTo>
                  <a:lnTo>
                    <a:pt x="450" y="410"/>
                  </a:lnTo>
                  <a:lnTo>
                    <a:pt x="461" y="414"/>
                  </a:lnTo>
                  <a:lnTo>
                    <a:pt x="487" y="414"/>
                  </a:lnTo>
                  <a:lnTo>
                    <a:pt x="502" y="417"/>
                  </a:lnTo>
                  <a:lnTo>
                    <a:pt x="513" y="417"/>
                  </a:lnTo>
                  <a:lnTo>
                    <a:pt x="539" y="421"/>
                  </a:lnTo>
                  <a:lnTo>
                    <a:pt x="554" y="421"/>
                  </a:lnTo>
                  <a:lnTo>
                    <a:pt x="566" y="421"/>
                  </a:lnTo>
                  <a:lnTo>
                    <a:pt x="592" y="425"/>
                  </a:lnTo>
                  <a:lnTo>
                    <a:pt x="606" y="425"/>
                  </a:lnTo>
                  <a:lnTo>
                    <a:pt x="621" y="425"/>
                  </a:lnTo>
                  <a:lnTo>
                    <a:pt x="647" y="429"/>
                  </a:lnTo>
                  <a:lnTo>
                    <a:pt x="662" y="429"/>
                  </a:lnTo>
                  <a:lnTo>
                    <a:pt x="677" y="429"/>
                  </a:lnTo>
                  <a:lnTo>
                    <a:pt x="703" y="429"/>
                  </a:lnTo>
                  <a:lnTo>
                    <a:pt x="718" y="429"/>
                  </a:lnTo>
                  <a:lnTo>
                    <a:pt x="729" y="432"/>
                  </a:lnTo>
                  <a:lnTo>
                    <a:pt x="759" y="432"/>
                  </a:lnTo>
                  <a:lnTo>
                    <a:pt x="774" y="432"/>
                  </a:lnTo>
                  <a:lnTo>
                    <a:pt x="785" y="432"/>
                  </a:lnTo>
                  <a:lnTo>
                    <a:pt x="815" y="432"/>
                  </a:lnTo>
                  <a:lnTo>
                    <a:pt x="830" y="432"/>
                  </a:lnTo>
                  <a:lnTo>
                    <a:pt x="845" y="432"/>
                  </a:lnTo>
                  <a:lnTo>
                    <a:pt x="871" y="432"/>
                  </a:lnTo>
                  <a:lnTo>
                    <a:pt x="886" y="429"/>
                  </a:lnTo>
                  <a:lnTo>
                    <a:pt x="901" y="429"/>
                  </a:lnTo>
                  <a:lnTo>
                    <a:pt x="927" y="429"/>
                  </a:lnTo>
                  <a:lnTo>
                    <a:pt x="942" y="429"/>
                  </a:lnTo>
                  <a:lnTo>
                    <a:pt x="953" y="429"/>
                  </a:lnTo>
                  <a:lnTo>
                    <a:pt x="983" y="425"/>
                  </a:lnTo>
                  <a:lnTo>
                    <a:pt x="994" y="425"/>
                  </a:lnTo>
                  <a:lnTo>
                    <a:pt x="1009" y="425"/>
                  </a:lnTo>
                  <a:lnTo>
                    <a:pt x="1035" y="421"/>
                  </a:lnTo>
                  <a:lnTo>
                    <a:pt x="1050" y="421"/>
                  </a:lnTo>
                  <a:lnTo>
                    <a:pt x="1061" y="421"/>
                  </a:lnTo>
                  <a:lnTo>
                    <a:pt x="1087" y="417"/>
                  </a:lnTo>
                  <a:lnTo>
                    <a:pt x="1102" y="417"/>
                  </a:lnTo>
                  <a:lnTo>
                    <a:pt x="1113" y="414"/>
                  </a:lnTo>
                  <a:lnTo>
                    <a:pt x="1139" y="414"/>
                  </a:lnTo>
                  <a:lnTo>
                    <a:pt x="1154" y="410"/>
                  </a:lnTo>
                  <a:lnTo>
                    <a:pt x="1165" y="410"/>
                  </a:lnTo>
                  <a:lnTo>
                    <a:pt x="1191" y="406"/>
                  </a:lnTo>
                  <a:lnTo>
                    <a:pt x="1202" y="403"/>
                  </a:lnTo>
                  <a:lnTo>
                    <a:pt x="1213" y="403"/>
                  </a:lnTo>
                  <a:lnTo>
                    <a:pt x="1239" y="399"/>
                  </a:lnTo>
                  <a:lnTo>
                    <a:pt x="1251" y="395"/>
                  </a:lnTo>
                  <a:lnTo>
                    <a:pt x="1262" y="395"/>
                  </a:lnTo>
                  <a:lnTo>
                    <a:pt x="1284" y="388"/>
                  </a:lnTo>
                  <a:lnTo>
                    <a:pt x="1295" y="388"/>
                  </a:lnTo>
                  <a:lnTo>
                    <a:pt x="1306" y="384"/>
                  </a:lnTo>
                  <a:lnTo>
                    <a:pt x="1329" y="380"/>
                  </a:lnTo>
                  <a:lnTo>
                    <a:pt x="1336" y="376"/>
                  </a:lnTo>
                  <a:lnTo>
                    <a:pt x="1347" y="376"/>
                  </a:lnTo>
                  <a:lnTo>
                    <a:pt x="1370" y="369"/>
                  </a:lnTo>
                  <a:lnTo>
                    <a:pt x="1377" y="369"/>
                  </a:lnTo>
                  <a:lnTo>
                    <a:pt x="1388" y="365"/>
                  </a:lnTo>
                  <a:lnTo>
                    <a:pt x="1407" y="358"/>
                  </a:lnTo>
                  <a:lnTo>
                    <a:pt x="1414" y="358"/>
                  </a:lnTo>
                  <a:lnTo>
                    <a:pt x="1426" y="354"/>
                  </a:lnTo>
                  <a:lnTo>
                    <a:pt x="1441" y="347"/>
                  </a:lnTo>
                  <a:lnTo>
                    <a:pt x="1452" y="347"/>
                  </a:lnTo>
                  <a:lnTo>
                    <a:pt x="1459" y="343"/>
                  </a:lnTo>
                  <a:lnTo>
                    <a:pt x="1474" y="336"/>
                  </a:lnTo>
                  <a:lnTo>
                    <a:pt x="1481" y="332"/>
                  </a:lnTo>
                  <a:lnTo>
                    <a:pt x="1489" y="332"/>
                  </a:lnTo>
                  <a:lnTo>
                    <a:pt x="1504" y="324"/>
                  </a:lnTo>
                  <a:lnTo>
                    <a:pt x="1511" y="321"/>
                  </a:lnTo>
                  <a:lnTo>
                    <a:pt x="1515" y="317"/>
                  </a:lnTo>
                  <a:lnTo>
                    <a:pt x="1530" y="309"/>
                  </a:lnTo>
                  <a:lnTo>
                    <a:pt x="1534" y="309"/>
                  </a:lnTo>
                  <a:lnTo>
                    <a:pt x="1541" y="306"/>
                  </a:lnTo>
                  <a:lnTo>
                    <a:pt x="1549" y="298"/>
                  </a:lnTo>
                  <a:lnTo>
                    <a:pt x="1556" y="295"/>
                  </a:lnTo>
                  <a:lnTo>
                    <a:pt x="1560" y="291"/>
                  </a:lnTo>
                  <a:lnTo>
                    <a:pt x="1567" y="283"/>
                  </a:lnTo>
                  <a:lnTo>
                    <a:pt x="1571" y="280"/>
                  </a:lnTo>
                  <a:lnTo>
                    <a:pt x="1575" y="276"/>
                  </a:lnTo>
                  <a:lnTo>
                    <a:pt x="1582" y="269"/>
                  </a:lnTo>
                  <a:lnTo>
                    <a:pt x="1586" y="265"/>
                  </a:lnTo>
                  <a:lnTo>
                    <a:pt x="1589" y="261"/>
                  </a:lnTo>
                  <a:lnTo>
                    <a:pt x="1593" y="257"/>
                  </a:lnTo>
                  <a:lnTo>
                    <a:pt x="1597" y="254"/>
                  </a:lnTo>
                  <a:lnTo>
                    <a:pt x="1597" y="250"/>
                  </a:lnTo>
                  <a:lnTo>
                    <a:pt x="1601" y="242"/>
                  </a:lnTo>
                  <a:lnTo>
                    <a:pt x="1601" y="239"/>
                  </a:lnTo>
                  <a:lnTo>
                    <a:pt x="1601" y="235"/>
                  </a:lnTo>
                  <a:lnTo>
                    <a:pt x="1604" y="228"/>
                  </a:lnTo>
                  <a:lnTo>
                    <a:pt x="1604" y="224"/>
                  </a:lnTo>
                  <a:lnTo>
                    <a:pt x="1604" y="0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720" y="2433600"/>
              <a:ext cx="2546280" cy="662040"/>
            </a:xfrm>
            <a:custGeom>
              <a:avLst/>
              <a:gdLst/>
              <a:ahLst/>
              <a:rect l="l" t="t" r="r" b="b"/>
              <a:pathLst>
                <a:path w="1604" h="417">
                  <a:moveTo>
                    <a:pt x="1597" y="182"/>
                  </a:moveTo>
                  <a:lnTo>
                    <a:pt x="1601" y="186"/>
                  </a:lnTo>
                  <a:lnTo>
                    <a:pt x="1601" y="194"/>
                  </a:lnTo>
                  <a:lnTo>
                    <a:pt x="1601" y="197"/>
                  </a:lnTo>
                  <a:lnTo>
                    <a:pt x="1604" y="201"/>
                  </a:lnTo>
                  <a:lnTo>
                    <a:pt x="1604" y="208"/>
                  </a:lnTo>
                  <a:lnTo>
                    <a:pt x="1604" y="212"/>
                  </a:lnTo>
                  <a:lnTo>
                    <a:pt x="1604" y="216"/>
                  </a:lnTo>
                  <a:lnTo>
                    <a:pt x="1601" y="223"/>
                  </a:lnTo>
                  <a:lnTo>
                    <a:pt x="1601" y="227"/>
                  </a:lnTo>
                  <a:lnTo>
                    <a:pt x="1601" y="231"/>
                  </a:lnTo>
                  <a:lnTo>
                    <a:pt x="1597" y="238"/>
                  </a:lnTo>
                  <a:lnTo>
                    <a:pt x="1593" y="242"/>
                  </a:lnTo>
                  <a:lnTo>
                    <a:pt x="1589" y="242"/>
                  </a:lnTo>
                  <a:lnTo>
                    <a:pt x="1589" y="246"/>
                  </a:lnTo>
                  <a:lnTo>
                    <a:pt x="1582" y="253"/>
                  </a:lnTo>
                  <a:lnTo>
                    <a:pt x="1578" y="257"/>
                  </a:lnTo>
                  <a:lnTo>
                    <a:pt x="1575" y="261"/>
                  </a:lnTo>
                  <a:lnTo>
                    <a:pt x="1567" y="268"/>
                  </a:lnTo>
                  <a:lnTo>
                    <a:pt x="1563" y="272"/>
                  </a:lnTo>
                  <a:lnTo>
                    <a:pt x="1560" y="275"/>
                  </a:lnTo>
                  <a:lnTo>
                    <a:pt x="1549" y="283"/>
                  </a:lnTo>
                  <a:lnTo>
                    <a:pt x="1545" y="287"/>
                  </a:lnTo>
                  <a:lnTo>
                    <a:pt x="1541" y="290"/>
                  </a:lnTo>
                  <a:lnTo>
                    <a:pt x="1530" y="294"/>
                  </a:lnTo>
                  <a:lnTo>
                    <a:pt x="1522" y="298"/>
                  </a:lnTo>
                  <a:lnTo>
                    <a:pt x="1515" y="302"/>
                  </a:lnTo>
                  <a:lnTo>
                    <a:pt x="1504" y="309"/>
                  </a:lnTo>
                  <a:lnTo>
                    <a:pt x="1496" y="313"/>
                  </a:lnTo>
                  <a:lnTo>
                    <a:pt x="1489" y="316"/>
                  </a:lnTo>
                  <a:lnTo>
                    <a:pt x="1474" y="320"/>
                  </a:lnTo>
                  <a:lnTo>
                    <a:pt x="1467" y="324"/>
                  </a:lnTo>
                  <a:lnTo>
                    <a:pt x="1459" y="328"/>
                  </a:lnTo>
                  <a:lnTo>
                    <a:pt x="1441" y="331"/>
                  </a:lnTo>
                  <a:lnTo>
                    <a:pt x="1433" y="335"/>
                  </a:lnTo>
                  <a:lnTo>
                    <a:pt x="1426" y="339"/>
                  </a:lnTo>
                  <a:lnTo>
                    <a:pt x="1414" y="342"/>
                  </a:lnTo>
                  <a:lnTo>
                    <a:pt x="1396" y="346"/>
                  </a:lnTo>
                  <a:lnTo>
                    <a:pt x="1388" y="350"/>
                  </a:lnTo>
                  <a:lnTo>
                    <a:pt x="1377" y="354"/>
                  </a:lnTo>
                  <a:lnTo>
                    <a:pt x="1359" y="357"/>
                  </a:lnTo>
                  <a:lnTo>
                    <a:pt x="1347" y="361"/>
                  </a:lnTo>
                  <a:lnTo>
                    <a:pt x="1336" y="361"/>
                  </a:lnTo>
                  <a:lnTo>
                    <a:pt x="1318" y="369"/>
                  </a:lnTo>
                  <a:lnTo>
                    <a:pt x="1306" y="369"/>
                  </a:lnTo>
                  <a:lnTo>
                    <a:pt x="1295" y="372"/>
                  </a:lnTo>
                  <a:lnTo>
                    <a:pt x="1273" y="376"/>
                  </a:lnTo>
                  <a:lnTo>
                    <a:pt x="1262" y="380"/>
                  </a:lnTo>
                  <a:lnTo>
                    <a:pt x="1251" y="380"/>
                  </a:lnTo>
                  <a:lnTo>
                    <a:pt x="1225" y="383"/>
                  </a:lnTo>
                  <a:lnTo>
                    <a:pt x="1213" y="387"/>
                  </a:lnTo>
                  <a:lnTo>
                    <a:pt x="1202" y="387"/>
                  </a:lnTo>
                  <a:lnTo>
                    <a:pt x="1176" y="391"/>
                  </a:lnTo>
                  <a:lnTo>
                    <a:pt x="1165" y="395"/>
                  </a:lnTo>
                  <a:lnTo>
                    <a:pt x="1154" y="395"/>
                  </a:lnTo>
                  <a:lnTo>
                    <a:pt x="1128" y="398"/>
                  </a:lnTo>
                  <a:lnTo>
                    <a:pt x="1113" y="398"/>
                  </a:lnTo>
                  <a:lnTo>
                    <a:pt x="1102" y="402"/>
                  </a:lnTo>
                  <a:lnTo>
                    <a:pt x="1076" y="402"/>
                  </a:lnTo>
                  <a:lnTo>
                    <a:pt x="1061" y="406"/>
                  </a:lnTo>
                  <a:lnTo>
                    <a:pt x="1050" y="406"/>
                  </a:lnTo>
                  <a:lnTo>
                    <a:pt x="1035" y="406"/>
                  </a:lnTo>
                  <a:lnTo>
                    <a:pt x="1009" y="409"/>
                  </a:lnTo>
                  <a:lnTo>
                    <a:pt x="994" y="409"/>
                  </a:lnTo>
                  <a:lnTo>
                    <a:pt x="983" y="409"/>
                  </a:lnTo>
                  <a:lnTo>
                    <a:pt x="953" y="413"/>
                  </a:lnTo>
                  <a:lnTo>
                    <a:pt x="942" y="413"/>
                  </a:lnTo>
                  <a:lnTo>
                    <a:pt x="927" y="413"/>
                  </a:lnTo>
                  <a:lnTo>
                    <a:pt x="901" y="413"/>
                  </a:lnTo>
                  <a:lnTo>
                    <a:pt x="886" y="413"/>
                  </a:lnTo>
                  <a:lnTo>
                    <a:pt x="871" y="417"/>
                  </a:lnTo>
                  <a:lnTo>
                    <a:pt x="845" y="417"/>
                  </a:lnTo>
                  <a:lnTo>
                    <a:pt x="830" y="417"/>
                  </a:lnTo>
                  <a:lnTo>
                    <a:pt x="815" y="417"/>
                  </a:lnTo>
                  <a:lnTo>
                    <a:pt x="785" y="417"/>
                  </a:lnTo>
                  <a:lnTo>
                    <a:pt x="774" y="417"/>
                  </a:lnTo>
                  <a:lnTo>
                    <a:pt x="759" y="417"/>
                  </a:lnTo>
                  <a:lnTo>
                    <a:pt x="729" y="417"/>
                  </a:lnTo>
                  <a:lnTo>
                    <a:pt x="718" y="413"/>
                  </a:lnTo>
                  <a:lnTo>
                    <a:pt x="703" y="413"/>
                  </a:lnTo>
                  <a:lnTo>
                    <a:pt x="677" y="413"/>
                  </a:lnTo>
                  <a:lnTo>
                    <a:pt x="662" y="413"/>
                  </a:lnTo>
                  <a:lnTo>
                    <a:pt x="647" y="413"/>
                  </a:lnTo>
                  <a:lnTo>
                    <a:pt x="633" y="413"/>
                  </a:lnTo>
                  <a:lnTo>
                    <a:pt x="606" y="409"/>
                  </a:lnTo>
                  <a:lnTo>
                    <a:pt x="592" y="409"/>
                  </a:lnTo>
                  <a:lnTo>
                    <a:pt x="580" y="409"/>
                  </a:lnTo>
                  <a:lnTo>
                    <a:pt x="554" y="406"/>
                  </a:lnTo>
                  <a:lnTo>
                    <a:pt x="539" y="406"/>
                  </a:lnTo>
                  <a:lnTo>
                    <a:pt x="528" y="402"/>
                  </a:lnTo>
                  <a:lnTo>
                    <a:pt x="502" y="402"/>
                  </a:lnTo>
                  <a:lnTo>
                    <a:pt x="487" y="398"/>
                  </a:lnTo>
                  <a:lnTo>
                    <a:pt x="476" y="398"/>
                  </a:lnTo>
                  <a:lnTo>
                    <a:pt x="450" y="395"/>
                  </a:lnTo>
                  <a:lnTo>
                    <a:pt x="435" y="395"/>
                  </a:lnTo>
                  <a:lnTo>
                    <a:pt x="424" y="391"/>
                  </a:lnTo>
                  <a:lnTo>
                    <a:pt x="398" y="387"/>
                  </a:lnTo>
                  <a:lnTo>
                    <a:pt x="387" y="387"/>
                  </a:lnTo>
                  <a:lnTo>
                    <a:pt x="376" y="383"/>
                  </a:lnTo>
                  <a:lnTo>
                    <a:pt x="353" y="380"/>
                  </a:lnTo>
                  <a:lnTo>
                    <a:pt x="342" y="380"/>
                  </a:lnTo>
                  <a:lnTo>
                    <a:pt x="331" y="376"/>
                  </a:lnTo>
                  <a:lnTo>
                    <a:pt x="309" y="372"/>
                  </a:lnTo>
                  <a:lnTo>
                    <a:pt x="297" y="369"/>
                  </a:lnTo>
                  <a:lnTo>
                    <a:pt x="286" y="369"/>
                  </a:lnTo>
                  <a:lnTo>
                    <a:pt x="264" y="361"/>
                  </a:lnTo>
                  <a:lnTo>
                    <a:pt x="253" y="361"/>
                  </a:lnTo>
                  <a:lnTo>
                    <a:pt x="245" y="357"/>
                  </a:lnTo>
                  <a:lnTo>
                    <a:pt x="234" y="354"/>
                  </a:lnTo>
                  <a:lnTo>
                    <a:pt x="216" y="350"/>
                  </a:lnTo>
                  <a:lnTo>
                    <a:pt x="204" y="346"/>
                  </a:lnTo>
                  <a:lnTo>
                    <a:pt x="197" y="342"/>
                  </a:lnTo>
                  <a:lnTo>
                    <a:pt x="178" y="339"/>
                  </a:lnTo>
                  <a:lnTo>
                    <a:pt x="167" y="335"/>
                  </a:lnTo>
                  <a:lnTo>
                    <a:pt x="160" y="331"/>
                  </a:lnTo>
                  <a:lnTo>
                    <a:pt x="145" y="328"/>
                  </a:lnTo>
                  <a:lnTo>
                    <a:pt x="137" y="324"/>
                  </a:lnTo>
                  <a:lnTo>
                    <a:pt x="130" y="320"/>
                  </a:lnTo>
                  <a:lnTo>
                    <a:pt x="115" y="316"/>
                  </a:lnTo>
                  <a:lnTo>
                    <a:pt x="108" y="313"/>
                  </a:lnTo>
                  <a:lnTo>
                    <a:pt x="100" y="309"/>
                  </a:lnTo>
                  <a:lnTo>
                    <a:pt x="85" y="302"/>
                  </a:lnTo>
                  <a:lnTo>
                    <a:pt x="81" y="298"/>
                  </a:lnTo>
                  <a:lnTo>
                    <a:pt x="74" y="294"/>
                  </a:lnTo>
                  <a:lnTo>
                    <a:pt x="63" y="290"/>
                  </a:lnTo>
                  <a:lnTo>
                    <a:pt x="55" y="287"/>
                  </a:lnTo>
                  <a:lnTo>
                    <a:pt x="52" y="283"/>
                  </a:lnTo>
                  <a:lnTo>
                    <a:pt x="41" y="275"/>
                  </a:lnTo>
                  <a:lnTo>
                    <a:pt x="37" y="272"/>
                  </a:lnTo>
                  <a:lnTo>
                    <a:pt x="33" y="268"/>
                  </a:lnTo>
                  <a:lnTo>
                    <a:pt x="29" y="264"/>
                  </a:lnTo>
                  <a:lnTo>
                    <a:pt x="22" y="257"/>
                  </a:lnTo>
                  <a:lnTo>
                    <a:pt x="18" y="253"/>
                  </a:lnTo>
                  <a:lnTo>
                    <a:pt x="14" y="249"/>
                  </a:lnTo>
                  <a:lnTo>
                    <a:pt x="11" y="242"/>
                  </a:lnTo>
                  <a:lnTo>
                    <a:pt x="7" y="242"/>
                  </a:lnTo>
                  <a:lnTo>
                    <a:pt x="7" y="238"/>
                  </a:lnTo>
                  <a:lnTo>
                    <a:pt x="3" y="231"/>
                  </a:lnTo>
                  <a:lnTo>
                    <a:pt x="3" y="227"/>
                  </a:lnTo>
                  <a:lnTo>
                    <a:pt x="0" y="223"/>
                  </a:lnTo>
                  <a:lnTo>
                    <a:pt x="0" y="216"/>
                  </a:lnTo>
                  <a:lnTo>
                    <a:pt x="0" y="212"/>
                  </a:lnTo>
                  <a:lnTo>
                    <a:pt x="0" y="208"/>
                  </a:lnTo>
                  <a:lnTo>
                    <a:pt x="0" y="201"/>
                  </a:lnTo>
                  <a:lnTo>
                    <a:pt x="0" y="197"/>
                  </a:lnTo>
                  <a:lnTo>
                    <a:pt x="0" y="194"/>
                  </a:lnTo>
                  <a:lnTo>
                    <a:pt x="3" y="186"/>
                  </a:lnTo>
                  <a:lnTo>
                    <a:pt x="3" y="182"/>
                  </a:lnTo>
                  <a:lnTo>
                    <a:pt x="7" y="179"/>
                  </a:lnTo>
                  <a:lnTo>
                    <a:pt x="11" y="171"/>
                  </a:lnTo>
                  <a:lnTo>
                    <a:pt x="14" y="167"/>
                  </a:lnTo>
                  <a:lnTo>
                    <a:pt x="14" y="164"/>
                  </a:lnTo>
                  <a:lnTo>
                    <a:pt x="18" y="160"/>
                  </a:lnTo>
                  <a:lnTo>
                    <a:pt x="26" y="153"/>
                  </a:lnTo>
                  <a:lnTo>
                    <a:pt x="29" y="149"/>
                  </a:lnTo>
                  <a:lnTo>
                    <a:pt x="33" y="145"/>
                  </a:lnTo>
                  <a:lnTo>
                    <a:pt x="41" y="141"/>
                  </a:lnTo>
                  <a:lnTo>
                    <a:pt x="48" y="138"/>
                  </a:lnTo>
                  <a:lnTo>
                    <a:pt x="52" y="134"/>
                  </a:lnTo>
                  <a:lnTo>
                    <a:pt x="63" y="126"/>
                  </a:lnTo>
                  <a:lnTo>
                    <a:pt x="67" y="123"/>
                  </a:lnTo>
                  <a:lnTo>
                    <a:pt x="74" y="119"/>
                  </a:lnTo>
                  <a:lnTo>
                    <a:pt x="85" y="112"/>
                  </a:lnTo>
                  <a:lnTo>
                    <a:pt x="93" y="108"/>
                  </a:lnTo>
                  <a:lnTo>
                    <a:pt x="100" y="108"/>
                  </a:lnTo>
                  <a:lnTo>
                    <a:pt x="115" y="100"/>
                  </a:lnTo>
                  <a:lnTo>
                    <a:pt x="119" y="97"/>
                  </a:lnTo>
                  <a:lnTo>
                    <a:pt x="130" y="93"/>
                  </a:lnTo>
                  <a:lnTo>
                    <a:pt x="145" y="89"/>
                  </a:lnTo>
                  <a:lnTo>
                    <a:pt x="152" y="86"/>
                  </a:lnTo>
                  <a:lnTo>
                    <a:pt x="160" y="82"/>
                  </a:lnTo>
                  <a:lnTo>
                    <a:pt x="178" y="78"/>
                  </a:lnTo>
                  <a:lnTo>
                    <a:pt x="186" y="74"/>
                  </a:lnTo>
                  <a:lnTo>
                    <a:pt x="197" y="71"/>
                  </a:lnTo>
                  <a:lnTo>
                    <a:pt x="216" y="67"/>
                  </a:lnTo>
                  <a:lnTo>
                    <a:pt x="223" y="63"/>
                  </a:lnTo>
                  <a:lnTo>
                    <a:pt x="234" y="59"/>
                  </a:lnTo>
                  <a:lnTo>
                    <a:pt x="245" y="56"/>
                  </a:lnTo>
                  <a:lnTo>
                    <a:pt x="264" y="52"/>
                  </a:lnTo>
                  <a:lnTo>
                    <a:pt x="275" y="48"/>
                  </a:lnTo>
                  <a:lnTo>
                    <a:pt x="286" y="48"/>
                  </a:lnTo>
                  <a:lnTo>
                    <a:pt x="309" y="45"/>
                  </a:lnTo>
                  <a:lnTo>
                    <a:pt x="320" y="41"/>
                  </a:lnTo>
                  <a:lnTo>
                    <a:pt x="331" y="37"/>
                  </a:lnTo>
                  <a:lnTo>
                    <a:pt x="353" y="33"/>
                  </a:lnTo>
                  <a:lnTo>
                    <a:pt x="364" y="33"/>
                  </a:lnTo>
                  <a:lnTo>
                    <a:pt x="376" y="30"/>
                  </a:lnTo>
                  <a:lnTo>
                    <a:pt x="398" y="26"/>
                  </a:lnTo>
                  <a:lnTo>
                    <a:pt x="413" y="26"/>
                  </a:lnTo>
                  <a:lnTo>
                    <a:pt x="424" y="22"/>
                  </a:lnTo>
                  <a:lnTo>
                    <a:pt x="450" y="19"/>
                  </a:lnTo>
                  <a:lnTo>
                    <a:pt x="461" y="19"/>
                  </a:lnTo>
                  <a:lnTo>
                    <a:pt x="476" y="19"/>
                  </a:lnTo>
                  <a:lnTo>
                    <a:pt x="502" y="15"/>
                  </a:lnTo>
                  <a:lnTo>
                    <a:pt x="513" y="11"/>
                  </a:lnTo>
                  <a:lnTo>
                    <a:pt x="528" y="11"/>
                  </a:lnTo>
                  <a:lnTo>
                    <a:pt x="554" y="7"/>
                  </a:lnTo>
                  <a:lnTo>
                    <a:pt x="566" y="7"/>
                  </a:lnTo>
                  <a:lnTo>
                    <a:pt x="580" y="7"/>
                  </a:lnTo>
                  <a:lnTo>
                    <a:pt x="592" y="7"/>
                  </a:lnTo>
                  <a:lnTo>
                    <a:pt x="621" y="4"/>
                  </a:lnTo>
                  <a:lnTo>
                    <a:pt x="633" y="4"/>
                  </a:lnTo>
                  <a:lnTo>
                    <a:pt x="647" y="4"/>
                  </a:lnTo>
                  <a:lnTo>
                    <a:pt x="677" y="0"/>
                  </a:lnTo>
                  <a:lnTo>
                    <a:pt x="688" y="0"/>
                  </a:lnTo>
                  <a:lnTo>
                    <a:pt x="703" y="0"/>
                  </a:lnTo>
                  <a:lnTo>
                    <a:pt x="729" y="0"/>
                  </a:lnTo>
                  <a:lnTo>
                    <a:pt x="744" y="0"/>
                  </a:lnTo>
                  <a:lnTo>
                    <a:pt x="759" y="0"/>
                  </a:lnTo>
                  <a:lnTo>
                    <a:pt x="785" y="0"/>
                  </a:lnTo>
                  <a:lnTo>
                    <a:pt x="800" y="0"/>
                  </a:lnTo>
                  <a:lnTo>
                    <a:pt x="800" y="208"/>
                  </a:lnTo>
                  <a:lnTo>
                    <a:pt x="1597" y="182"/>
                  </a:lnTo>
                  <a:close/>
                </a:path>
              </a:pathLst>
            </a:custGeom>
            <a:solidFill>
              <a:srgbClr val="00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7086600" y="1981080"/>
            <a:ext cx="1800360" cy="1455480"/>
          </a:xfrm>
          <a:prstGeom prst="roundRect">
            <a:avLst>
              <a:gd name="adj" fmla="val 16667"/>
            </a:avLst>
          </a:prstGeom>
          <a:solidFill>
            <a:srgbClr val="3333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00ff00"/>
                </a:solidFill>
                <a:latin typeface="Century Gothic"/>
              </a:rPr>
              <a:t>23</a:t>
            </a:r>
            <a:r>
              <a:rPr b="1" i="1" lang="sl-SI" sz="2000" spc="-1" strike="noStrike">
                <a:solidFill>
                  <a:srgbClr val="00ff00"/>
                </a:solidFill>
                <a:latin typeface="Arial"/>
              </a:rPr>
              <a:t>%</a:t>
            </a:r>
            <a:r>
              <a:rPr b="1" i="1" lang="sl-SI" sz="2000" spc="-1" strike="noStrike">
                <a:solidFill>
                  <a:srgbClr val="00ff00"/>
                </a:solidFill>
                <a:latin typeface="Century Gothic"/>
              </a:rPr>
              <a:t> </a:t>
            </a:r>
            <a:r>
              <a:rPr b="1" i="1" lang="en-US" sz="2000" spc="-1" strike="noStrike">
                <a:solidFill>
                  <a:srgbClr val="00ff00"/>
                </a:solidFill>
                <a:latin typeface="Century Gothic"/>
              </a:rPr>
              <a:t>covered with land 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95680" y="4114800"/>
            <a:ext cx="1676520" cy="1311120"/>
          </a:xfrm>
          <a:prstGeom prst="roundRect">
            <a:avLst>
              <a:gd name="adj" fmla="val 16667"/>
            </a:avLst>
          </a:prstGeom>
          <a:solidFill>
            <a:srgbClr val="3333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ffff00"/>
                </a:solidFill>
                <a:latin typeface="Century Gothic"/>
              </a:rPr>
              <a:t>1</a:t>
            </a:r>
            <a:r>
              <a:rPr b="1" i="1" lang="en-US" sz="2000" spc="-1" strike="noStrike">
                <a:solidFill>
                  <a:srgbClr val="ffff00"/>
                </a:solidFill>
                <a:latin typeface="Century Gothic"/>
              </a:rPr>
              <a:t>9,1</a:t>
            </a:r>
            <a:r>
              <a:rPr b="1" i="1" lang="sl-SI" sz="2000" spc="-1" strike="noStrike">
                <a:solidFill>
                  <a:srgbClr val="ffff00"/>
                </a:solidFill>
                <a:latin typeface="Arial"/>
              </a:rPr>
              <a:t>%</a:t>
            </a:r>
            <a:r>
              <a:rPr b="1" i="1" lang="sl-SI" sz="2000" spc="-1" strike="noStrike">
                <a:solidFill>
                  <a:srgbClr val="ffff00"/>
                </a:solidFill>
                <a:latin typeface="Century Gothic"/>
              </a:rPr>
              <a:t> </a:t>
            </a:r>
            <a:br>
              <a:rPr sz="2000"/>
            </a:br>
            <a:r>
              <a:rPr b="1" i="1" lang="en-US" sz="2000" spc="-1" strike="noStrike">
                <a:solidFill>
                  <a:srgbClr val="ffff00"/>
                </a:solidFill>
                <a:latin typeface="Century Gothic"/>
              </a:rPr>
              <a:t>New ownership ev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321600" y="4441680"/>
            <a:ext cx="2597040" cy="1044360"/>
            <a:chOff x="6321600" y="4441680"/>
            <a:chExt cx="2597040" cy="1044360"/>
          </a:xfrm>
        </p:grpSpPr>
        <p:sp>
          <p:nvSpPr>
            <p:cNvPr id="62" name=""/>
            <p:cNvSpPr/>
            <p:nvPr/>
          </p:nvSpPr>
          <p:spPr>
            <a:xfrm>
              <a:off x="7616880" y="4441680"/>
              <a:ext cx="946080" cy="333360"/>
            </a:xfrm>
            <a:custGeom>
              <a:avLst/>
              <a:gdLst/>
              <a:ahLst/>
              <a:rect l="l" t="t" r="r" b="b"/>
              <a:pathLst>
                <a:path w="596" h="210">
                  <a:moveTo>
                    <a:pt x="0" y="0"/>
                  </a:moveTo>
                  <a:lnTo>
                    <a:pt x="15" y="0"/>
                  </a:lnTo>
                  <a:lnTo>
                    <a:pt x="41" y="0"/>
                  </a:lnTo>
                  <a:lnTo>
                    <a:pt x="56" y="0"/>
                  </a:lnTo>
                  <a:lnTo>
                    <a:pt x="71" y="0"/>
                  </a:lnTo>
                  <a:lnTo>
                    <a:pt x="98" y="0"/>
                  </a:lnTo>
                  <a:lnTo>
                    <a:pt x="113" y="0"/>
                  </a:lnTo>
                  <a:lnTo>
                    <a:pt x="128" y="0"/>
                  </a:lnTo>
                  <a:lnTo>
                    <a:pt x="143" y="4"/>
                  </a:lnTo>
                  <a:lnTo>
                    <a:pt x="169" y="4"/>
                  </a:lnTo>
                  <a:lnTo>
                    <a:pt x="184" y="4"/>
                  </a:lnTo>
                  <a:lnTo>
                    <a:pt x="195" y="4"/>
                  </a:lnTo>
                  <a:lnTo>
                    <a:pt x="225" y="7"/>
                  </a:lnTo>
                  <a:lnTo>
                    <a:pt x="236" y="7"/>
                  </a:lnTo>
                  <a:lnTo>
                    <a:pt x="251" y="11"/>
                  </a:lnTo>
                  <a:lnTo>
                    <a:pt x="277" y="11"/>
                  </a:lnTo>
                  <a:lnTo>
                    <a:pt x="292" y="15"/>
                  </a:lnTo>
                  <a:lnTo>
                    <a:pt x="304" y="15"/>
                  </a:lnTo>
                  <a:lnTo>
                    <a:pt x="330" y="19"/>
                  </a:lnTo>
                  <a:lnTo>
                    <a:pt x="345" y="19"/>
                  </a:lnTo>
                  <a:lnTo>
                    <a:pt x="356" y="19"/>
                  </a:lnTo>
                  <a:lnTo>
                    <a:pt x="371" y="22"/>
                  </a:lnTo>
                  <a:lnTo>
                    <a:pt x="394" y="26"/>
                  </a:lnTo>
                  <a:lnTo>
                    <a:pt x="409" y="26"/>
                  </a:lnTo>
                  <a:lnTo>
                    <a:pt x="420" y="30"/>
                  </a:lnTo>
                  <a:lnTo>
                    <a:pt x="442" y="34"/>
                  </a:lnTo>
                  <a:lnTo>
                    <a:pt x="457" y="34"/>
                  </a:lnTo>
                  <a:lnTo>
                    <a:pt x="469" y="37"/>
                  </a:lnTo>
                  <a:lnTo>
                    <a:pt x="491" y="41"/>
                  </a:lnTo>
                  <a:lnTo>
                    <a:pt x="502" y="45"/>
                  </a:lnTo>
                  <a:lnTo>
                    <a:pt x="513" y="45"/>
                  </a:lnTo>
                  <a:lnTo>
                    <a:pt x="525" y="49"/>
                  </a:lnTo>
                  <a:lnTo>
                    <a:pt x="547" y="52"/>
                  </a:lnTo>
                  <a:lnTo>
                    <a:pt x="555" y="56"/>
                  </a:lnTo>
                  <a:lnTo>
                    <a:pt x="566" y="60"/>
                  </a:lnTo>
                  <a:lnTo>
                    <a:pt x="588" y="64"/>
                  </a:lnTo>
                  <a:lnTo>
                    <a:pt x="596" y="67"/>
                  </a:lnTo>
                  <a:lnTo>
                    <a:pt x="0" y="2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324480" y="4790880"/>
              <a:ext cx="2594160" cy="695160"/>
            </a:xfrm>
            <a:custGeom>
              <a:avLst/>
              <a:gdLst/>
              <a:ahLst/>
              <a:rect l="l" t="t" r="r" b="b"/>
              <a:pathLst>
                <a:path w="1634" h="438">
                  <a:moveTo>
                    <a:pt x="1634" y="0"/>
                  </a:moveTo>
                  <a:lnTo>
                    <a:pt x="1634" y="3"/>
                  </a:lnTo>
                  <a:lnTo>
                    <a:pt x="1630" y="11"/>
                  </a:lnTo>
                  <a:lnTo>
                    <a:pt x="1630" y="15"/>
                  </a:lnTo>
                  <a:lnTo>
                    <a:pt x="1630" y="18"/>
                  </a:lnTo>
                  <a:lnTo>
                    <a:pt x="1627" y="26"/>
                  </a:lnTo>
                  <a:lnTo>
                    <a:pt x="1627" y="30"/>
                  </a:lnTo>
                  <a:lnTo>
                    <a:pt x="1623" y="33"/>
                  </a:lnTo>
                  <a:lnTo>
                    <a:pt x="1619" y="41"/>
                  </a:lnTo>
                  <a:lnTo>
                    <a:pt x="1615" y="45"/>
                  </a:lnTo>
                  <a:lnTo>
                    <a:pt x="1612" y="48"/>
                  </a:lnTo>
                  <a:lnTo>
                    <a:pt x="1604" y="56"/>
                  </a:lnTo>
                  <a:lnTo>
                    <a:pt x="1600" y="60"/>
                  </a:lnTo>
                  <a:lnTo>
                    <a:pt x="1597" y="63"/>
                  </a:lnTo>
                  <a:lnTo>
                    <a:pt x="1589" y="71"/>
                  </a:lnTo>
                  <a:lnTo>
                    <a:pt x="1585" y="75"/>
                  </a:lnTo>
                  <a:lnTo>
                    <a:pt x="1578" y="75"/>
                  </a:lnTo>
                  <a:lnTo>
                    <a:pt x="1567" y="82"/>
                  </a:lnTo>
                  <a:lnTo>
                    <a:pt x="1563" y="86"/>
                  </a:lnTo>
                  <a:lnTo>
                    <a:pt x="1555" y="90"/>
                  </a:lnTo>
                  <a:lnTo>
                    <a:pt x="1544" y="97"/>
                  </a:lnTo>
                  <a:lnTo>
                    <a:pt x="1537" y="101"/>
                  </a:lnTo>
                  <a:lnTo>
                    <a:pt x="1529" y="105"/>
                  </a:lnTo>
                  <a:lnTo>
                    <a:pt x="1518" y="108"/>
                  </a:lnTo>
                  <a:lnTo>
                    <a:pt x="1510" y="112"/>
                  </a:lnTo>
                  <a:lnTo>
                    <a:pt x="1503" y="116"/>
                  </a:lnTo>
                  <a:lnTo>
                    <a:pt x="1484" y="123"/>
                  </a:lnTo>
                  <a:lnTo>
                    <a:pt x="1477" y="123"/>
                  </a:lnTo>
                  <a:lnTo>
                    <a:pt x="1469" y="127"/>
                  </a:lnTo>
                  <a:lnTo>
                    <a:pt x="1450" y="135"/>
                  </a:lnTo>
                  <a:lnTo>
                    <a:pt x="1443" y="138"/>
                  </a:lnTo>
                  <a:lnTo>
                    <a:pt x="1432" y="138"/>
                  </a:lnTo>
                  <a:lnTo>
                    <a:pt x="1413" y="146"/>
                  </a:lnTo>
                  <a:lnTo>
                    <a:pt x="1405" y="146"/>
                  </a:lnTo>
                  <a:lnTo>
                    <a:pt x="1394" y="150"/>
                  </a:lnTo>
                  <a:lnTo>
                    <a:pt x="1372" y="157"/>
                  </a:lnTo>
                  <a:lnTo>
                    <a:pt x="1364" y="157"/>
                  </a:lnTo>
                  <a:lnTo>
                    <a:pt x="1353" y="161"/>
                  </a:lnTo>
                  <a:lnTo>
                    <a:pt x="1330" y="165"/>
                  </a:lnTo>
                  <a:lnTo>
                    <a:pt x="1319" y="168"/>
                  </a:lnTo>
                  <a:lnTo>
                    <a:pt x="1308" y="168"/>
                  </a:lnTo>
                  <a:lnTo>
                    <a:pt x="1286" y="176"/>
                  </a:lnTo>
                  <a:lnTo>
                    <a:pt x="1274" y="176"/>
                  </a:lnTo>
                  <a:lnTo>
                    <a:pt x="1259" y="180"/>
                  </a:lnTo>
                  <a:lnTo>
                    <a:pt x="1237" y="183"/>
                  </a:lnTo>
                  <a:lnTo>
                    <a:pt x="1226" y="183"/>
                  </a:lnTo>
                  <a:lnTo>
                    <a:pt x="1211" y="187"/>
                  </a:lnTo>
                  <a:lnTo>
                    <a:pt x="1188" y="191"/>
                  </a:lnTo>
                  <a:lnTo>
                    <a:pt x="1173" y="191"/>
                  </a:lnTo>
                  <a:lnTo>
                    <a:pt x="1162" y="191"/>
                  </a:lnTo>
                  <a:lnTo>
                    <a:pt x="1136" y="195"/>
                  </a:lnTo>
                  <a:lnTo>
                    <a:pt x="1121" y="198"/>
                  </a:lnTo>
                  <a:lnTo>
                    <a:pt x="1109" y="198"/>
                  </a:lnTo>
                  <a:lnTo>
                    <a:pt x="1083" y="202"/>
                  </a:lnTo>
                  <a:lnTo>
                    <a:pt x="1068" y="202"/>
                  </a:lnTo>
                  <a:lnTo>
                    <a:pt x="1053" y="202"/>
                  </a:lnTo>
                  <a:lnTo>
                    <a:pt x="1027" y="206"/>
                  </a:lnTo>
                  <a:lnTo>
                    <a:pt x="1012" y="206"/>
                  </a:lnTo>
                  <a:lnTo>
                    <a:pt x="1001" y="206"/>
                  </a:lnTo>
                  <a:lnTo>
                    <a:pt x="971" y="210"/>
                  </a:lnTo>
                  <a:lnTo>
                    <a:pt x="960" y="210"/>
                  </a:lnTo>
                  <a:lnTo>
                    <a:pt x="945" y="210"/>
                  </a:lnTo>
                  <a:lnTo>
                    <a:pt x="915" y="210"/>
                  </a:lnTo>
                  <a:lnTo>
                    <a:pt x="903" y="210"/>
                  </a:lnTo>
                  <a:lnTo>
                    <a:pt x="888" y="213"/>
                  </a:lnTo>
                  <a:lnTo>
                    <a:pt x="858" y="213"/>
                  </a:lnTo>
                  <a:lnTo>
                    <a:pt x="843" y="213"/>
                  </a:lnTo>
                  <a:lnTo>
                    <a:pt x="832" y="213"/>
                  </a:lnTo>
                  <a:lnTo>
                    <a:pt x="802" y="213"/>
                  </a:lnTo>
                  <a:lnTo>
                    <a:pt x="787" y="213"/>
                  </a:lnTo>
                  <a:lnTo>
                    <a:pt x="772" y="213"/>
                  </a:lnTo>
                  <a:lnTo>
                    <a:pt x="746" y="213"/>
                  </a:lnTo>
                  <a:lnTo>
                    <a:pt x="731" y="210"/>
                  </a:lnTo>
                  <a:lnTo>
                    <a:pt x="716" y="210"/>
                  </a:lnTo>
                  <a:lnTo>
                    <a:pt x="690" y="210"/>
                  </a:lnTo>
                  <a:lnTo>
                    <a:pt x="675" y="210"/>
                  </a:lnTo>
                  <a:lnTo>
                    <a:pt x="660" y="210"/>
                  </a:lnTo>
                  <a:lnTo>
                    <a:pt x="634" y="206"/>
                  </a:lnTo>
                  <a:lnTo>
                    <a:pt x="619" y="206"/>
                  </a:lnTo>
                  <a:lnTo>
                    <a:pt x="604" y="206"/>
                  </a:lnTo>
                  <a:lnTo>
                    <a:pt x="577" y="202"/>
                  </a:lnTo>
                  <a:lnTo>
                    <a:pt x="562" y="202"/>
                  </a:lnTo>
                  <a:lnTo>
                    <a:pt x="551" y="202"/>
                  </a:lnTo>
                  <a:lnTo>
                    <a:pt x="525" y="198"/>
                  </a:lnTo>
                  <a:lnTo>
                    <a:pt x="510" y="198"/>
                  </a:lnTo>
                  <a:lnTo>
                    <a:pt x="499" y="195"/>
                  </a:lnTo>
                  <a:lnTo>
                    <a:pt x="472" y="191"/>
                  </a:lnTo>
                  <a:lnTo>
                    <a:pt x="457" y="191"/>
                  </a:lnTo>
                  <a:lnTo>
                    <a:pt x="446" y="191"/>
                  </a:lnTo>
                  <a:lnTo>
                    <a:pt x="420" y="187"/>
                  </a:lnTo>
                  <a:lnTo>
                    <a:pt x="409" y="183"/>
                  </a:lnTo>
                  <a:lnTo>
                    <a:pt x="394" y="183"/>
                  </a:lnTo>
                  <a:lnTo>
                    <a:pt x="371" y="180"/>
                  </a:lnTo>
                  <a:lnTo>
                    <a:pt x="360" y="176"/>
                  </a:lnTo>
                  <a:lnTo>
                    <a:pt x="349" y="176"/>
                  </a:lnTo>
                  <a:lnTo>
                    <a:pt x="326" y="168"/>
                  </a:lnTo>
                  <a:lnTo>
                    <a:pt x="315" y="168"/>
                  </a:lnTo>
                  <a:lnTo>
                    <a:pt x="304" y="165"/>
                  </a:lnTo>
                  <a:lnTo>
                    <a:pt x="281" y="161"/>
                  </a:lnTo>
                  <a:lnTo>
                    <a:pt x="270" y="157"/>
                  </a:lnTo>
                  <a:lnTo>
                    <a:pt x="259" y="157"/>
                  </a:lnTo>
                  <a:lnTo>
                    <a:pt x="240" y="150"/>
                  </a:lnTo>
                  <a:lnTo>
                    <a:pt x="229" y="146"/>
                  </a:lnTo>
                  <a:lnTo>
                    <a:pt x="218" y="146"/>
                  </a:lnTo>
                  <a:lnTo>
                    <a:pt x="199" y="138"/>
                  </a:lnTo>
                  <a:lnTo>
                    <a:pt x="191" y="138"/>
                  </a:lnTo>
                  <a:lnTo>
                    <a:pt x="180" y="135"/>
                  </a:lnTo>
                  <a:lnTo>
                    <a:pt x="165" y="127"/>
                  </a:lnTo>
                  <a:lnTo>
                    <a:pt x="154" y="123"/>
                  </a:lnTo>
                  <a:lnTo>
                    <a:pt x="146" y="123"/>
                  </a:lnTo>
                  <a:lnTo>
                    <a:pt x="131" y="116"/>
                  </a:lnTo>
                  <a:lnTo>
                    <a:pt x="124" y="112"/>
                  </a:lnTo>
                  <a:lnTo>
                    <a:pt x="117" y="108"/>
                  </a:lnTo>
                  <a:lnTo>
                    <a:pt x="102" y="105"/>
                  </a:lnTo>
                  <a:lnTo>
                    <a:pt x="94" y="101"/>
                  </a:lnTo>
                  <a:lnTo>
                    <a:pt x="90" y="97"/>
                  </a:lnTo>
                  <a:lnTo>
                    <a:pt x="75" y="90"/>
                  </a:lnTo>
                  <a:lnTo>
                    <a:pt x="72" y="86"/>
                  </a:lnTo>
                  <a:lnTo>
                    <a:pt x="64" y="82"/>
                  </a:lnTo>
                  <a:lnTo>
                    <a:pt x="53" y="75"/>
                  </a:lnTo>
                  <a:lnTo>
                    <a:pt x="49" y="75"/>
                  </a:lnTo>
                  <a:lnTo>
                    <a:pt x="45" y="71"/>
                  </a:lnTo>
                  <a:lnTo>
                    <a:pt x="34" y="63"/>
                  </a:lnTo>
                  <a:lnTo>
                    <a:pt x="30" y="60"/>
                  </a:lnTo>
                  <a:lnTo>
                    <a:pt x="27" y="56"/>
                  </a:lnTo>
                  <a:lnTo>
                    <a:pt x="19" y="48"/>
                  </a:lnTo>
                  <a:lnTo>
                    <a:pt x="19" y="45"/>
                  </a:lnTo>
                  <a:lnTo>
                    <a:pt x="15" y="41"/>
                  </a:lnTo>
                  <a:lnTo>
                    <a:pt x="8" y="33"/>
                  </a:lnTo>
                  <a:lnTo>
                    <a:pt x="8" y="30"/>
                  </a:lnTo>
                  <a:lnTo>
                    <a:pt x="4" y="26"/>
                  </a:lnTo>
                  <a:lnTo>
                    <a:pt x="4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0" y="228"/>
                  </a:lnTo>
                  <a:lnTo>
                    <a:pt x="0" y="236"/>
                  </a:lnTo>
                  <a:lnTo>
                    <a:pt x="0" y="240"/>
                  </a:lnTo>
                  <a:lnTo>
                    <a:pt x="4" y="243"/>
                  </a:lnTo>
                  <a:lnTo>
                    <a:pt x="4" y="251"/>
                  </a:lnTo>
                  <a:lnTo>
                    <a:pt x="8" y="254"/>
                  </a:lnTo>
                  <a:lnTo>
                    <a:pt x="8" y="258"/>
                  </a:lnTo>
                  <a:lnTo>
                    <a:pt x="15" y="266"/>
                  </a:lnTo>
                  <a:lnTo>
                    <a:pt x="19" y="269"/>
                  </a:lnTo>
                  <a:lnTo>
                    <a:pt x="19" y="273"/>
                  </a:lnTo>
                  <a:lnTo>
                    <a:pt x="27" y="281"/>
                  </a:lnTo>
                  <a:lnTo>
                    <a:pt x="30" y="284"/>
                  </a:lnTo>
                  <a:lnTo>
                    <a:pt x="34" y="288"/>
                  </a:lnTo>
                  <a:lnTo>
                    <a:pt x="45" y="296"/>
                  </a:lnTo>
                  <a:lnTo>
                    <a:pt x="49" y="299"/>
                  </a:lnTo>
                  <a:lnTo>
                    <a:pt x="53" y="299"/>
                  </a:lnTo>
                  <a:lnTo>
                    <a:pt x="64" y="307"/>
                  </a:lnTo>
                  <a:lnTo>
                    <a:pt x="72" y="311"/>
                  </a:lnTo>
                  <a:lnTo>
                    <a:pt x="75" y="314"/>
                  </a:lnTo>
                  <a:lnTo>
                    <a:pt x="90" y="322"/>
                  </a:lnTo>
                  <a:lnTo>
                    <a:pt x="94" y="326"/>
                  </a:lnTo>
                  <a:lnTo>
                    <a:pt x="102" y="329"/>
                  </a:lnTo>
                  <a:lnTo>
                    <a:pt x="117" y="333"/>
                  </a:lnTo>
                  <a:lnTo>
                    <a:pt x="124" y="337"/>
                  </a:lnTo>
                  <a:lnTo>
                    <a:pt x="131" y="341"/>
                  </a:lnTo>
                  <a:lnTo>
                    <a:pt x="146" y="348"/>
                  </a:lnTo>
                  <a:lnTo>
                    <a:pt x="154" y="348"/>
                  </a:lnTo>
                  <a:lnTo>
                    <a:pt x="165" y="352"/>
                  </a:lnTo>
                  <a:lnTo>
                    <a:pt x="180" y="359"/>
                  </a:lnTo>
                  <a:lnTo>
                    <a:pt x="191" y="363"/>
                  </a:lnTo>
                  <a:lnTo>
                    <a:pt x="199" y="363"/>
                  </a:lnTo>
                  <a:lnTo>
                    <a:pt x="218" y="371"/>
                  </a:lnTo>
                  <a:lnTo>
                    <a:pt x="229" y="371"/>
                  </a:lnTo>
                  <a:lnTo>
                    <a:pt x="240" y="374"/>
                  </a:lnTo>
                  <a:lnTo>
                    <a:pt x="259" y="382"/>
                  </a:lnTo>
                  <a:lnTo>
                    <a:pt x="270" y="382"/>
                  </a:lnTo>
                  <a:lnTo>
                    <a:pt x="281" y="386"/>
                  </a:lnTo>
                  <a:lnTo>
                    <a:pt x="304" y="389"/>
                  </a:lnTo>
                  <a:lnTo>
                    <a:pt x="315" y="393"/>
                  </a:lnTo>
                  <a:lnTo>
                    <a:pt x="326" y="393"/>
                  </a:lnTo>
                  <a:lnTo>
                    <a:pt x="349" y="401"/>
                  </a:lnTo>
                  <a:lnTo>
                    <a:pt x="360" y="401"/>
                  </a:lnTo>
                  <a:lnTo>
                    <a:pt x="371" y="404"/>
                  </a:lnTo>
                  <a:lnTo>
                    <a:pt x="394" y="408"/>
                  </a:lnTo>
                  <a:lnTo>
                    <a:pt x="409" y="408"/>
                  </a:lnTo>
                  <a:lnTo>
                    <a:pt x="420" y="412"/>
                  </a:lnTo>
                  <a:lnTo>
                    <a:pt x="446" y="416"/>
                  </a:lnTo>
                  <a:lnTo>
                    <a:pt x="457" y="416"/>
                  </a:lnTo>
                  <a:lnTo>
                    <a:pt x="472" y="416"/>
                  </a:lnTo>
                  <a:lnTo>
                    <a:pt x="499" y="419"/>
                  </a:lnTo>
                  <a:lnTo>
                    <a:pt x="510" y="423"/>
                  </a:lnTo>
                  <a:lnTo>
                    <a:pt x="525" y="423"/>
                  </a:lnTo>
                  <a:lnTo>
                    <a:pt x="551" y="427"/>
                  </a:lnTo>
                  <a:lnTo>
                    <a:pt x="562" y="427"/>
                  </a:lnTo>
                  <a:lnTo>
                    <a:pt x="577" y="427"/>
                  </a:lnTo>
                  <a:lnTo>
                    <a:pt x="604" y="431"/>
                  </a:lnTo>
                  <a:lnTo>
                    <a:pt x="619" y="431"/>
                  </a:lnTo>
                  <a:lnTo>
                    <a:pt x="634" y="431"/>
                  </a:lnTo>
                  <a:lnTo>
                    <a:pt x="660" y="434"/>
                  </a:lnTo>
                  <a:lnTo>
                    <a:pt x="675" y="434"/>
                  </a:lnTo>
                  <a:lnTo>
                    <a:pt x="690" y="434"/>
                  </a:lnTo>
                  <a:lnTo>
                    <a:pt x="716" y="434"/>
                  </a:lnTo>
                  <a:lnTo>
                    <a:pt x="731" y="434"/>
                  </a:lnTo>
                  <a:lnTo>
                    <a:pt x="746" y="438"/>
                  </a:lnTo>
                  <a:lnTo>
                    <a:pt x="772" y="438"/>
                  </a:lnTo>
                  <a:lnTo>
                    <a:pt x="787" y="438"/>
                  </a:lnTo>
                  <a:lnTo>
                    <a:pt x="802" y="438"/>
                  </a:lnTo>
                  <a:lnTo>
                    <a:pt x="832" y="438"/>
                  </a:lnTo>
                  <a:lnTo>
                    <a:pt x="843" y="438"/>
                  </a:lnTo>
                  <a:lnTo>
                    <a:pt x="858" y="438"/>
                  </a:lnTo>
                  <a:lnTo>
                    <a:pt x="888" y="438"/>
                  </a:lnTo>
                  <a:lnTo>
                    <a:pt x="903" y="434"/>
                  </a:lnTo>
                  <a:lnTo>
                    <a:pt x="915" y="434"/>
                  </a:lnTo>
                  <a:lnTo>
                    <a:pt x="945" y="434"/>
                  </a:lnTo>
                  <a:lnTo>
                    <a:pt x="960" y="434"/>
                  </a:lnTo>
                  <a:lnTo>
                    <a:pt x="971" y="434"/>
                  </a:lnTo>
                  <a:lnTo>
                    <a:pt x="1001" y="431"/>
                  </a:lnTo>
                  <a:lnTo>
                    <a:pt x="1012" y="431"/>
                  </a:lnTo>
                  <a:lnTo>
                    <a:pt x="1027" y="431"/>
                  </a:lnTo>
                  <a:lnTo>
                    <a:pt x="1053" y="427"/>
                  </a:lnTo>
                  <a:lnTo>
                    <a:pt x="1068" y="427"/>
                  </a:lnTo>
                  <a:lnTo>
                    <a:pt x="1083" y="427"/>
                  </a:lnTo>
                  <a:lnTo>
                    <a:pt x="1109" y="423"/>
                  </a:lnTo>
                  <a:lnTo>
                    <a:pt x="1121" y="423"/>
                  </a:lnTo>
                  <a:lnTo>
                    <a:pt x="1136" y="419"/>
                  </a:lnTo>
                  <a:lnTo>
                    <a:pt x="1162" y="416"/>
                  </a:lnTo>
                  <a:lnTo>
                    <a:pt x="1173" y="416"/>
                  </a:lnTo>
                  <a:lnTo>
                    <a:pt x="1188" y="416"/>
                  </a:lnTo>
                  <a:lnTo>
                    <a:pt x="1211" y="412"/>
                  </a:lnTo>
                  <a:lnTo>
                    <a:pt x="1226" y="408"/>
                  </a:lnTo>
                  <a:lnTo>
                    <a:pt x="1237" y="408"/>
                  </a:lnTo>
                  <a:lnTo>
                    <a:pt x="1259" y="404"/>
                  </a:lnTo>
                  <a:lnTo>
                    <a:pt x="1274" y="401"/>
                  </a:lnTo>
                  <a:lnTo>
                    <a:pt x="1286" y="401"/>
                  </a:lnTo>
                  <a:lnTo>
                    <a:pt x="1308" y="393"/>
                  </a:lnTo>
                  <a:lnTo>
                    <a:pt x="1319" y="393"/>
                  </a:lnTo>
                  <a:lnTo>
                    <a:pt x="1330" y="389"/>
                  </a:lnTo>
                  <a:lnTo>
                    <a:pt x="1353" y="386"/>
                  </a:lnTo>
                  <a:lnTo>
                    <a:pt x="1364" y="382"/>
                  </a:lnTo>
                  <a:lnTo>
                    <a:pt x="1372" y="382"/>
                  </a:lnTo>
                  <a:lnTo>
                    <a:pt x="1394" y="374"/>
                  </a:lnTo>
                  <a:lnTo>
                    <a:pt x="1405" y="371"/>
                  </a:lnTo>
                  <a:lnTo>
                    <a:pt x="1413" y="371"/>
                  </a:lnTo>
                  <a:lnTo>
                    <a:pt x="1432" y="363"/>
                  </a:lnTo>
                  <a:lnTo>
                    <a:pt x="1443" y="363"/>
                  </a:lnTo>
                  <a:lnTo>
                    <a:pt x="1450" y="359"/>
                  </a:lnTo>
                  <a:lnTo>
                    <a:pt x="1469" y="352"/>
                  </a:lnTo>
                  <a:lnTo>
                    <a:pt x="1477" y="348"/>
                  </a:lnTo>
                  <a:lnTo>
                    <a:pt x="1484" y="348"/>
                  </a:lnTo>
                  <a:lnTo>
                    <a:pt x="1503" y="341"/>
                  </a:lnTo>
                  <a:lnTo>
                    <a:pt x="1510" y="337"/>
                  </a:lnTo>
                  <a:lnTo>
                    <a:pt x="1518" y="333"/>
                  </a:lnTo>
                  <a:lnTo>
                    <a:pt x="1529" y="329"/>
                  </a:lnTo>
                  <a:lnTo>
                    <a:pt x="1537" y="326"/>
                  </a:lnTo>
                  <a:lnTo>
                    <a:pt x="1544" y="322"/>
                  </a:lnTo>
                  <a:lnTo>
                    <a:pt x="1555" y="314"/>
                  </a:lnTo>
                  <a:lnTo>
                    <a:pt x="1563" y="311"/>
                  </a:lnTo>
                  <a:lnTo>
                    <a:pt x="1567" y="307"/>
                  </a:lnTo>
                  <a:lnTo>
                    <a:pt x="1578" y="299"/>
                  </a:lnTo>
                  <a:lnTo>
                    <a:pt x="1585" y="299"/>
                  </a:lnTo>
                  <a:lnTo>
                    <a:pt x="1589" y="296"/>
                  </a:lnTo>
                  <a:lnTo>
                    <a:pt x="1597" y="288"/>
                  </a:lnTo>
                  <a:lnTo>
                    <a:pt x="1600" y="284"/>
                  </a:lnTo>
                  <a:lnTo>
                    <a:pt x="1604" y="281"/>
                  </a:lnTo>
                  <a:lnTo>
                    <a:pt x="1612" y="273"/>
                  </a:lnTo>
                  <a:lnTo>
                    <a:pt x="1615" y="269"/>
                  </a:lnTo>
                  <a:lnTo>
                    <a:pt x="1619" y="266"/>
                  </a:lnTo>
                  <a:lnTo>
                    <a:pt x="1623" y="258"/>
                  </a:lnTo>
                  <a:lnTo>
                    <a:pt x="1627" y="254"/>
                  </a:lnTo>
                  <a:lnTo>
                    <a:pt x="1627" y="251"/>
                  </a:lnTo>
                  <a:lnTo>
                    <a:pt x="1630" y="243"/>
                  </a:lnTo>
                  <a:lnTo>
                    <a:pt x="1630" y="240"/>
                  </a:lnTo>
                  <a:lnTo>
                    <a:pt x="1630" y="236"/>
                  </a:lnTo>
                  <a:lnTo>
                    <a:pt x="1634" y="228"/>
                  </a:lnTo>
                  <a:lnTo>
                    <a:pt x="1634" y="225"/>
                  </a:lnTo>
                  <a:lnTo>
                    <a:pt x="1634" y="0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321600" y="4470120"/>
              <a:ext cx="2593800" cy="671760"/>
            </a:xfrm>
            <a:custGeom>
              <a:avLst/>
              <a:gdLst/>
              <a:ahLst/>
              <a:rect l="l" t="t" r="r" b="b"/>
              <a:pathLst>
                <a:path w="1634" h="423">
                  <a:moveTo>
                    <a:pt x="1413" y="67"/>
                  </a:moveTo>
                  <a:lnTo>
                    <a:pt x="1424" y="67"/>
                  </a:lnTo>
                  <a:lnTo>
                    <a:pt x="1443" y="75"/>
                  </a:lnTo>
                  <a:lnTo>
                    <a:pt x="1450" y="79"/>
                  </a:lnTo>
                  <a:lnTo>
                    <a:pt x="1462" y="79"/>
                  </a:lnTo>
                  <a:lnTo>
                    <a:pt x="1477" y="86"/>
                  </a:lnTo>
                  <a:lnTo>
                    <a:pt x="1484" y="90"/>
                  </a:lnTo>
                  <a:lnTo>
                    <a:pt x="1492" y="94"/>
                  </a:lnTo>
                  <a:lnTo>
                    <a:pt x="1510" y="97"/>
                  </a:lnTo>
                  <a:lnTo>
                    <a:pt x="1518" y="101"/>
                  </a:lnTo>
                  <a:lnTo>
                    <a:pt x="1525" y="105"/>
                  </a:lnTo>
                  <a:lnTo>
                    <a:pt x="1537" y="112"/>
                  </a:lnTo>
                  <a:lnTo>
                    <a:pt x="1544" y="116"/>
                  </a:lnTo>
                  <a:lnTo>
                    <a:pt x="1552" y="116"/>
                  </a:lnTo>
                  <a:lnTo>
                    <a:pt x="1555" y="120"/>
                  </a:lnTo>
                  <a:lnTo>
                    <a:pt x="1567" y="127"/>
                  </a:lnTo>
                  <a:lnTo>
                    <a:pt x="1574" y="131"/>
                  </a:lnTo>
                  <a:lnTo>
                    <a:pt x="1578" y="135"/>
                  </a:lnTo>
                  <a:lnTo>
                    <a:pt x="1589" y="142"/>
                  </a:lnTo>
                  <a:lnTo>
                    <a:pt x="1593" y="146"/>
                  </a:lnTo>
                  <a:lnTo>
                    <a:pt x="1597" y="150"/>
                  </a:lnTo>
                  <a:lnTo>
                    <a:pt x="1604" y="157"/>
                  </a:lnTo>
                  <a:lnTo>
                    <a:pt x="1608" y="161"/>
                  </a:lnTo>
                  <a:lnTo>
                    <a:pt x="1612" y="165"/>
                  </a:lnTo>
                  <a:lnTo>
                    <a:pt x="1619" y="168"/>
                  </a:lnTo>
                  <a:lnTo>
                    <a:pt x="1619" y="172"/>
                  </a:lnTo>
                  <a:lnTo>
                    <a:pt x="1623" y="176"/>
                  </a:lnTo>
                  <a:lnTo>
                    <a:pt x="1627" y="183"/>
                  </a:lnTo>
                  <a:lnTo>
                    <a:pt x="1630" y="187"/>
                  </a:lnTo>
                  <a:lnTo>
                    <a:pt x="1630" y="191"/>
                  </a:lnTo>
                  <a:lnTo>
                    <a:pt x="1630" y="198"/>
                  </a:lnTo>
                  <a:lnTo>
                    <a:pt x="1634" y="202"/>
                  </a:lnTo>
                  <a:lnTo>
                    <a:pt x="1634" y="206"/>
                  </a:lnTo>
                  <a:lnTo>
                    <a:pt x="1634" y="213"/>
                  </a:lnTo>
                  <a:lnTo>
                    <a:pt x="1634" y="217"/>
                  </a:lnTo>
                  <a:lnTo>
                    <a:pt x="1630" y="221"/>
                  </a:lnTo>
                  <a:lnTo>
                    <a:pt x="1630" y="228"/>
                  </a:lnTo>
                  <a:lnTo>
                    <a:pt x="1630" y="232"/>
                  </a:lnTo>
                  <a:lnTo>
                    <a:pt x="1627" y="236"/>
                  </a:lnTo>
                  <a:lnTo>
                    <a:pt x="1623" y="243"/>
                  </a:lnTo>
                  <a:lnTo>
                    <a:pt x="1619" y="247"/>
                  </a:lnTo>
                  <a:lnTo>
                    <a:pt x="1619" y="251"/>
                  </a:lnTo>
                  <a:lnTo>
                    <a:pt x="1615" y="255"/>
                  </a:lnTo>
                  <a:lnTo>
                    <a:pt x="1608" y="262"/>
                  </a:lnTo>
                  <a:lnTo>
                    <a:pt x="1604" y="266"/>
                  </a:lnTo>
                  <a:lnTo>
                    <a:pt x="1600" y="270"/>
                  </a:lnTo>
                  <a:lnTo>
                    <a:pt x="1593" y="277"/>
                  </a:lnTo>
                  <a:lnTo>
                    <a:pt x="1589" y="281"/>
                  </a:lnTo>
                  <a:lnTo>
                    <a:pt x="1585" y="285"/>
                  </a:lnTo>
                  <a:lnTo>
                    <a:pt x="1574" y="288"/>
                  </a:lnTo>
                  <a:lnTo>
                    <a:pt x="1567" y="292"/>
                  </a:lnTo>
                  <a:lnTo>
                    <a:pt x="1563" y="296"/>
                  </a:lnTo>
                  <a:lnTo>
                    <a:pt x="1552" y="303"/>
                  </a:lnTo>
                  <a:lnTo>
                    <a:pt x="1544" y="307"/>
                  </a:lnTo>
                  <a:lnTo>
                    <a:pt x="1537" y="311"/>
                  </a:lnTo>
                  <a:lnTo>
                    <a:pt x="1525" y="318"/>
                  </a:lnTo>
                  <a:lnTo>
                    <a:pt x="1518" y="318"/>
                  </a:lnTo>
                  <a:lnTo>
                    <a:pt x="1510" y="322"/>
                  </a:lnTo>
                  <a:lnTo>
                    <a:pt x="1492" y="330"/>
                  </a:lnTo>
                  <a:lnTo>
                    <a:pt x="1484" y="333"/>
                  </a:lnTo>
                  <a:lnTo>
                    <a:pt x="1477" y="333"/>
                  </a:lnTo>
                  <a:lnTo>
                    <a:pt x="1462" y="341"/>
                  </a:lnTo>
                  <a:lnTo>
                    <a:pt x="1450" y="345"/>
                  </a:lnTo>
                  <a:lnTo>
                    <a:pt x="1443" y="348"/>
                  </a:lnTo>
                  <a:lnTo>
                    <a:pt x="1424" y="352"/>
                  </a:lnTo>
                  <a:lnTo>
                    <a:pt x="1413" y="356"/>
                  </a:lnTo>
                  <a:lnTo>
                    <a:pt x="1405" y="356"/>
                  </a:lnTo>
                  <a:lnTo>
                    <a:pt x="1394" y="360"/>
                  </a:lnTo>
                  <a:lnTo>
                    <a:pt x="1372" y="367"/>
                  </a:lnTo>
                  <a:lnTo>
                    <a:pt x="1364" y="367"/>
                  </a:lnTo>
                  <a:lnTo>
                    <a:pt x="1353" y="371"/>
                  </a:lnTo>
                  <a:lnTo>
                    <a:pt x="1330" y="375"/>
                  </a:lnTo>
                  <a:lnTo>
                    <a:pt x="1319" y="378"/>
                  </a:lnTo>
                  <a:lnTo>
                    <a:pt x="1308" y="378"/>
                  </a:lnTo>
                  <a:lnTo>
                    <a:pt x="1286" y="386"/>
                  </a:lnTo>
                  <a:lnTo>
                    <a:pt x="1274" y="386"/>
                  </a:lnTo>
                  <a:lnTo>
                    <a:pt x="1259" y="390"/>
                  </a:lnTo>
                  <a:lnTo>
                    <a:pt x="1237" y="393"/>
                  </a:lnTo>
                  <a:lnTo>
                    <a:pt x="1226" y="393"/>
                  </a:lnTo>
                  <a:lnTo>
                    <a:pt x="1211" y="397"/>
                  </a:lnTo>
                  <a:lnTo>
                    <a:pt x="1188" y="401"/>
                  </a:lnTo>
                  <a:lnTo>
                    <a:pt x="1173" y="401"/>
                  </a:lnTo>
                  <a:lnTo>
                    <a:pt x="1162" y="401"/>
                  </a:lnTo>
                  <a:lnTo>
                    <a:pt x="1136" y="405"/>
                  </a:lnTo>
                  <a:lnTo>
                    <a:pt x="1121" y="408"/>
                  </a:lnTo>
                  <a:lnTo>
                    <a:pt x="1109" y="408"/>
                  </a:lnTo>
                  <a:lnTo>
                    <a:pt x="1083" y="412"/>
                  </a:lnTo>
                  <a:lnTo>
                    <a:pt x="1068" y="412"/>
                  </a:lnTo>
                  <a:lnTo>
                    <a:pt x="1053" y="412"/>
                  </a:lnTo>
                  <a:lnTo>
                    <a:pt x="1027" y="416"/>
                  </a:lnTo>
                  <a:lnTo>
                    <a:pt x="1012" y="416"/>
                  </a:lnTo>
                  <a:lnTo>
                    <a:pt x="1001" y="416"/>
                  </a:lnTo>
                  <a:lnTo>
                    <a:pt x="971" y="420"/>
                  </a:lnTo>
                  <a:lnTo>
                    <a:pt x="960" y="420"/>
                  </a:lnTo>
                  <a:lnTo>
                    <a:pt x="945" y="420"/>
                  </a:lnTo>
                  <a:lnTo>
                    <a:pt x="930" y="420"/>
                  </a:lnTo>
                  <a:lnTo>
                    <a:pt x="903" y="420"/>
                  </a:lnTo>
                  <a:lnTo>
                    <a:pt x="888" y="423"/>
                  </a:lnTo>
                  <a:lnTo>
                    <a:pt x="873" y="423"/>
                  </a:lnTo>
                  <a:lnTo>
                    <a:pt x="843" y="423"/>
                  </a:lnTo>
                  <a:lnTo>
                    <a:pt x="832" y="423"/>
                  </a:lnTo>
                  <a:lnTo>
                    <a:pt x="817" y="423"/>
                  </a:lnTo>
                  <a:lnTo>
                    <a:pt x="787" y="423"/>
                  </a:lnTo>
                  <a:lnTo>
                    <a:pt x="772" y="423"/>
                  </a:lnTo>
                  <a:lnTo>
                    <a:pt x="761" y="423"/>
                  </a:lnTo>
                  <a:lnTo>
                    <a:pt x="731" y="420"/>
                  </a:lnTo>
                  <a:lnTo>
                    <a:pt x="716" y="420"/>
                  </a:lnTo>
                  <a:lnTo>
                    <a:pt x="701" y="420"/>
                  </a:lnTo>
                  <a:lnTo>
                    <a:pt x="675" y="420"/>
                  </a:lnTo>
                  <a:lnTo>
                    <a:pt x="660" y="420"/>
                  </a:lnTo>
                  <a:lnTo>
                    <a:pt x="645" y="420"/>
                  </a:lnTo>
                  <a:lnTo>
                    <a:pt x="619" y="416"/>
                  </a:lnTo>
                  <a:lnTo>
                    <a:pt x="604" y="416"/>
                  </a:lnTo>
                  <a:lnTo>
                    <a:pt x="592" y="416"/>
                  </a:lnTo>
                  <a:lnTo>
                    <a:pt x="562" y="412"/>
                  </a:lnTo>
                  <a:lnTo>
                    <a:pt x="551" y="412"/>
                  </a:lnTo>
                  <a:lnTo>
                    <a:pt x="536" y="408"/>
                  </a:lnTo>
                  <a:lnTo>
                    <a:pt x="510" y="408"/>
                  </a:lnTo>
                  <a:lnTo>
                    <a:pt x="499" y="405"/>
                  </a:lnTo>
                  <a:lnTo>
                    <a:pt x="484" y="405"/>
                  </a:lnTo>
                  <a:lnTo>
                    <a:pt x="472" y="401"/>
                  </a:lnTo>
                  <a:lnTo>
                    <a:pt x="446" y="401"/>
                  </a:lnTo>
                  <a:lnTo>
                    <a:pt x="431" y="397"/>
                  </a:lnTo>
                  <a:lnTo>
                    <a:pt x="420" y="397"/>
                  </a:lnTo>
                  <a:lnTo>
                    <a:pt x="394" y="393"/>
                  </a:lnTo>
                  <a:lnTo>
                    <a:pt x="383" y="390"/>
                  </a:lnTo>
                  <a:lnTo>
                    <a:pt x="371" y="390"/>
                  </a:lnTo>
                  <a:lnTo>
                    <a:pt x="349" y="386"/>
                  </a:lnTo>
                  <a:lnTo>
                    <a:pt x="338" y="382"/>
                  </a:lnTo>
                  <a:lnTo>
                    <a:pt x="326" y="378"/>
                  </a:lnTo>
                  <a:lnTo>
                    <a:pt x="304" y="375"/>
                  </a:lnTo>
                  <a:lnTo>
                    <a:pt x="293" y="375"/>
                  </a:lnTo>
                  <a:lnTo>
                    <a:pt x="281" y="371"/>
                  </a:lnTo>
                  <a:lnTo>
                    <a:pt x="259" y="367"/>
                  </a:lnTo>
                  <a:lnTo>
                    <a:pt x="248" y="363"/>
                  </a:lnTo>
                  <a:lnTo>
                    <a:pt x="240" y="360"/>
                  </a:lnTo>
                  <a:lnTo>
                    <a:pt x="218" y="356"/>
                  </a:lnTo>
                  <a:lnTo>
                    <a:pt x="210" y="352"/>
                  </a:lnTo>
                  <a:lnTo>
                    <a:pt x="199" y="348"/>
                  </a:lnTo>
                  <a:lnTo>
                    <a:pt x="180" y="345"/>
                  </a:lnTo>
                  <a:lnTo>
                    <a:pt x="173" y="341"/>
                  </a:lnTo>
                  <a:lnTo>
                    <a:pt x="165" y="337"/>
                  </a:lnTo>
                  <a:lnTo>
                    <a:pt x="146" y="333"/>
                  </a:lnTo>
                  <a:lnTo>
                    <a:pt x="139" y="330"/>
                  </a:lnTo>
                  <a:lnTo>
                    <a:pt x="131" y="326"/>
                  </a:lnTo>
                  <a:lnTo>
                    <a:pt x="124" y="322"/>
                  </a:lnTo>
                  <a:lnTo>
                    <a:pt x="109" y="318"/>
                  </a:lnTo>
                  <a:lnTo>
                    <a:pt x="102" y="315"/>
                  </a:lnTo>
                  <a:lnTo>
                    <a:pt x="94" y="311"/>
                  </a:lnTo>
                  <a:lnTo>
                    <a:pt x="83" y="303"/>
                  </a:lnTo>
                  <a:lnTo>
                    <a:pt x="75" y="300"/>
                  </a:lnTo>
                  <a:lnTo>
                    <a:pt x="72" y="296"/>
                  </a:lnTo>
                  <a:lnTo>
                    <a:pt x="60" y="288"/>
                  </a:lnTo>
                  <a:lnTo>
                    <a:pt x="53" y="285"/>
                  </a:lnTo>
                  <a:lnTo>
                    <a:pt x="49" y="285"/>
                  </a:lnTo>
                  <a:lnTo>
                    <a:pt x="38" y="277"/>
                  </a:lnTo>
                  <a:lnTo>
                    <a:pt x="34" y="273"/>
                  </a:lnTo>
                  <a:lnTo>
                    <a:pt x="30" y="270"/>
                  </a:lnTo>
                  <a:lnTo>
                    <a:pt x="23" y="262"/>
                  </a:lnTo>
                  <a:lnTo>
                    <a:pt x="19" y="258"/>
                  </a:lnTo>
                  <a:lnTo>
                    <a:pt x="19" y="255"/>
                  </a:lnTo>
                  <a:lnTo>
                    <a:pt x="12" y="247"/>
                  </a:lnTo>
                  <a:lnTo>
                    <a:pt x="8" y="243"/>
                  </a:lnTo>
                  <a:lnTo>
                    <a:pt x="8" y="240"/>
                  </a:lnTo>
                  <a:lnTo>
                    <a:pt x="4" y="232"/>
                  </a:lnTo>
                  <a:lnTo>
                    <a:pt x="4" y="228"/>
                  </a:lnTo>
                  <a:lnTo>
                    <a:pt x="0" y="225"/>
                  </a:lnTo>
                  <a:lnTo>
                    <a:pt x="0" y="217"/>
                  </a:lnTo>
                  <a:lnTo>
                    <a:pt x="0" y="213"/>
                  </a:lnTo>
                  <a:lnTo>
                    <a:pt x="0" y="210"/>
                  </a:lnTo>
                  <a:lnTo>
                    <a:pt x="0" y="202"/>
                  </a:lnTo>
                  <a:lnTo>
                    <a:pt x="0" y="198"/>
                  </a:lnTo>
                  <a:lnTo>
                    <a:pt x="0" y="195"/>
                  </a:lnTo>
                  <a:lnTo>
                    <a:pt x="4" y="191"/>
                  </a:lnTo>
                  <a:lnTo>
                    <a:pt x="4" y="183"/>
                  </a:lnTo>
                  <a:lnTo>
                    <a:pt x="8" y="180"/>
                  </a:lnTo>
                  <a:lnTo>
                    <a:pt x="8" y="176"/>
                  </a:lnTo>
                  <a:lnTo>
                    <a:pt x="15" y="168"/>
                  </a:lnTo>
                  <a:lnTo>
                    <a:pt x="19" y="168"/>
                  </a:lnTo>
                  <a:lnTo>
                    <a:pt x="19" y="165"/>
                  </a:lnTo>
                  <a:lnTo>
                    <a:pt x="27" y="157"/>
                  </a:lnTo>
                  <a:lnTo>
                    <a:pt x="30" y="153"/>
                  </a:lnTo>
                  <a:lnTo>
                    <a:pt x="34" y="150"/>
                  </a:lnTo>
                  <a:lnTo>
                    <a:pt x="45" y="142"/>
                  </a:lnTo>
                  <a:lnTo>
                    <a:pt x="49" y="139"/>
                  </a:lnTo>
                  <a:lnTo>
                    <a:pt x="53" y="135"/>
                  </a:lnTo>
                  <a:lnTo>
                    <a:pt x="64" y="127"/>
                  </a:lnTo>
                  <a:lnTo>
                    <a:pt x="72" y="124"/>
                  </a:lnTo>
                  <a:lnTo>
                    <a:pt x="75" y="120"/>
                  </a:lnTo>
                  <a:lnTo>
                    <a:pt x="90" y="116"/>
                  </a:lnTo>
                  <a:lnTo>
                    <a:pt x="94" y="112"/>
                  </a:lnTo>
                  <a:lnTo>
                    <a:pt x="102" y="109"/>
                  </a:lnTo>
                  <a:lnTo>
                    <a:pt x="117" y="101"/>
                  </a:lnTo>
                  <a:lnTo>
                    <a:pt x="124" y="97"/>
                  </a:lnTo>
                  <a:lnTo>
                    <a:pt x="131" y="94"/>
                  </a:lnTo>
                  <a:lnTo>
                    <a:pt x="146" y="90"/>
                  </a:lnTo>
                  <a:lnTo>
                    <a:pt x="154" y="86"/>
                  </a:lnTo>
                  <a:lnTo>
                    <a:pt x="165" y="82"/>
                  </a:lnTo>
                  <a:lnTo>
                    <a:pt x="173" y="79"/>
                  </a:lnTo>
                  <a:lnTo>
                    <a:pt x="191" y="75"/>
                  </a:lnTo>
                  <a:lnTo>
                    <a:pt x="199" y="71"/>
                  </a:lnTo>
                  <a:lnTo>
                    <a:pt x="210" y="67"/>
                  </a:lnTo>
                  <a:lnTo>
                    <a:pt x="229" y="64"/>
                  </a:lnTo>
                  <a:lnTo>
                    <a:pt x="240" y="60"/>
                  </a:lnTo>
                  <a:lnTo>
                    <a:pt x="248" y="60"/>
                  </a:lnTo>
                  <a:lnTo>
                    <a:pt x="270" y="52"/>
                  </a:lnTo>
                  <a:lnTo>
                    <a:pt x="281" y="52"/>
                  </a:lnTo>
                  <a:lnTo>
                    <a:pt x="293" y="49"/>
                  </a:lnTo>
                  <a:lnTo>
                    <a:pt x="315" y="45"/>
                  </a:lnTo>
                  <a:lnTo>
                    <a:pt x="326" y="41"/>
                  </a:lnTo>
                  <a:lnTo>
                    <a:pt x="338" y="41"/>
                  </a:lnTo>
                  <a:lnTo>
                    <a:pt x="360" y="34"/>
                  </a:lnTo>
                  <a:lnTo>
                    <a:pt x="371" y="34"/>
                  </a:lnTo>
                  <a:lnTo>
                    <a:pt x="383" y="30"/>
                  </a:lnTo>
                  <a:lnTo>
                    <a:pt x="409" y="26"/>
                  </a:lnTo>
                  <a:lnTo>
                    <a:pt x="420" y="26"/>
                  </a:lnTo>
                  <a:lnTo>
                    <a:pt x="431" y="22"/>
                  </a:lnTo>
                  <a:lnTo>
                    <a:pt x="457" y="19"/>
                  </a:lnTo>
                  <a:lnTo>
                    <a:pt x="472" y="19"/>
                  </a:lnTo>
                  <a:lnTo>
                    <a:pt x="484" y="19"/>
                  </a:lnTo>
                  <a:lnTo>
                    <a:pt x="510" y="15"/>
                  </a:lnTo>
                  <a:lnTo>
                    <a:pt x="525" y="15"/>
                  </a:lnTo>
                  <a:lnTo>
                    <a:pt x="536" y="11"/>
                  </a:lnTo>
                  <a:lnTo>
                    <a:pt x="562" y="11"/>
                  </a:lnTo>
                  <a:lnTo>
                    <a:pt x="577" y="7"/>
                  </a:lnTo>
                  <a:lnTo>
                    <a:pt x="592" y="7"/>
                  </a:lnTo>
                  <a:lnTo>
                    <a:pt x="604" y="7"/>
                  </a:lnTo>
                  <a:lnTo>
                    <a:pt x="634" y="4"/>
                  </a:lnTo>
                  <a:lnTo>
                    <a:pt x="645" y="4"/>
                  </a:lnTo>
                  <a:lnTo>
                    <a:pt x="660" y="4"/>
                  </a:lnTo>
                  <a:lnTo>
                    <a:pt x="690" y="0"/>
                  </a:lnTo>
                  <a:lnTo>
                    <a:pt x="701" y="0"/>
                  </a:lnTo>
                  <a:lnTo>
                    <a:pt x="716" y="0"/>
                  </a:lnTo>
                  <a:lnTo>
                    <a:pt x="746" y="0"/>
                  </a:lnTo>
                  <a:lnTo>
                    <a:pt x="761" y="0"/>
                  </a:lnTo>
                  <a:lnTo>
                    <a:pt x="772" y="0"/>
                  </a:lnTo>
                  <a:lnTo>
                    <a:pt x="802" y="0"/>
                  </a:lnTo>
                  <a:lnTo>
                    <a:pt x="817" y="0"/>
                  </a:lnTo>
                  <a:lnTo>
                    <a:pt x="817" y="210"/>
                  </a:lnTo>
                  <a:lnTo>
                    <a:pt x="1413" y="67"/>
                  </a:lnTo>
                  <a:close/>
                </a:path>
              </a:pathLst>
            </a:custGeom>
            <a:solidFill>
              <a:srgbClr val="00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1160" y="0"/>
            <a:ext cx="4789440" cy="6858000"/>
          </a:xfrm>
          <a:custGeom>
            <a:avLst/>
            <a:gdLst/>
            <a:ahLst/>
            <a:rect l="l" t="t" r="r" b="b"/>
            <a:pathLst>
              <a:path w="2704" h="3879">
                <a:moveTo>
                  <a:pt x="883" y="43"/>
                </a:moveTo>
                <a:lnTo>
                  <a:pt x="903" y="55"/>
                </a:lnTo>
                <a:lnTo>
                  <a:pt x="921" y="72"/>
                </a:lnTo>
                <a:lnTo>
                  <a:pt x="940" y="90"/>
                </a:lnTo>
                <a:lnTo>
                  <a:pt x="961" y="115"/>
                </a:lnTo>
                <a:lnTo>
                  <a:pt x="967" y="141"/>
                </a:lnTo>
                <a:lnTo>
                  <a:pt x="972" y="169"/>
                </a:lnTo>
                <a:lnTo>
                  <a:pt x="990" y="193"/>
                </a:lnTo>
                <a:lnTo>
                  <a:pt x="1014" y="213"/>
                </a:lnTo>
                <a:lnTo>
                  <a:pt x="1033" y="202"/>
                </a:lnTo>
                <a:lnTo>
                  <a:pt x="1057" y="196"/>
                </a:lnTo>
                <a:lnTo>
                  <a:pt x="1059" y="225"/>
                </a:lnTo>
                <a:lnTo>
                  <a:pt x="1063" y="252"/>
                </a:lnTo>
                <a:lnTo>
                  <a:pt x="1077" y="268"/>
                </a:lnTo>
                <a:lnTo>
                  <a:pt x="1098" y="258"/>
                </a:lnTo>
                <a:lnTo>
                  <a:pt x="1116" y="252"/>
                </a:lnTo>
                <a:lnTo>
                  <a:pt x="1119" y="273"/>
                </a:lnTo>
                <a:lnTo>
                  <a:pt x="1108" y="288"/>
                </a:lnTo>
                <a:lnTo>
                  <a:pt x="1120" y="304"/>
                </a:lnTo>
                <a:lnTo>
                  <a:pt x="1140" y="297"/>
                </a:lnTo>
                <a:lnTo>
                  <a:pt x="1156" y="307"/>
                </a:lnTo>
                <a:lnTo>
                  <a:pt x="1168" y="321"/>
                </a:lnTo>
                <a:lnTo>
                  <a:pt x="1159" y="343"/>
                </a:lnTo>
                <a:lnTo>
                  <a:pt x="1171" y="354"/>
                </a:lnTo>
                <a:lnTo>
                  <a:pt x="1191" y="361"/>
                </a:lnTo>
                <a:lnTo>
                  <a:pt x="1191" y="396"/>
                </a:lnTo>
                <a:lnTo>
                  <a:pt x="1215" y="403"/>
                </a:lnTo>
                <a:lnTo>
                  <a:pt x="1245" y="397"/>
                </a:lnTo>
                <a:lnTo>
                  <a:pt x="1243" y="372"/>
                </a:lnTo>
                <a:lnTo>
                  <a:pt x="1258" y="367"/>
                </a:lnTo>
                <a:lnTo>
                  <a:pt x="1275" y="375"/>
                </a:lnTo>
                <a:lnTo>
                  <a:pt x="1267" y="397"/>
                </a:lnTo>
                <a:lnTo>
                  <a:pt x="1257" y="412"/>
                </a:lnTo>
                <a:lnTo>
                  <a:pt x="1254" y="435"/>
                </a:lnTo>
                <a:lnTo>
                  <a:pt x="1255" y="477"/>
                </a:lnTo>
                <a:lnTo>
                  <a:pt x="1245" y="502"/>
                </a:lnTo>
                <a:lnTo>
                  <a:pt x="1234" y="522"/>
                </a:lnTo>
                <a:lnTo>
                  <a:pt x="1233" y="547"/>
                </a:lnTo>
                <a:lnTo>
                  <a:pt x="1261" y="550"/>
                </a:lnTo>
                <a:lnTo>
                  <a:pt x="1261" y="571"/>
                </a:lnTo>
                <a:lnTo>
                  <a:pt x="1272" y="589"/>
                </a:lnTo>
                <a:lnTo>
                  <a:pt x="1252" y="607"/>
                </a:lnTo>
                <a:lnTo>
                  <a:pt x="1233" y="622"/>
                </a:lnTo>
                <a:lnTo>
                  <a:pt x="1233" y="643"/>
                </a:lnTo>
                <a:lnTo>
                  <a:pt x="1267" y="642"/>
                </a:lnTo>
                <a:lnTo>
                  <a:pt x="1294" y="654"/>
                </a:lnTo>
                <a:lnTo>
                  <a:pt x="1296" y="676"/>
                </a:lnTo>
                <a:lnTo>
                  <a:pt x="1314" y="696"/>
                </a:lnTo>
                <a:lnTo>
                  <a:pt x="1332" y="708"/>
                </a:lnTo>
                <a:lnTo>
                  <a:pt x="1356" y="739"/>
                </a:lnTo>
                <a:lnTo>
                  <a:pt x="1372" y="757"/>
                </a:lnTo>
                <a:lnTo>
                  <a:pt x="1390" y="775"/>
                </a:lnTo>
                <a:lnTo>
                  <a:pt x="1411" y="771"/>
                </a:lnTo>
                <a:lnTo>
                  <a:pt x="1423" y="759"/>
                </a:lnTo>
                <a:lnTo>
                  <a:pt x="1428" y="781"/>
                </a:lnTo>
                <a:lnTo>
                  <a:pt x="1441" y="799"/>
                </a:lnTo>
                <a:lnTo>
                  <a:pt x="1455" y="793"/>
                </a:lnTo>
                <a:lnTo>
                  <a:pt x="1480" y="787"/>
                </a:lnTo>
                <a:lnTo>
                  <a:pt x="1492" y="772"/>
                </a:lnTo>
                <a:lnTo>
                  <a:pt x="1504" y="801"/>
                </a:lnTo>
                <a:lnTo>
                  <a:pt x="1516" y="822"/>
                </a:lnTo>
                <a:lnTo>
                  <a:pt x="1528" y="844"/>
                </a:lnTo>
                <a:lnTo>
                  <a:pt x="1551" y="856"/>
                </a:lnTo>
                <a:lnTo>
                  <a:pt x="1578" y="849"/>
                </a:lnTo>
                <a:lnTo>
                  <a:pt x="1605" y="861"/>
                </a:lnTo>
                <a:lnTo>
                  <a:pt x="1615" y="870"/>
                </a:lnTo>
                <a:lnTo>
                  <a:pt x="1644" y="859"/>
                </a:lnTo>
                <a:lnTo>
                  <a:pt x="1656" y="877"/>
                </a:lnTo>
                <a:lnTo>
                  <a:pt x="1677" y="883"/>
                </a:lnTo>
                <a:lnTo>
                  <a:pt x="1699" y="898"/>
                </a:lnTo>
                <a:lnTo>
                  <a:pt x="1720" y="915"/>
                </a:lnTo>
                <a:lnTo>
                  <a:pt x="1731" y="933"/>
                </a:lnTo>
                <a:lnTo>
                  <a:pt x="1716" y="942"/>
                </a:lnTo>
                <a:lnTo>
                  <a:pt x="1695" y="949"/>
                </a:lnTo>
                <a:lnTo>
                  <a:pt x="1678" y="961"/>
                </a:lnTo>
                <a:lnTo>
                  <a:pt x="1693" y="982"/>
                </a:lnTo>
                <a:lnTo>
                  <a:pt x="1684" y="1006"/>
                </a:lnTo>
                <a:lnTo>
                  <a:pt x="1653" y="1012"/>
                </a:lnTo>
                <a:lnTo>
                  <a:pt x="1627" y="1012"/>
                </a:lnTo>
                <a:lnTo>
                  <a:pt x="1600" y="1032"/>
                </a:lnTo>
                <a:lnTo>
                  <a:pt x="1594" y="1057"/>
                </a:lnTo>
                <a:lnTo>
                  <a:pt x="1612" y="1077"/>
                </a:lnTo>
                <a:lnTo>
                  <a:pt x="1639" y="1074"/>
                </a:lnTo>
                <a:lnTo>
                  <a:pt x="1660" y="1096"/>
                </a:lnTo>
                <a:lnTo>
                  <a:pt x="1687" y="1101"/>
                </a:lnTo>
                <a:lnTo>
                  <a:pt x="1708" y="1114"/>
                </a:lnTo>
                <a:lnTo>
                  <a:pt x="1734" y="1123"/>
                </a:lnTo>
                <a:lnTo>
                  <a:pt x="1746" y="1140"/>
                </a:lnTo>
                <a:lnTo>
                  <a:pt x="1740" y="1162"/>
                </a:lnTo>
                <a:lnTo>
                  <a:pt x="1717" y="1167"/>
                </a:lnTo>
                <a:lnTo>
                  <a:pt x="1696" y="1174"/>
                </a:lnTo>
                <a:lnTo>
                  <a:pt x="1668" y="1171"/>
                </a:lnTo>
                <a:lnTo>
                  <a:pt x="1636" y="1176"/>
                </a:lnTo>
                <a:lnTo>
                  <a:pt x="1611" y="1183"/>
                </a:lnTo>
                <a:lnTo>
                  <a:pt x="1609" y="1209"/>
                </a:lnTo>
                <a:lnTo>
                  <a:pt x="1617" y="1236"/>
                </a:lnTo>
                <a:lnTo>
                  <a:pt x="1614" y="1260"/>
                </a:lnTo>
                <a:lnTo>
                  <a:pt x="1620" y="1282"/>
                </a:lnTo>
                <a:lnTo>
                  <a:pt x="1641" y="1281"/>
                </a:lnTo>
                <a:lnTo>
                  <a:pt x="1657" y="1266"/>
                </a:lnTo>
                <a:lnTo>
                  <a:pt x="1678" y="1266"/>
                </a:lnTo>
                <a:lnTo>
                  <a:pt x="1707" y="1264"/>
                </a:lnTo>
                <a:lnTo>
                  <a:pt x="1732" y="1266"/>
                </a:lnTo>
                <a:lnTo>
                  <a:pt x="1756" y="1282"/>
                </a:lnTo>
                <a:lnTo>
                  <a:pt x="1770" y="1305"/>
                </a:lnTo>
                <a:lnTo>
                  <a:pt x="1776" y="1323"/>
                </a:lnTo>
                <a:lnTo>
                  <a:pt x="1768" y="1342"/>
                </a:lnTo>
                <a:lnTo>
                  <a:pt x="1783" y="1371"/>
                </a:lnTo>
                <a:lnTo>
                  <a:pt x="1816" y="1365"/>
                </a:lnTo>
                <a:lnTo>
                  <a:pt x="1842" y="1366"/>
                </a:lnTo>
                <a:lnTo>
                  <a:pt x="1875" y="1366"/>
                </a:lnTo>
                <a:lnTo>
                  <a:pt x="1902" y="1368"/>
                </a:lnTo>
                <a:lnTo>
                  <a:pt x="1930" y="1372"/>
                </a:lnTo>
                <a:lnTo>
                  <a:pt x="1953" y="1377"/>
                </a:lnTo>
                <a:lnTo>
                  <a:pt x="1987" y="1383"/>
                </a:lnTo>
                <a:lnTo>
                  <a:pt x="2008" y="1381"/>
                </a:lnTo>
                <a:lnTo>
                  <a:pt x="2023" y="1395"/>
                </a:lnTo>
                <a:lnTo>
                  <a:pt x="2035" y="1413"/>
                </a:lnTo>
                <a:lnTo>
                  <a:pt x="2041" y="1429"/>
                </a:lnTo>
                <a:lnTo>
                  <a:pt x="2041" y="1450"/>
                </a:lnTo>
                <a:lnTo>
                  <a:pt x="2047" y="1468"/>
                </a:lnTo>
                <a:lnTo>
                  <a:pt x="2064" y="1483"/>
                </a:lnTo>
                <a:lnTo>
                  <a:pt x="2073" y="1506"/>
                </a:lnTo>
                <a:lnTo>
                  <a:pt x="2080" y="1522"/>
                </a:lnTo>
                <a:lnTo>
                  <a:pt x="2095" y="1533"/>
                </a:lnTo>
                <a:lnTo>
                  <a:pt x="2116" y="1542"/>
                </a:lnTo>
                <a:lnTo>
                  <a:pt x="2139" y="1531"/>
                </a:lnTo>
                <a:lnTo>
                  <a:pt x="2149" y="1509"/>
                </a:lnTo>
                <a:lnTo>
                  <a:pt x="2172" y="1480"/>
                </a:lnTo>
                <a:lnTo>
                  <a:pt x="2181" y="1449"/>
                </a:lnTo>
                <a:lnTo>
                  <a:pt x="2193" y="1417"/>
                </a:lnTo>
                <a:lnTo>
                  <a:pt x="2202" y="1395"/>
                </a:lnTo>
                <a:lnTo>
                  <a:pt x="2215" y="1378"/>
                </a:lnTo>
                <a:lnTo>
                  <a:pt x="2223" y="1360"/>
                </a:lnTo>
                <a:lnTo>
                  <a:pt x="2244" y="1353"/>
                </a:lnTo>
                <a:lnTo>
                  <a:pt x="2268" y="1350"/>
                </a:lnTo>
                <a:lnTo>
                  <a:pt x="2287" y="1332"/>
                </a:lnTo>
                <a:lnTo>
                  <a:pt x="2304" y="1317"/>
                </a:lnTo>
                <a:lnTo>
                  <a:pt x="2323" y="1314"/>
                </a:lnTo>
                <a:lnTo>
                  <a:pt x="2346" y="1326"/>
                </a:lnTo>
                <a:lnTo>
                  <a:pt x="2359" y="1342"/>
                </a:lnTo>
                <a:lnTo>
                  <a:pt x="2370" y="1359"/>
                </a:lnTo>
                <a:lnTo>
                  <a:pt x="2394" y="1372"/>
                </a:lnTo>
                <a:lnTo>
                  <a:pt x="2416" y="1395"/>
                </a:lnTo>
                <a:lnTo>
                  <a:pt x="2436" y="1404"/>
                </a:lnTo>
                <a:lnTo>
                  <a:pt x="2455" y="1398"/>
                </a:lnTo>
                <a:lnTo>
                  <a:pt x="2482" y="1407"/>
                </a:lnTo>
                <a:lnTo>
                  <a:pt x="2497" y="1416"/>
                </a:lnTo>
                <a:lnTo>
                  <a:pt x="2514" y="1429"/>
                </a:lnTo>
                <a:lnTo>
                  <a:pt x="2524" y="1453"/>
                </a:lnTo>
                <a:lnTo>
                  <a:pt x="2521" y="1476"/>
                </a:lnTo>
                <a:lnTo>
                  <a:pt x="2505" y="1489"/>
                </a:lnTo>
                <a:lnTo>
                  <a:pt x="2473" y="1488"/>
                </a:lnTo>
                <a:lnTo>
                  <a:pt x="2452" y="1473"/>
                </a:lnTo>
                <a:lnTo>
                  <a:pt x="2431" y="1461"/>
                </a:lnTo>
                <a:lnTo>
                  <a:pt x="2407" y="1462"/>
                </a:lnTo>
                <a:lnTo>
                  <a:pt x="2391" y="1474"/>
                </a:lnTo>
                <a:lnTo>
                  <a:pt x="2395" y="1497"/>
                </a:lnTo>
                <a:lnTo>
                  <a:pt x="2386" y="1519"/>
                </a:lnTo>
                <a:lnTo>
                  <a:pt x="2367" y="1530"/>
                </a:lnTo>
                <a:lnTo>
                  <a:pt x="2343" y="1525"/>
                </a:lnTo>
                <a:lnTo>
                  <a:pt x="2322" y="1536"/>
                </a:lnTo>
                <a:lnTo>
                  <a:pt x="2338" y="1557"/>
                </a:lnTo>
                <a:lnTo>
                  <a:pt x="2355" y="1570"/>
                </a:lnTo>
                <a:lnTo>
                  <a:pt x="2352" y="1599"/>
                </a:lnTo>
                <a:lnTo>
                  <a:pt x="2367" y="1617"/>
                </a:lnTo>
                <a:lnTo>
                  <a:pt x="2367" y="1644"/>
                </a:lnTo>
                <a:lnTo>
                  <a:pt x="2386" y="1654"/>
                </a:lnTo>
                <a:lnTo>
                  <a:pt x="2400" y="1677"/>
                </a:lnTo>
                <a:lnTo>
                  <a:pt x="2419" y="1686"/>
                </a:lnTo>
                <a:lnTo>
                  <a:pt x="2445" y="1689"/>
                </a:lnTo>
                <a:lnTo>
                  <a:pt x="2470" y="1693"/>
                </a:lnTo>
                <a:lnTo>
                  <a:pt x="2479" y="1714"/>
                </a:lnTo>
                <a:lnTo>
                  <a:pt x="2473" y="1749"/>
                </a:lnTo>
                <a:lnTo>
                  <a:pt x="2454" y="1756"/>
                </a:lnTo>
                <a:lnTo>
                  <a:pt x="2448" y="1771"/>
                </a:lnTo>
                <a:lnTo>
                  <a:pt x="2460" y="1779"/>
                </a:lnTo>
                <a:lnTo>
                  <a:pt x="2437" y="1792"/>
                </a:lnTo>
                <a:lnTo>
                  <a:pt x="2431" y="1818"/>
                </a:lnTo>
                <a:lnTo>
                  <a:pt x="2436" y="1837"/>
                </a:lnTo>
                <a:lnTo>
                  <a:pt x="2437" y="1860"/>
                </a:lnTo>
                <a:lnTo>
                  <a:pt x="2440" y="1882"/>
                </a:lnTo>
                <a:lnTo>
                  <a:pt x="2416" y="1893"/>
                </a:lnTo>
                <a:lnTo>
                  <a:pt x="2391" y="1894"/>
                </a:lnTo>
                <a:lnTo>
                  <a:pt x="2373" y="1891"/>
                </a:lnTo>
                <a:lnTo>
                  <a:pt x="2352" y="1890"/>
                </a:lnTo>
                <a:lnTo>
                  <a:pt x="2343" y="1908"/>
                </a:lnTo>
                <a:lnTo>
                  <a:pt x="2326" y="1927"/>
                </a:lnTo>
                <a:lnTo>
                  <a:pt x="2307" y="1933"/>
                </a:lnTo>
                <a:lnTo>
                  <a:pt x="2289" y="1947"/>
                </a:lnTo>
                <a:lnTo>
                  <a:pt x="2269" y="1951"/>
                </a:lnTo>
                <a:lnTo>
                  <a:pt x="2260" y="1971"/>
                </a:lnTo>
                <a:lnTo>
                  <a:pt x="2262" y="1993"/>
                </a:lnTo>
                <a:lnTo>
                  <a:pt x="2256" y="2008"/>
                </a:lnTo>
                <a:lnTo>
                  <a:pt x="2259" y="2029"/>
                </a:lnTo>
                <a:lnTo>
                  <a:pt x="2268" y="2044"/>
                </a:lnTo>
                <a:lnTo>
                  <a:pt x="2283" y="2059"/>
                </a:lnTo>
                <a:lnTo>
                  <a:pt x="2274" y="2083"/>
                </a:lnTo>
                <a:lnTo>
                  <a:pt x="2263" y="2101"/>
                </a:lnTo>
                <a:lnTo>
                  <a:pt x="2274" y="2119"/>
                </a:lnTo>
                <a:lnTo>
                  <a:pt x="2283" y="2130"/>
                </a:lnTo>
                <a:lnTo>
                  <a:pt x="2298" y="2146"/>
                </a:lnTo>
                <a:lnTo>
                  <a:pt x="2295" y="2167"/>
                </a:lnTo>
                <a:lnTo>
                  <a:pt x="2296" y="2193"/>
                </a:lnTo>
                <a:lnTo>
                  <a:pt x="2310" y="2211"/>
                </a:lnTo>
                <a:lnTo>
                  <a:pt x="2326" y="2223"/>
                </a:lnTo>
                <a:lnTo>
                  <a:pt x="2347" y="2236"/>
                </a:lnTo>
                <a:lnTo>
                  <a:pt x="2361" y="2253"/>
                </a:lnTo>
                <a:lnTo>
                  <a:pt x="2355" y="2278"/>
                </a:lnTo>
                <a:lnTo>
                  <a:pt x="2358" y="2302"/>
                </a:lnTo>
                <a:lnTo>
                  <a:pt x="2356" y="2326"/>
                </a:lnTo>
                <a:lnTo>
                  <a:pt x="2371" y="2340"/>
                </a:lnTo>
                <a:lnTo>
                  <a:pt x="2368" y="2362"/>
                </a:lnTo>
                <a:lnTo>
                  <a:pt x="2380" y="2394"/>
                </a:lnTo>
                <a:lnTo>
                  <a:pt x="2401" y="2412"/>
                </a:lnTo>
                <a:lnTo>
                  <a:pt x="2422" y="2415"/>
                </a:lnTo>
                <a:lnTo>
                  <a:pt x="2428" y="2434"/>
                </a:lnTo>
                <a:lnTo>
                  <a:pt x="2440" y="2445"/>
                </a:lnTo>
                <a:lnTo>
                  <a:pt x="2455" y="2437"/>
                </a:lnTo>
                <a:lnTo>
                  <a:pt x="2473" y="2436"/>
                </a:lnTo>
                <a:lnTo>
                  <a:pt x="2476" y="2457"/>
                </a:lnTo>
                <a:lnTo>
                  <a:pt x="2487" y="2473"/>
                </a:lnTo>
                <a:lnTo>
                  <a:pt x="2512" y="2472"/>
                </a:lnTo>
                <a:lnTo>
                  <a:pt x="2532" y="2479"/>
                </a:lnTo>
                <a:lnTo>
                  <a:pt x="2542" y="2502"/>
                </a:lnTo>
                <a:lnTo>
                  <a:pt x="2571" y="2517"/>
                </a:lnTo>
                <a:lnTo>
                  <a:pt x="2590" y="2527"/>
                </a:lnTo>
                <a:lnTo>
                  <a:pt x="2590" y="2550"/>
                </a:lnTo>
                <a:lnTo>
                  <a:pt x="2592" y="2574"/>
                </a:lnTo>
                <a:lnTo>
                  <a:pt x="2610" y="2575"/>
                </a:lnTo>
                <a:lnTo>
                  <a:pt x="2611" y="2596"/>
                </a:lnTo>
                <a:lnTo>
                  <a:pt x="2628" y="2613"/>
                </a:lnTo>
                <a:lnTo>
                  <a:pt x="2644" y="2629"/>
                </a:lnTo>
                <a:lnTo>
                  <a:pt x="2670" y="2631"/>
                </a:lnTo>
                <a:lnTo>
                  <a:pt x="2695" y="2635"/>
                </a:lnTo>
                <a:lnTo>
                  <a:pt x="2704" y="2646"/>
                </a:lnTo>
                <a:lnTo>
                  <a:pt x="2700" y="2671"/>
                </a:lnTo>
                <a:lnTo>
                  <a:pt x="2704" y="2698"/>
                </a:lnTo>
                <a:lnTo>
                  <a:pt x="2689" y="2718"/>
                </a:lnTo>
                <a:lnTo>
                  <a:pt x="2664" y="2733"/>
                </a:lnTo>
                <a:lnTo>
                  <a:pt x="2638" y="2757"/>
                </a:lnTo>
                <a:lnTo>
                  <a:pt x="2631" y="2784"/>
                </a:lnTo>
                <a:lnTo>
                  <a:pt x="2617" y="2803"/>
                </a:lnTo>
                <a:lnTo>
                  <a:pt x="2586" y="2820"/>
                </a:lnTo>
                <a:lnTo>
                  <a:pt x="2563" y="2832"/>
                </a:lnTo>
                <a:lnTo>
                  <a:pt x="2557" y="2862"/>
                </a:lnTo>
                <a:lnTo>
                  <a:pt x="2559" y="2892"/>
                </a:lnTo>
                <a:lnTo>
                  <a:pt x="2550" y="2913"/>
                </a:lnTo>
                <a:lnTo>
                  <a:pt x="2533" y="2920"/>
                </a:lnTo>
                <a:lnTo>
                  <a:pt x="2515" y="2923"/>
                </a:lnTo>
                <a:lnTo>
                  <a:pt x="2497" y="2935"/>
                </a:lnTo>
                <a:lnTo>
                  <a:pt x="2479" y="2922"/>
                </a:lnTo>
                <a:lnTo>
                  <a:pt x="2460" y="2917"/>
                </a:lnTo>
                <a:lnTo>
                  <a:pt x="2442" y="2914"/>
                </a:lnTo>
                <a:lnTo>
                  <a:pt x="2424" y="2916"/>
                </a:lnTo>
                <a:lnTo>
                  <a:pt x="2422" y="2932"/>
                </a:lnTo>
                <a:lnTo>
                  <a:pt x="2407" y="2932"/>
                </a:lnTo>
                <a:lnTo>
                  <a:pt x="2392" y="2928"/>
                </a:lnTo>
                <a:lnTo>
                  <a:pt x="2386" y="2946"/>
                </a:lnTo>
                <a:lnTo>
                  <a:pt x="2373" y="2961"/>
                </a:lnTo>
                <a:lnTo>
                  <a:pt x="2352" y="2964"/>
                </a:lnTo>
                <a:lnTo>
                  <a:pt x="2335" y="2976"/>
                </a:lnTo>
                <a:lnTo>
                  <a:pt x="2338" y="2997"/>
                </a:lnTo>
                <a:lnTo>
                  <a:pt x="2355" y="3009"/>
                </a:lnTo>
                <a:lnTo>
                  <a:pt x="2364" y="3028"/>
                </a:lnTo>
                <a:lnTo>
                  <a:pt x="2379" y="3040"/>
                </a:lnTo>
                <a:lnTo>
                  <a:pt x="2376" y="3058"/>
                </a:lnTo>
                <a:lnTo>
                  <a:pt x="2367" y="3067"/>
                </a:lnTo>
                <a:lnTo>
                  <a:pt x="2359" y="3084"/>
                </a:lnTo>
                <a:lnTo>
                  <a:pt x="2362" y="3106"/>
                </a:lnTo>
                <a:lnTo>
                  <a:pt x="2347" y="3120"/>
                </a:lnTo>
                <a:lnTo>
                  <a:pt x="2359" y="3138"/>
                </a:lnTo>
                <a:lnTo>
                  <a:pt x="2344" y="3153"/>
                </a:lnTo>
                <a:lnTo>
                  <a:pt x="2347" y="3172"/>
                </a:lnTo>
                <a:lnTo>
                  <a:pt x="2337" y="3196"/>
                </a:lnTo>
                <a:lnTo>
                  <a:pt x="2361" y="3193"/>
                </a:lnTo>
                <a:lnTo>
                  <a:pt x="2376" y="3207"/>
                </a:lnTo>
                <a:lnTo>
                  <a:pt x="2376" y="3232"/>
                </a:lnTo>
                <a:lnTo>
                  <a:pt x="2394" y="3228"/>
                </a:lnTo>
                <a:lnTo>
                  <a:pt x="2412" y="3238"/>
                </a:lnTo>
                <a:lnTo>
                  <a:pt x="2421" y="3258"/>
                </a:lnTo>
                <a:lnTo>
                  <a:pt x="2416" y="3282"/>
                </a:lnTo>
                <a:lnTo>
                  <a:pt x="2406" y="3303"/>
                </a:lnTo>
                <a:lnTo>
                  <a:pt x="2410" y="3322"/>
                </a:lnTo>
                <a:lnTo>
                  <a:pt x="2397" y="3333"/>
                </a:lnTo>
                <a:lnTo>
                  <a:pt x="2382" y="3351"/>
                </a:lnTo>
                <a:lnTo>
                  <a:pt x="2379" y="3363"/>
                </a:lnTo>
                <a:lnTo>
                  <a:pt x="2361" y="3366"/>
                </a:lnTo>
                <a:lnTo>
                  <a:pt x="2364" y="3382"/>
                </a:lnTo>
                <a:lnTo>
                  <a:pt x="2353" y="3396"/>
                </a:lnTo>
                <a:lnTo>
                  <a:pt x="2350" y="3412"/>
                </a:lnTo>
                <a:lnTo>
                  <a:pt x="2326" y="3420"/>
                </a:lnTo>
                <a:lnTo>
                  <a:pt x="2299" y="3423"/>
                </a:lnTo>
                <a:lnTo>
                  <a:pt x="2269" y="3417"/>
                </a:lnTo>
                <a:lnTo>
                  <a:pt x="2251" y="3403"/>
                </a:lnTo>
                <a:lnTo>
                  <a:pt x="2254" y="3385"/>
                </a:lnTo>
                <a:lnTo>
                  <a:pt x="2245" y="3366"/>
                </a:lnTo>
                <a:lnTo>
                  <a:pt x="2224" y="3375"/>
                </a:lnTo>
                <a:lnTo>
                  <a:pt x="2208" y="3394"/>
                </a:lnTo>
                <a:lnTo>
                  <a:pt x="2188" y="3400"/>
                </a:lnTo>
                <a:lnTo>
                  <a:pt x="2164" y="3400"/>
                </a:lnTo>
                <a:lnTo>
                  <a:pt x="2157" y="3418"/>
                </a:lnTo>
                <a:lnTo>
                  <a:pt x="2142" y="3430"/>
                </a:lnTo>
                <a:lnTo>
                  <a:pt x="2121" y="3430"/>
                </a:lnTo>
                <a:lnTo>
                  <a:pt x="2098" y="3435"/>
                </a:lnTo>
                <a:lnTo>
                  <a:pt x="2076" y="3438"/>
                </a:lnTo>
                <a:lnTo>
                  <a:pt x="2056" y="3429"/>
                </a:lnTo>
                <a:lnTo>
                  <a:pt x="2031" y="3408"/>
                </a:lnTo>
                <a:lnTo>
                  <a:pt x="2010" y="3396"/>
                </a:lnTo>
                <a:lnTo>
                  <a:pt x="1992" y="3414"/>
                </a:lnTo>
                <a:lnTo>
                  <a:pt x="1990" y="3438"/>
                </a:lnTo>
                <a:lnTo>
                  <a:pt x="1962" y="3432"/>
                </a:lnTo>
                <a:lnTo>
                  <a:pt x="1933" y="3414"/>
                </a:lnTo>
                <a:lnTo>
                  <a:pt x="1924" y="3438"/>
                </a:lnTo>
                <a:lnTo>
                  <a:pt x="1909" y="3459"/>
                </a:lnTo>
                <a:lnTo>
                  <a:pt x="1884" y="3468"/>
                </a:lnTo>
                <a:lnTo>
                  <a:pt x="1855" y="3472"/>
                </a:lnTo>
                <a:lnTo>
                  <a:pt x="1846" y="3493"/>
                </a:lnTo>
                <a:lnTo>
                  <a:pt x="1825" y="3480"/>
                </a:lnTo>
                <a:lnTo>
                  <a:pt x="1803" y="3475"/>
                </a:lnTo>
                <a:lnTo>
                  <a:pt x="1777" y="3474"/>
                </a:lnTo>
                <a:lnTo>
                  <a:pt x="1759" y="3471"/>
                </a:lnTo>
                <a:lnTo>
                  <a:pt x="1741" y="3478"/>
                </a:lnTo>
                <a:lnTo>
                  <a:pt x="1726" y="3490"/>
                </a:lnTo>
                <a:lnTo>
                  <a:pt x="1711" y="3480"/>
                </a:lnTo>
                <a:lnTo>
                  <a:pt x="1714" y="3462"/>
                </a:lnTo>
                <a:lnTo>
                  <a:pt x="1693" y="3456"/>
                </a:lnTo>
                <a:lnTo>
                  <a:pt x="1675" y="3457"/>
                </a:lnTo>
                <a:lnTo>
                  <a:pt x="1663" y="3471"/>
                </a:lnTo>
                <a:lnTo>
                  <a:pt x="1663" y="3486"/>
                </a:lnTo>
                <a:lnTo>
                  <a:pt x="1662" y="3505"/>
                </a:lnTo>
                <a:lnTo>
                  <a:pt x="1653" y="3489"/>
                </a:lnTo>
                <a:lnTo>
                  <a:pt x="1632" y="3484"/>
                </a:lnTo>
                <a:lnTo>
                  <a:pt x="1618" y="3501"/>
                </a:lnTo>
                <a:lnTo>
                  <a:pt x="1596" y="3523"/>
                </a:lnTo>
                <a:lnTo>
                  <a:pt x="1584" y="3549"/>
                </a:lnTo>
                <a:lnTo>
                  <a:pt x="1581" y="3571"/>
                </a:lnTo>
                <a:lnTo>
                  <a:pt x="1578" y="3589"/>
                </a:lnTo>
                <a:lnTo>
                  <a:pt x="1591" y="3606"/>
                </a:lnTo>
                <a:lnTo>
                  <a:pt x="1570" y="3613"/>
                </a:lnTo>
                <a:lnTo>
                  <a:pt x="1551" y="3624"/>
                </a:lnTo>
                <a:lnTo>
                  <a:pt x="1525" y="3625"/>
                </a:lnTo>
                <a:lnTo>
                  <a:pt x="1513" y="3601"/>
                </a:lnTo>
                <a:lnTo>
                  <a:pt x="1512" y="3582"/>
                </a:lnTo>
                <a:lnTo>
                  <a:pt x="1501" y="3564"/>
                </a:lnTo>
                <a:lnTo>
                  <a:pt x="1486" y="3546"/>
                </a:lnTo>
                <a:lnTo>
                  <a:pt x="1468" y="3528"/>
                </a:lnTo>
                <a:lnTo>
                  <a:pt x="1441" y="3520"/>
                </a:lnTo>
                <a:lnTo>
                  <a:pt x="1423" y="3535"/>
                </a:lnTo>
                <a:lnTo>
                  <a:pt x="1398" y="3550"/>
                </a:lnTo>
                <a:lnTo>
                  <a:pt x="1386" y="3571"/>
                </a:lnTo>
                <a:lnTo>
                  <a:pt x="1363" y="3570"/>
                </a:lnTo>
                <a:lnTo>
                  <a:pt x="1344" y="3589"/>
                </a:lnTo>
                <a:lnTo>
                  <a:pt x="1318" y="3589"/>
                </a:lnTo>
                <a:lnTo>
                  <a:pt x="1302" y="3601"/>
                </a:lnTo>
                <a:lnTo>
                  <a:pt x="1288" y="3621"/>
                </a:lnTo>
                <a:lnTo>
                  <a:pt x="1267" y="3613"/>
                </a:lnTo>
                <a:lnTo>
                  <a:pt x="1255" y="3627"/>
                </a:lnTo>
                <a:lnTo>
                  <a:pt x="1228" y="3622"/>
                </a:lnTo>
                <a:lnTo>
                  <a:pt x="1222" y="3646"/>
                </a:lnTo>
                <a:lnTo>
                  <a:pt x="1204" y="3651"/>
                </a:lnTo>
                <a:lnTo>
                  <a:pt x="1210" y="3667"/>
                </a:lnTo>
                <a:lnTo>
                  <a:pt x="1200" y="3679"/>
                </a:lnTo>
                <a:lnTo>
                  <a:pt x="1197" y="3705"/>
                </a:lnTo>
                <a:lnTo>
                  <a:pt x="1198" y="3724"/>
                </a:lnTo>
                <a:lnTo>
                  <a:pt x="1210" y="3739"/>
                </a:lnTo>
                <a:lnTo>
                  <a:pt x="1200" y="3754"/>
                </a:lnTo>
                <a:lnTo>
                  <a:pt x="1216" y="3771"/>
                </a:lnTo>
                <a:lnTo>
                  <a:pt x="1206" y="3775"/>
                </a:lnTo>
                <a:lnTo>
                  <a:pt x="1200" y="3795"/>
                </a:lnTo>
                <a:lnTo>
                  <a:pt x="1212" y="3808"/>
                </a:lnTo>
                <a:lnTo>
                  <a:pt x="1200" y="3820"/>
                </a:lnTo>
                <a:lnTo>
                  <a:pt x="1180" y="3828"/>
                </a:lnTo>
                <a:lnTo>
                  <a:pt x="1165" y="3838"/>
                </a:lnTo>
                <a:lnTo>
                  <a:pt x="1150" y="3856"/>
                </a:lnTo>
                <a:lnTo>
                  <a:pt x="1128" y="3870"/>
                </a:lnTo>
                <a:lnTo>
                  <a:pt x="1110" y="3879"/>
                </a:lnTo>
                <a:lnTo>
                  <a:pt x="1084" y="3877"/>
                </a:lnTo>
                <a:lnTo>
                  <a:pt x="1077" y="3856"/>
                </a:lnTo>
                <a:lnTo>
                  <a:pt x="1081" y="3841"/>
                </a:lnTo>
                <a:lnTo>
                  <a:pt x="1074" y="3826"/>
                </a:lnTo>
                <a:lnTo>
                  <a:pt x="1083" y="3813"/>
                </a:lnTo>
                <a:lnTo>
                  <a:pt x="1101" y="3810"/>
                </a:lnTo>
                <a:lnTo>
                  <a:pt x="1089" y="3792"/>
                </a:lnTo>
                <a:lnTo>
                  <a:pt x="1095" y="3766"/>
                </a:lnTo>
                <a:lnTo>
                  <a:pt x="1111" y="3759"/>
                </a:lnTo>
                <a:lnTo>
                  <a:pt x="1120" y="3744"/>
                </a:lnTo>
                <a:lnTo>
                  <a:pt x="1116" y="3718"/>
                </a:lnTo>
                <a:lnTo>
                  <a:pt x="1104" y="3702"/>
                </a:lnTo>
                <a:lnTo>
                  <a:pt x="1105" y="3673"/>
                </a:lnTo>
                <a:lnTo>
                  <a:pt x="1090" y="3642"/>
                </a:lnTo>
                <a:lnTo>
                  <a:pt x="1077" y="3624"/>
                </a:lnTo>
                <a:lnTo>
                  <a:pt x="1080" y="3604"/>
                </a:lnTo>
                <a:lnTo>
                  <a:pt x="1078" y="3583"/>
                </a:lnTo>
                <a:lnTo>
                  <a:pt x="1065" y="3561"/>
                </a:lnTo>
                <a:lnTo>
                  <a:pt x="1050" y="3531"/>
                </a:lnTo>
                <a:lnTo>
                  <a:pt x="1050" y="3502"/>
                </a:lnTo>
                <a:lnTo>
                  <a:pt x="1038" y="3493"/>
                </a:lnTo>
                <a:lnTo>
                  <a:pt x="1033" y="3477"/>
                </a:lnTo>
                <a:lnTo>
                  <a:pt x="1018" y="3460"/>
                </a:lnTo>
                <a:lnTo>
                  <a:pt x="999" y="3448"/>
                </a:lnTo>
                <a:lnTo>
                  <a:pt x="975" y="3447"/>
                </a:lnTo>
                <a:lnTo>
                  <a:pt x="960" y="3426"/>
                </a:lnTo>
                <a:lnTo>
                  <a:pt x="934" y="3423"/>
                </a:lnTo>
                <a:lnTo>
                  <a:pt x="925" y="3403"/>
                </a:lnTo>
                <a:lnTo>
                  <a:pt x="901" y="3414"/>
                </a:lnTo>
                <a:lnTo>
                  <a:pt x="885" y="3414"/>
                </a:lnTo>
                <a:lnTo>
                  <a:pt x="865" y="3412"/>
                </a:lnTo>
                <a:lnTo>
                  <a:pt x="862" y="3391"/>
                </a:lnTo>
                <a:lnTo>
                  <a:pt x="864" y="3373"/>
                </a:lnTo>
                <a:lnTo>
                  <a:pt x="858" y="3352"/>
                </a:lnTo>
                <a:lnTo>
                  <a:pt x="844" y="3337"/>
                </a:lnTo>
                <a:lnTo>
                  <a:pt x="853" y="3327"/>
                </a:lnTo>
                <a:lnTo>
                  <a:pt x="835" y="3295"/>
                </a:lnTo>
                <a:lnTo>
                  <a:pt x="834" y="3268"/>
                </a:lnTo>
                <a:lnTo>
                  <a:pt x="814" y="3258"/>
                </a:lnTo>
                <a:lnTo>
                  <a:pt x="817" y="3235"/>
                </a:lnTo>
                <a:lnTo>
                  <a:pt x="790" y="3226"/>
                </a:lnTo>
                <a:lnTo>
                  <a:pt x="769" y="3232"/>
                </a:lnTo>
                <a:lnTo>
                  <a:pt x="769" y="3214"/>
                </a:lnTo>
                <a:lnTo>
                  <a:pt x="753" y="3193"/>
                </a:lnTo>
                <a:lnTo>
                  <a:pt x="762" y="3171"/>
                </a:lnTo>
                <a:lnTo>
                  <a:pt x="753" y="3154"/>
                </a:lnTo>
                <a:lnTo>
                  <a:pt x="762" y="3135"/>
                </a:lnTo>
                <a:lnTo>
                  <a:pt x="778" y="3112"/>
                </a:lnTo>
                <a:lnTo>
                  <a:pt x="766" y="3097"/>
                </a:lnTo>
                <a:lnTo>
                  <a:pt x="748" y="3084"/>
                </a:lnTo>
                <a:lnTo>
                  <a:pt x="736" y="3075"/>
                </a:lnTo>
                <a:lnTo>
                  <a:pt x="718" y="3043"/>
                </a:lnTo>
                <a:lnTo>
                  <a:pt x="724" y="3025"/>
                </a:lnTo>
                <a:lnTo>
                  <a:pt x="744" y="3007"/>
                </a:lnTo>
                <a:lnTo>
                  <a:pt x="765" y="3018"/>
                </a:lnTo>
                <a:lnTo>
                  <a:pt x="786" y="3030"/>
                </a:lnTo>
                <a:lnTo>
                  <a:pt x="811" y="3030"/>
                </a:lnTo>
                <a:lnTo>
                  <a:pt x="826" y="3042"/>
                </a:lnTo>
                <a:lnTo>
                  <a:pt x="855" y="3030"/>
                </a:lnTo>
                <a:lnTo>
                  <a:pt x="880" y="3022"/>
                </a:lnTo>
                <a:lnTo>
                  <a:pt x="871" y="2989"/>
                </a:lnTo>
                <a:lnTo>
                  <a:pt x="891" y="2976"/>
                </a:lnTo>
                <a:lnTo>
                  <a:pt x="901" y="2962"/>
                </a:lnTo>
                <a:lnTo>
                  <a:pt x="930" y="2962"/>
                </a:lnTo>
                <a:lnTo>
                  <a:pt x="945" y="2959"/>
                </a:lnTo>
                <a:lnTo>
                  <a:pt x="934" y="2938"/>
                </a:lnTo>
                <a:lnTo>
                  <a:pt x="940" y="2916"/>
                </a:lnTo>
                <a:lnTo>
                  <a:pt x="924" y="2896"/>
                </a:lnTo>
                <a:lnTo>
                  <a:pt x="901" y="2887"/>
                </a:lnTo>
                <a:lnTo>
                  <a:pt x="877" y="2881"/>
                </a:lnTo>
                <a:lnTo>
                  <a:pt x="852" y="2866"/>
                </a:lnTo>
                <a:lnTo>
                  <a:pt x="826" y="2850"/>
                </a:lnTo>
                <a:lnTo>
                  <a:pt x="802" y="2823"/>
                </a:lnTo>
                <a:lnTo>
                  <a:pt x="781" y="2844"/>
                </a:lnTo>
                <a:lnTo>
                  <a:pt x="756" y="2815"/>
                </a:lnTo>
                <a:lnTo>
                  <a:pt x="739" y="2790"/>
                </a:lnTo>
                <a:lnTo>
                  <a:pt x="717" y="2782"/>
                </a:lnTo>
                <a:lnTo>
                  <a:pt x="694" y="2760"/>
                </a:lnTo>
                <a:lnTo>
                  <a:pt x="696" y="2740"/>
                </a:lnTo>
                <a:lnTo>
                  <a:pt x="681" y="2710"/>
                </a:lnTo>
                <a:lnTo>
                  <a:pt x="663" y="2724"/>
                </a:lnTo>
                <a:lnTo>
                  <a:pt x="646" y="2742"/>
                </a:lnTo>
                <a:lnTo>
                  <a:pt x="637" y="2731"/>
                </a:lnTo>
                <a:lnTo>
                  <a:pt x="625" y="2710"/>
                </a:lnTo>
                <a:lnTo>
                  <a:pt x="610" y="2722"/>
                </a:lnTo>
                <a:lnTo>
                  <a:pt x="592" y="2724"/>
                </a:lnTo>
                <a:lnTo>
                  <a:pt x="586" y="2698"/>
                </a:lnTo>
                <a:lnTo>
                  <a:pt x="558" y="2697"/>
                </a:lnTo>
                <a:lnTo>
                  <a:pt x="556" y="2671"/>
                </a:lnTo>
                <a:lnTo>
                  <a:pt x="531" y="2671"/>
                </a:lnTo>
                <a:lnTo>
                  <a:pt x="513" y="2655"/>
                </a:lnTo>
                <a:lnTo>
                  <a:pt x="490" y="2652"/>
                </a:lnTo>
                <a:lnTo>
                  <a:pt x="477" y="2646"/>
                </a:lnTo>
                <a:lnTo>
                  <a:pt x="457" y="2632"/>
                </a:lnTo>
                <a:lnTo>
                  <a:pt x="454" y="2604"/>
                </a:lnTo>
                <a:lnTo>
                  <a:pt x="433" y="2599"/>
                </a:lnTo>
                <a:lnTo>
                  <a:pt x="405" y="2596"/>
                </a:lnTo>
                <a:lnTo>
                  <a:pt x="396" y="2577"/>
                </a:lnTo>
                <a:lnTo>
                  <a:pt x="399" y="2553"/>
                </a:lnTo>
                <a:lnTo>
                  <a:pt x="393" y="2526"/>
                </a:lnTo>
                <a:lnTo>
                  <a:pt x="370" y="2524"/>
                </a:lnTo>
                <a:lnTo>
                  <a:pt x="351" y="2509"/>
                </a:lnTo>
                <a:lnTo>
                  <a:pt x="345" y="2487"/>
                </a:lnTo>
                <a:lnTo>
                  <a:pt x="345" y="2466"/>
                </a:lnTo>
                <a:lnTo>
                  <a:pt x="330" y="2458"/>
                </a:lnTo>
                <a:lnTo>
                  <a:pt x="304" y="2452"/>
                </a:lnTo>
                <a:lnTo>
                  <a:pt x="286" y="2436"/>
                </a:lnTo>
                <a:lnTo>
                  <a:pt x="264" y="2430"/>
                </a:lnTo>
                <a:lnTo>
                  <a:pt x="258" y="2415"/>
                </a:lnTo>
                <a:lnTo>
                  <a:pt x="231" y="2409"/>
                </a:lnTo>
                <a:lnTo>
                  <a:pt x="205" y="2388"/>
                </a:lnTo>
                <a:lnTo>
                  <a:pt x="193" y="2364"/>
                </a:lnTo>
                <a:lnTo>
                  <a:pt x="198" y="2344"/>
                </a:lnTo>
                <a:lnTo>
                  <a:pt x="219" y="2340"/>
                </a:lnTo>
                <a:lnTo>
                  <a:pt x="214" y="2320"/>
                </a:lnTo>
                <a:lnTo>
                  <a:pt x="217" y="2305"/>
                </a:lnTo>
                <a:lnTo>
                  <a:pt x="214" y="2292"/>
                </a:lnTo>
                <a:lnTo>
                  <a:pt x="219" y="2278"/>
                </a:lnTo>
                <a:lnTo>
                  <a:pt x="235" y="2275"/>
                </a:lnTo>
                <a:lnTo>
                  <a:pt x="250" y="2278"/>
                </a:lnTo>
                <a:lnTo>
                  <a:pt x="265" y="2289"/>
                </a:lnTo>
                <a:lnTo>
                  <a:pt x="283" y="2281"/>
                </a:lnTo>
                <a:lnTo>
                  <a:pt x="297" y="2266"/>
                </a:lnTo>
                <a:lnTo>
                  <a:pt x="306" y="2280"/>
                </a:lnTo>
                <a:lnTo>
                  <a:pt x="304" y="2298"/>
                </a:lnTo>
                <a:lnTo>
                  <a:pt x="319" y="2307"/>
                </a:lnTo>
                <a:lnTo>
                  <a:pt x="340" y="2295"/>
                </a:lnTo>
                <a:lnTo>
                  <a:pt x="363" y="2301"/>
                </a:lnTo>
                <a:lnTo>
                  <a:pt x="384" y="2301"/>
                </a:lnTo>
                <a:lnTo>
                  <a:pt x="388" y="2283"/>
                </a:lnTo>
                <a:lnTo>
                  <a:pt x="376" y="2272"/>
                </a:lnTo>
                <a:lnTo>
                  <a:pt x="373" y="2253"/>
                </a:lnTo>
                <a:lnTo>
                  <a:pt x="384" y="2235"/>
                </a:lnTo>
                <a:lnTo>
                  <a:pt x="396" y="2235"/>
                </a:lnTo>
                <a:lnTo>
                  <a:pt x="408" y="2232"/>
                </a:lnTo>
                <a:lnTo>
                  <a:pt x="406" y="2215"/>
                </a:lnTo>
                <a:lnTo>
                  <a:pt x="400" y="2194"/>
                </a:lnTo>
                <a:lnTo>
                  <a:pt x="381" y="2176"/>
                </a:lnTo>
                <a:lnTo>
                  <a:pt x="372" y="2152"/>
                </a:lnTo>
                <a:lnTo>
                  <a:pt x="348" y="2131"/>
                </a:lnTo>
                <a:lnTo>
                  <a:pt x="340" y="2107"/>
                </a:lnTo>
                <a:lnTo>
                  <a:pt x="318" y="2106"/>
                </a:lnTo>
                <a:lnTo>
                  <a:pt x="304" y="2079"/>
                </a:lnTo>
                <a:lnTo>
                  <a:pt x="283" y="2059"/>
                </a:lnTo>
                <a:lnTo>
                  <a:pt x="273" y="2032"/>
                </a:lnTo>
                <a:lnTo>
                  <a:pt x="256" y="2007"/>
                </a:lnTo>
                <a:lnTo>
                  <a:pt x="240" y="1990"/>
                </a:lnTo>
                <a:lnTo>
                  <a:pt x="226" y="1966"/>
                </a:lnTo>
                <a:lnTo>
                  <a:pt x="217" y="1950"/>
                </a:lnTo>
                <a:lnTo>
                  <a:pt x="210" y="1932"/>
                </a:lnTo>
                <a:lnTo>
                  <a:pt x="216" y="1909"/>
                </a:lnTo>
                <a:lnTo>
                  <a:pt x="240" y="1920"/>
                </a:lnTo>
                <a:lnTo>
                  <a:pt x="264" y="1923"/>
                </a:lnTo>
                <a:lnTo>
                  <a:pt x="283" y="1936"/>
                </a:lnTo>
                <a:lnTo>
                  <a:pt x="303" y="1953"/>
                </a:lnTo>
                <a:lnTo>
                  <a:pt x="328" y="1962"/>
                </a:lnTo>
                <a:lnTo>
                  <a:pt x="358" y="1963"/>
                </a:lnTo>
                <a:lnTo>
                  <a:pt x="390" y="1965"/>
                </a:lnTo>
                <a:lnTo>
                  <a:pt x="414" y="1962"/>
                </a:lnTo>
                <a:lnTo>
                  <a:pt x="436" y="1947"/>
                </a:lnTo>
                <a:lnTo>
                  <a:pt x="433" y="1929"/>
                </a:lnTo>
                <a:lnTo>
                  <a:pt x="459" y="1923"/>
                </a:lnTo>
                <a:lnTo>
                  <a:pt x="474" y="1906"/>
                </a:lnTo>
                <a:lnTo>
                  <a:pt x="471" y="1884"/>
                </a:lnTo>
                <a:lnTo>
                  <a:pt x="456" y="1873"/>
                </a:lnTo>
                <a:lnTo>
                  <a:pt x="448" y="1884"/>
                </a:lnTo>
                <a:lnTo>
                  <a:pt x="433" y="1887"/>
                </a:lnTo>
                <a:lnTo>
                  <a:pt x="420" y="1869"/>
                </a:lnTo>
                <a:lnTo>
                  <a:pt x="397" y="1857"/>
                </a:lnTo>
                <a:lnTo>
                  <a:pt x="382" y="1837"/>
                </a:lnTo>
                <a:lnTo>
                  <a:pt x="372" y="1816"/>
                </a:lnTo>
                <a:lnTo>
                  <a:pt x="376" y="1798"/>
                </a:lnTo>
                <a:lnTo>
                  <a:pt x="349" y="1813"/>
                </a:lnTo>
                <a:lnTo>
                  <a:pt x="339" y="1800"/>
                </a:lnTo>
                <a:lnTo>
                  <a:pt x="328" y="1776"/>
                </a:lnTo>
                <a:lnTo>
                  <a:pt x="301" y="1759"/>
                </a:lnTo>
                <a:lnTo>
                  <a:pt x="291" y="1740"/>
                </a:lnTo>
                <a:lnTo>
                  <a:pt x="298" y="1720"/>
                </a:lnTo>
                <a:lnTo>
                  <a:pt x="285" y="1708"/>
                </a:lnTo>
                <a:lnTo>
                  <a:pt x="282" y="1687"/>
                </a:lnTo>
                <a:lnTo>
                  <a:pt x="264" y="1689"/>
                </a:lnTo>
                <a:lnTo>
                  <a:pt x="249" y="1681"/>
                </a:lnTo>
                <a:lnTo>
                  <a:pt x="234" y="1698"/>
                </a:lnTo>
                <a:lnTo>
                  <a:pt x="216" y="1687"/>
                </a:lnTo>
                <a:lnTo>
                  <a:pt x="205" y="1666"/>
                </a:lnTo>
                <a:lnTo>
                  <a:pt x="186" y="1677"/>
                </a:lnTo>
                <a:lnTo>
                  <a:pt x="174" y="1663"/>
                </a:lnTo>
                <a:lnTo>
                  <a:pt x="160" y="1651"/>
                </a:lnTo>
                <a:lnTo>
                  <a:pt x="159" y="1632"/>
                </a:lnTo>
                <a:lnTo>
                  <a:pt x="153" y="1620"/>
                </a:lnTo>
                <a:lnTo>
                  <a:pt x="144" y="1603"/>
                </a:lnTo>
                <a:lnTo>
                  <a:pt x="136" y="1579"/>
                </a:lnTo>
                <a:lnTo>
                  <a:pt x="159" y="1567"/>
                </a:lnTo>
                <a:lnTo>
                  <a:pt x="174" y="1552"/>
                </a:lnTo>
                <a:lnTo>
                  <a:pt x="162" y="1519"/>
                </a:lnTo>
                <a:lnTo>
                  <a:pt x="165" y="1500"/>
                </a:lnTo>
                <a:lnTo>
                  <a:pt x="160" y="1480"/>
                </a:lnTo>
                <a:lnTo>
                  <a:pt x="168" y="1462"/>
                </a:lnTo>
                <a:lnTo>
                  <a:pt x="195" y="1462"/>
                </a:lnTo>
                <a:lnTo>
                  <a:pt x="202" y="1435"/>
                </a:lnTo>
                <a:lnTo>
                  <a:pt x="201" y="1411"/>
                </a:lnTo>
                <a:lnTo>
                  <a:pt x="219" y="1393"/>
                </a:lnTo>
                <a:lnTo>
                  <a:pt x="219" y="1377"/>
                </a:lnTo>
                <a:lnTo>
                  <a:pt x="250" y="1363"/>
                </a:lnTo>
                <a:lnTo>
                  <a:pt x="246" y="1342"/>
                </a:lnTo>
                <a:lnTo>
                  <a:pt x="265" y="1330"/>
                </a:lnTo>
                <a:lnTo>
                  <a:pt x="285" y="1302"/>
                </a:lnTo>
                <a:lnTo>
                  <a:pt x="280" y="1276"/>
                </a:lnTo>
                <a:lnTo>
                  <a:pt x="294" y="1270"/>
                </a:lnTo>
                <a:lnTo>
                  <a:pt x="292" y="1254"/>
                </a:lnTo>
                <a:lnTo>
                  <a:pt x="276" y="1231"/>
                </a:lnTo>
                <a:lnTo>
                  <a:pt x="289" y="1213"/>
                </a:lnTo>
                <a:lnTo>
                  <a:pt x="295" y="1198"/>
                </a:lnTo>
                <a:lnTo>
                  <a:pt x="321" y="1194"/>
                </a:lnTo>
                <a:lnTo>
                  <a:pt x="310" y="1174"/>
                </a:lnTo>
                <a:lnTo>
                  <a:pt x="325" y="1158"/>
                </a:lnTo>
                <a:lnTo>
                  <a:pt x="309" y="1138"/>
                </a:lnTo>
                <a:lnTo>
                  <a:pt x="279" y="1119"/>
                </a:lnTo>
                <a:lnTo>
                  <a:pt x="249" y="1120"/>
                </a:lnTo>
                <a:lnTo>
                  <a:pt x="228" y="1137"/>
                </a:lnTo>
                <a:lnTo>
                  <a:pt x="217" y="1123"/>
                </a:lnTo>
                <a:lnTo>
                  <a:pt x="202" y="1104"/>
                </a:lnTo>
                <a:lnTo>
                  <a:pt x="189" y="1119"/>
                </a:lnTo>
                <a:lnTo>
                  <a:pt x="169" y="1129"/>
                </a:lnTo>
                <a:lnTo>
                  <a:pt x="142" y="1140"/>
                </a:lnTo>
                <a:lnTo>
                  <a:pt x="124" y="1158"/>
                </a:lnTo>
                <a:lnTo>
                  <a:pt x="94" y="1167"/>
                </a:lnTo>
                <a:lnTo>
                  <a:pt x="148" y="1141"/>
                </a:lnTo>
                <a:lnTo>
                  <a:pt x="199" y="1110"/>
                </a:lnTo>
                <a:lnTo>
                  <a:pt x="180" y="1125"/>
                </a:lnTo>
                <a:lnTo>
                  <a:pt x="157" y="1137"/>
                </a:lnTo>
                <a:lnTo>
                  <a:pt x="141" y="1147"/>
                </a:lnTo>
                <a:lnTo>
                  <a:pt x="133" y="1152"/>
                </a:lnTo>
                <a:lnTo>
                  <a:pt x="114" y="1161"/>
                </a:lnTo>
                <a:lnTo>
                  <a:pt x="105" y="1162"/>
                </a:lnTo>
                <a:lnTo>
                  <a:pt x="91" y="1159"/>
                </a:lnTo>
                <a:lnTo>
                  <a:pt x="90" y="1153"/>
                </a:lnTo>
                <a:lnTo>
                  <a:pt x="87" y="1143"/>
                </a:lnTo>
                <a:lnTo>
                  <a:pt x="81" y="1129"/>
                </a:lnTo>
                <a:lnTo>
                  <a:pt x="76" y="1114"/>
                </a:lnTo>
                <a:lnTo>
                  <a:pt x="91" y="1110"/>
                </a:lnTo>
                <a:lnTo>
                  <a:pt x="109" y="1108"/>
                </a:lnTo>
                <a:lnTo>
                  <a:pt x="121" y="1113"/>
                </a:lnTo>
                <a:lnTo>
                  <a:pt x="142" y="1119"/>
                </a:lnTo>
                <a:lnTo>
                  <a:pt x="142" y="1108"/>
                </a:lnTo>
                <a:lnTo>
                  <a:pt x="162" y="1098"/>
                </a:lnTo>
                <a:lnTo>
                  <a:pt x="187" y="1092"/>
                </a:lnTo>
                <a:lnTo>
                  <a:pt x="184" y="1071"/>
                </a:lnTo>
                <a:lnTo>
                  <a:pt x="171" y="1053"/>
                </a:lnTo>
                <a:lnTo>
                  <a:pt x="151" y="1063"/>
                </a:lnTo>
                <a:lnTo>
                  <a:pt x="127" y="1057"/>
                </a:lnTo>
                <a:lnTo>
                  <a:pt x="147" y="1044"/>
                </a:lnTo>
                <a:lnTo>
                  <a:pt x="157" y="1026"/>
                </a:lnTo>
                <a:lnTo>
                  <a:pt x="159" y="1002"/>
                </a:lnTo>
                <a:lnTo>
                  <a:pt x="159" y="970"/>
                </a:lnTo>
                <a:lnTo>
                  <a:pt x="150" y="948"/>
                </a:lnTo>
                <a:lnTo>
                  <a:pt x="142" y="931"/>
                </a:lnTo>
                <a:lnTo>
                  <a:pt x="145" y="912"/>
                </a:lnTo>
                <a:lnTo>
                  <a:pt x="175" y="919"/>
                </a:lnTo>
                <a:lnTo>
                  <a:pt x="196" y="910"/>
                </a:lnTo>
                <a:lnTo>
                  <a:pt x="205" y="895"/>
                </a:lnTo>
                <a:lnTo>
                  <a:pt x="204" y="874"/>
                </a:lnTo>
                <a:lnTo>
                  <a:pt x="207" y="858"/>
                </a:lnTo>
                <a:lnTo>
                  <a:pt x="226" y="874"/>
                </a:lnTo>
                <a:lnTo>
                  <a:pt x="244" y="886"/>
                </a:lnTo>
                <a:lnTo>
                  <a:pt x="268" y="892"/>
                </a:lnTo>
                <a:lnTo>
                  <a:pt x="274" y="874"/>
                </a:lnTo>
                <a:lnTo>
                  <a:pt x="282" y="853"/>
                </a:lnTo>
                <a:lnTo>
                  <a:pt x="304" y="859"/>
                </a:lnTo>
                <a:lnTo>
                  <a:pt x="307" y="883"/>
                </a:lnTo>
                <a:lnTo>
                  <a:pt x="321" y="900"/>
                </a:lnTo>
                <a:lnTo>
                  <a:pt x="345" y="898"/>
                </a:lnTo>
                <a:lnTo>
                  <a:pt x="370" y="895"/>
                </a:lnTo>
                <a:lnTo>
                  <a:pt x="381" y="874"/>
                </a:lnTo>
                <a:lnTo>
                  <a:pt x="376" y="855"/>
                </a:lnTo>
                <a:lnTo>
                  <a:pt x="358" y="838"/>
                </a:lnTo>
                <a:lnTo>
                  <a:pt x="331" y="840"/>
                </a:lnTo>
                <a:lnTo>
                  <a:pt x="303" y="838"/>
                </a:lnTo>
                <a:lnTo>
                  <a:pt x="273" y="835"/>
                </a:lnTo>
                <a:lnTo>
                  <a:pt x="250" y="823"/>
                </a:lnTo>
                <a:lnTo>
                  <a:pt x="229" y="810"/>
                </a:lnTo>
                <a:lnTo>
                  <a:pt x="204" y="802"/>
                </a:lnTo>
                <a:lnTo>
                  <a:pt x="192" y="795"/>
                </a:lnTo>
                <a:lnTo>
                  <a:pt x="171" y="783"/>
                </a:lnTo>
                <a:lnTo>
                  <a:pt x="159" y="762"/>
                </a:lnTo>
                <a:lnTo>
                  <a:pt x="147" y="735"/>
                </a:lnTo>
                <a:lnTo>
                  <a:pt x="117" y="729"/>
                </a:lnTo>
                <a:lnTo>
                  <a:pt x="96" y="723"/>
                </a:lnTo>
                <a:lnTo>
                  <a:pt x="79" y="702"/>
                </a:lnTo>
                <a:lnTo>
                  <a:pt x="84" y="678"/>
                </a:lnTo>
                <a:lnTo>
                  <a:pt x="111" y="678"/>
                </a:lnTo>
                <a:lnTo>
                  <a:pt x="120" y="663"/>
                </a:lnTo>
                <a:lnTo>
                  <a:pt x="97" y="649"/>
                </a:lnTo>
                <a:lnTo>
                  <a:pt x="99" y="621"/>
                </a:lnTo>
                <a:lnTo>
                  <a:pt x="105" y="600"/>
                </a:lnTo>
                <a:lnTo>
                  <a:pt x="132" y="609"/>
                </a:lnTo>
                <a:lnTo>
                  <a:pt x="151" y="607"/>
                </a:lnTo>
                <a:lnTo>
                  <a:pt x="168" y="595"/>
                </a:lnTo>
                <a:lnTo>
                  <a:pt x="165" y="571"/>
                </a:lnTo>
                <a:lnTo>
                  <a:pt x="142" y="567"/>
                </a:lnTo>
                <a:lnTo>
                  <a:pt x="127" y="552"/>
                </a:lnTo>
                <a:lnTo>
                  <a:pt x="94" y="561"/>
                </a:lnTo>
                <a:lnTo>
                  <a:pt x="60" y="562"/>
                </a:lnTo>
                <a:lnTo>
                  <a:pt x="34" y="550"/>
                </a:lnTo>
                <a:lnTo>
                  <a:pt x="21" y="532"/>
                </a:lnTo>
                <a:lnTo>
                  <a:pt x="24" y="514"/>
                </a:lnTo>
                <a:lnTo>
                  <a:pt x="22" y="496"/>
                </a:lnTo>
                <a:lnTo>
                  <a:pt x="39" y="486"/>
                </a:lnTo>
                <a:lnTo>
                  <a:pt x="49" y="471"/>
                </a:lnTo>
                <a:lnTo>
                  <a:pt x="67" y="456"/>
                </a:lnTo>
                <a:lnTo>
                  <a:pt x="87" y="447"/>
                </a:lnTo>
                <a:lnTo>
                  <a:pt x="85" y="430"/>
                </a:lnTo>
                <a:lnTo>
                  <a:pt x="67" y="432"/>
                </a:lnTo>
                <a:lnTo>
                  <a:pt x="45" y="424"/>
                </a:lnTo>
                <a:lnTo>
                  <a:pt x="33" y="405"/>
                </a:lnTo>
                <a:lnTo>
                  <a:pt x="37" y="385"/>
                </a:lnTo>
                <a:lnTo>
                  <a:pt x="42" y="360"/>
                </a:lnTo>
                <a:lnTo>
                  <a:pt x="24" y="334"/>
                </a:lnTo>
                <a:lnTo>
                  <a:pt x="12" y="313"/>
                </a:lnTo>
                <a:lnTo>
                  <a:pt x="12" y="297"/>
                </a:lnTo>
                <a:lnTo>
                  <a:pt x="25" y="282"/>
                </a:lnTo>
                <a:lnTo>
                  <a:pt x="18" y="265"/>
                </a:lnTo>
                <a:lnTo>
                  <a:pt x="1" y="258"/>
                </a:lnTo>
                <a:lnTo>
                  <a:pt x="0" y="243"/>
                </a:lnTo>
                <a:lnTo>
                  <a:pt x="19" y="234"/>
                </a:lnTo>
                <a:lnTo>
                  <a:pt x="37" y="228"/>
                </a:lnTo>
                <a:lnTo>
                  <a:pt x="40" y="211"/>
                </a:lnTo>
                <a:lnTo>
                  <a:pt x="58" y="210"/>
                </a:lnTo>
                <a:lnTo>
                  <a:pt x="81" y="217"/>
                </a:lnTo>
                <a:lnTo>
                  <a:pt x="108" y="220"/>
                </a:lnTo>
                <a:lnTo>
                  <a:pt x="112" y="204"/>
                </a:lnTo>
                <a:lnTo>
                  <a:pt x="118" y="186"/>
                </a:lnTo>
                <a:lnTo>
                  <a:pt x="138" y="189"/>
                </a:lnTo>
                <a:lnTo>
                  <a:pt x="163" y="190"/>
                </a:lnTo>
                <a:lnTo>
                  <a:pt x="162" y="172"/>
                </a:lnTo>
                <a:lnTo>
                  <a:pt x="157" y="153"/>
                </a:lnTo>
                <a:lnTo>
                  <a:pt x="168" y="135"/>
                </a:lnTo>
                <a:lnTo>
                  <a:pt x="186" y="121"/>
                </a:lnTo>
                <a:lnTo>
                  <a:pt x="204" y="121"/>
                </a:lnTo>
                <a:lnTo>
                  <a:pt x="201" y="139"/>
                </a:lnTo>
                <a:lnTo>
                  <a:pt x="201" y="159"/>
                </a:lnTo>
                <a:lnTo>
                  <a:pt x="223" y="168"/>
                </a:lnTo>
                <a:lnTo>
                  <a:pt x="244" y="157"/>
                </a:lnTo>
                <a:lnTo>
                  <a:pt x="267" y="159"/>
                </a:lnTo>
                <a:lnTo>
                  <a:pt x="291" y="162"/>
                </a:lnTo>
                <a:lnTo>
                  <a:pt x="294" y="144"/>
                </a:lnTo>
                <a:lnTo>
                  <a:pt x="310" y="136"/>
                </a:lnTo>
                <a:lnTo>
                  <a:pt x="325" y="120"/>
                </a:lnTo>
                <a:lnTo>
                  <a:pt x="345" y="120"/>
                </a:lnTo>
                <a:lnTo>
                  <a:pt x="367" y="126"/>
                </a:lnTo>
                <a:lnTo>
                  <a:pt x="381" y="109"/>
                </a:lnTo>
                <a:lnTo>
                  <a:pt x="394" y="94"/>
                </a:lnTo>
                <a:lnTo>
                  <a:pt x="412" y="97"/>
                </a:lnTo>
                <a:lnTo>
                  <a:pt x="412" y="79"/>
                </a:lnTo>
                <a:lnTo>
                  <a:pt x="424" y="66"/>
                </a:lnTo>
                <a:lnTo>
                  <a:pt x="447" y="66"/>
                </a:lnTo>
                <a:lnTo>
                  <a:pt x="454" y="51"/>
                </a:lnTo>
                <a:lnTo>
                  <a:pt x="441" y="43"/>
                </a:lnTo>
                <a:lnTo>
                  <a:pt x="441" y="27"/>
                </a:lnTo>
                <a:lnTo>
                  <a:pt x="463" y="28"/>
                </a:lnTo>
                <a:lnTo>
                  <a:pt x="471" y="13"/>
                </a:lnTo>
                <a:lnTo>
                  <a:pt x="486" y="1"/>
                </a:lnTo>
                <a:lnTo>
                  <a:pt x="501" y="9"/>
                </a:lnTo>
                <a:lnTo>
                  <a:pt x="525" y="7"/>
                </a:lnTo>
                <a:lnTo>
                  <a:pt x="550" y="0"/>
                </a:lnTo>
                <a:lnTo>
                  <a:pt x="570" y="7"/>
                </a:lnTo>
                <a:lnTo>
                  <a:pt x="586" y="21"/>
                </a:lnTo>
                <a:lnTo>
                  <a:pt x="606" y="36"/>
                </a:lnTo>
                <a:lnTo>
                  <a:pt x="622" y="51"/>
                </a:lnTo>
                <a:lnTo>
                  <a:pt x="639" y="57"/>
                </a:lnTo>
                <a:lnTo>
                  <a:pt x="649" y="45"/>
                </a:lnTo>
                <a:lnTo>
                  <a:pt x="661" y="30"/>
                </a:lnTo>
                <a:lnTo>
                  <a:pt x="685" y="34"/>
                </a:lnTo>
                <a:lnTo>
                  <a:pt x="702" y="19"/>
                </a:lnTo>
                <a:lnTo>
                  <a:pt x="732" y="13"/>
                </a:lnTo>
                <a:lnTo>
                  <a:pt x="760" y="13"/>
                </a:lnTo>
                <a:lnTo>
                  <a:pt x="774" y="34"/>
                </a:lnTo>
                <a:lnTo>
                  <a:pt x="780" y="51"/>
                </a:lnTo>
                <a:lnTo>
                  <a:pt x="798" y="31"/>
                </a:lnTo>
                <a:lnTo>
                  <a:pt x="817" y="13"/>
                </a:lnTo>
                <a:lnTo>
                  <a:pt x="826" y="31"/>
                </a:lnTo>
                <a:lnTo>
                  <a:pt x="837" y="48"/>
                </a:lnTo>
                <a:lnTo>
                  <a:pt x="856" y="48"/>
                </a:lnTo>
                <a:lnTo>
                  <a:pt x="867" y="31"/>
                </a:lnTo>
                <a:lnTo>
                  <a:pt x="882" y="42"/>
                </a:lnTo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237280" y="207720"/>
            <a:ext cx="3546000" cy="1031400"/>
          </a:xfrm>
          <a:prstGeom prst="rect">
            <a:avLst/>
          </a:prstGeom>
          <a:solidFill>
            <a:srgbClr val="333333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Century Gothic"/>
              </a:rPr>
              <a:t>Real estate cadast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06160" y="1496880"/>
            <a:ext cx="8206920" cy="5082840"/>
          </a:xfrm>
          <a:prstGeom prst="rect">
            <a:avLst/>
          </a:prstGeom>
          <a:solidFill>
            <a:srgbClr val="333333">
              <a:alpha val="9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-536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Century Gothic"/>
              </a:rPr>
              <a:t>T H E    B A S I C    P R O B L E M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00000"/>
              </a:lnSpc>
              <a:spcBef>
                <a:spcPts val="2438"/>
              </a:spcBef>
              <a:buClr>
                <a:srgbClr val="ffff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Century Gothic"/>
              </a:rPr>
              <a:t>Uncertainty in sense</a:t>
            </a:r>
            <a:r>
              <a:rPr b="1" i="1" lang="sr-Latn-C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i="1" lang="en-US" sz="2600" spc="-1" strike="noStrike">
                <a:solidFill>
                  <a:srgbClr val="ffffff"/>
                </a:solidFill>
                <a:latin typeface="Century Gothic"/>
              </a:rPr>
              <a:t>of </a:t>
            </a:r>
            <a:br>
              <a:rPr sz="2600"/>
            </a:br>
            <a:r>
              <a:rPr b="1" i="1" lang="en-US" sz="2600" spc="-1" strike="noStrike">
                <a:solidFill>
                  <a:srgbClr val="ffff00"/>
                </a:solidFill>
                <a:latin typeface="Century Gothic"/>
              </a:rPr>
              <a:t>ownership</a:t>
            </a:r>
            <a:r>
              <a:rPr b="1" i="1" lang="sr-Latn-C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i="1" lang="en-US" sz="2600" spc="-1" strike="noStrike">
                <a:solidFill>
                  <a:srgbClr val="ffffff"/>
                </a:solidFill>
                <a:latin typeface="Century Gothic"/>
              </a:rPr>
              <a:t>on a</a:t>
            </a:r>
            <a:r>
              <a:rPr b="1" i="1" lang="sr-Latn-C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i="1" lang="en-US" sz="2600" spc="-1" strike="noStrike">
                <a:solidFill>
                  <a:srgbClr val="ffffff"/>
                </a:solidFill>
                <a:latin typeface="Century Gothic"/>
              </a:rPr>
              <a:t>real e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00000"/>
              </a:lnSpc>
              <a:spcBef>
                <a:spcPts val="2438"/>
              </a:spcBef>
              <a:buClr>
                <a:srgbClr val="ffff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Century Gothic"/>
              </a:rPr>
              <a:t>Impossibility to put </a:t>
            </a:r>
            <a:r>
              <a:rPr b="1" i="1" lang="en-US" sz="2600" spc="-1" strike="noStrike">
                <a:solidFill>
                  <a:srgbClr val="ffff00"/>
                </a:solidFill>
                <a:latin typeface="Century Gothic"/>
              </a:rPr>
              <a:t>mortgage </a:t>
            </a:r>
            <a:r>
              <a:rPr b="1" i="1" lang="en-US" sz="2600" spc="-1" strike="noStrike">
                <a:solidFill>
                  <a:srgbClr val="ffffff"/>
                </a:solidFill>
                <a:latin typeface="Century Gothic"/>
              </a:rPr>
              <a:t>on a real estat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00000"/>
              </a:lnSpc>
              <a:spcBef>
                <a:spcPts val="2625"/>
              </a:spcBef>
              <a:buClr>
                <a:srgbClr val="ffff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Century Gothic"/>
              </a:rPr>
              <a:t>Difficulties in</a:t>
            </a:r>
            <a:r>
              <a:rPr b="1" i="1" lang="sr-Latn-CS" sz="2600" spc="-1" strike="noStrike">
                <a:solidFill>
                  <a:srgbClr val="ffffff"/>
                </a:solidFill>
                <a:latin typeface="Century Gothic"/>
              </a:rPr>
              <a:t> proces</a:t>
            </a:r>
            <a:r>
              <a:rPr b="1" i="1" lang="en-US" sz="2600" spc="-1" strike="noStrike">
                <a:solidFill>
                  <a:srgbClr val="ffffff"/>
                </a:solidFill>
                <a:latin typeface="Century Gothic"/>
              </a:rPr>
              <a:t>s of</a:t>
            </a:r>
            <a:r>
              <a:rPr b="1" i="1" lang="sr-Latn-C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i="1" lang="en-US" sz="2600" spc="-1" strike="noStrike">
                <a:solidFill>
                  <a:srgbClr val="ffff00"/>
                </a:solidFill>
                <a:latin typeface="Century Gothic"/>
              </a:rPr>
              <a:t>privatization</a:t>
            </a:r>
            <a:r>
              <a:rPr b="1" i="1" lang="sr-Latn-CS" sz="2800" spc="-1" strike="noStrike">
                <a:solidFill>
                  <a:srgbClr val="00ff00"/>
                </a:solidFill>
                <a:latin typeface="Century Gothic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200" spc="-1" strike="noStrike">
                <a:solidFill>
                  <a:srgbClr val="00ff00"/>
                </a:solidFill>
                <a:latin typeface="Century Gothic"/>
              </a:rPr>
              <a:t>* </a:t>
            </a:r>
            <a:r>
              <a:rPr b="1" i="1" lang="sr-Latn-CS" sz="2200" spc="-1" strike="noStrike">
                <a:solidFill>
                  <a:srgbClr val="00ff00"/>
                </a:solidFill>
                <a:latin typeface="Century Gothic"/>
              </a:rPr>
              <a:t>	</a:t>
            </a:r>
            <a:r>
              <a:rPr b="1" i="1" lang="en-US" sz="2200" spc="-1" strike="noStrike">
                <a:solidFill>
                  <a:srgbClr val="00ff00"/>
                </a:solidFill>
                <a:latin typeface="Century Gothic"/>
              </a:rPr>
              <a:t>In general, </a:t>
            </a:r>
            <a:r>
              <a:rPr b="1" i="1" lang="sr-Latn-CS" sz="2200" spc="-1" strike="noStrike" u="sng">
                <a:solidFill>
                  <a:srgbClr val="00ff00"/>
                </a:solidFill>
                <a:uFillTx/>
                <a:latin typeface="Century Gothic"/>
              </a:rPr>
              <a:t>I N V E S T O R</a:t>
            </a:r>
            <a:r>
              <a:rPr b="1" i="1" lang="sr-Latn-CS" sz="2200" spc="-1" strike="noStrike">
                <a:solidFill>
                  <a:srgbClr val="00ff00"/>
                </a:solidFill>
                <a:latin typeface="Century Gothic"/>
              </a:rPr>
              <a:t> </a:t>
            </a:r>
            <a:r>
              <a:rPr b="1" i="1" lang="en-US" sz="2200" spc="-1" strike="noStrike">
                <a:solidFill>
                  <a:srgbClr val="00ff00"/>
                </a:solidFill>
                <a:latin typeface="Century Gothic"/>
              </a:rPr>
              <a:t>is not ready for investments in properties with unclear ownership righ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354560" y="0"/>
              <a:ext cx="4789440" cy="6858000"/>
            </a:xfrm>
            <a:custGeom>
              <a:avLst/>
              <a:gdLst/>
              <a:ahLst/>
              <a:rect l="l" t="t" r="r" b="b"/>
              <a:pathLst>
                <a:path w="2704" h="3879">
                  <a:moveTo>
                    <a:pt x="883" y="43"/>
                  </a:moveTo>
                  <a:lnTo>
                    <a:pt x="903" y="55"/>
                  </a:lnTo>
                  <a:lnTo>
                    <a:pt x="921" y="72"/>
                  </a:lnTo>
                  <a:lnTo>
                    <a:pt x="940" y="90"/>
                  </a:lnTo>
                  <a:lnTo>
                    <a:pt x="961" y="115"/>
                  </a:lnTo>
                  <a:lnTo>
                    <a:pt x="967" y="141"/>
                  </a:lnTo>
                  <a:lnTo>
                    <a:pt x="972" y="169"/>
                  </a:lnTo>
                  <a:lnTo>
                    <a:pt x="990" y="193"/>
                  </a:lnTo>
                  <a:lnTo>
                    <a:pt x="1014" y="213"/>
                  </a:lnTo>
                  <a:lnTo>
                    <a:pt x="1033" y="202"/>
                  </a:lnTo>
                  <a:lnTo>
                    <a:pt x="1057" y="196"/>
                  </a:lnTo>
                  <a:lnTo>
                    <a:pt x="1059" y="225"/>
                  </a:lnTo>
                  <a:lnTo>
                    <a:pt x="1063" y="252"/>
                  </a:lnTo>
                  <a:lnTo>
                    <a:pt x="1077" y="268"/>
                  </a:lnTo>
                  <a:lnTo>
                    <a:pt x="1098" y="258"/>
                  </a:lnTo>
                  <a:lnTo>
                    <a:pt x="1116" y="252"/>
                  </a:lnTo>
                  <a:lnTo>
                    <a:pt x="1119" y="273"/>
                  </a:lnTo>
                  <a:lnTo>
                    <a:pt x="1108" y="288"/>
                  </a:lnTo>
                  <a:lnTo>
                    <a:pt x="1120" y="304"/>
                  </a:lnTo>
                  <a:lnTo>
                    <a:pt x="1140" y="297"/>
                  </a:lnTo>
                  <a:lnTo>
                    <a:pt x="1156" y="307"/>
                  </a:lnTo>
                  <a:lnTo>
                    <a:pt x="1168" y="321"/>
                  </a:lnTo>
                  <a:lnTo>
                    <a:pt x="1159" y="343"/>
                  </a:lnTo>
                  <a:lnTo>
                    <a:pt x="1171" y="354"/>
                  </a:lnTo>
                  <a:lnTo>
                    <a:pt x="1191" y="361"/>
                  </a:lnTo>
                  <a:lnTo>
                    <a:pt x="1191" y="396"/>
                  </a:lnTo>
                  <a:lnTo>
                    <a:pt x="1215" y="403"/>
                  </a:lnTo>
                  <a:lnTo>
                    <a:pt x="1245" y="397"/>
                  </a:lnTo>
                  <a:lnTo>
                    <a:pt x="1243" y="372"/>
                  </a:lnTo>
                  <a:lnTo>
                    <a:pt x="1258" y="367"/>
                  </a:lnTo>
                  <a:lnTo>
                    <a:pt x="1275" y="375"/>
                  </a:lnTo>
                  <a:lnTo>
                    <a:pt x="1267" y="397"/>
                  </a:lnTo>
                  <a:lnTo>
                    <a:pt x="1257" y="412"/>
                  </a:lnTo>
                  <a:lnTo>
                    <a:pt x="1254" y="435"/>
                  </a:lnTo>
                  <a:lnTo>
                    <a:pt x="1255" y="477"/>
                  </a:lnTo>
                  <a:lnTo>
                    <a:pt x="1245" y="502"/>
                  </a:lnTo>
                  <a:lnTo>
                    <a:pt x="1234" y="522"/>
                  </a:lnTo>
                  <a:lnTo>
                    <a:pt x="1233" y="547"/>
                  </a:lnTo>
                  <a:lnTo>
                    <a:pt x="1261" y="550"/>
                  </a:lnTo>
                  <a:lnTo>
                    <a:pt x="1261" y="571"/>
                  </a:lnTo>
                  <a:lnTo>
                    <a:pt x="1272" y="589"/>
                  </a:lnTo>
                  <a:lnTo>
                    <a:pt x="1252" y="607"/>
                  </a:lnTo>
                  <a:lnTo>
                    <a:pt x="1233" y="622"/>
                  </a:lnTo>
                  <a:lnTo>
                    <a:pt x="1233" y="643"/>
                  </a:lnTo>
                  <a:lnTo>
                    <a:pt x="1267" y="642"/>
                  </a:lnTo>
                  <a:lnTo>
                    <a:pt x="1294" y="654"/>
                  </a:lnTo>
                  <a:lnTo>
                    <a:pt x="1296" y="676"/>
                  </a:lnTo>
                  <a:lnTo>
                    <a:pt x="1314" y="696"/>
                  </a:lnTo>
                  <a:lnTo>
                    <a:pt x="1332" y="708"/>
                  </a:lnTo>
                  <a:lnTo>
                    <a:pt x="1356" y="739"/>
                  </a:lnTo>
                  <a:lnTo>
                    <a:pt x="1372" y="757"/>
                  </a:lnTo>
                  <a:lnTo>
                    <a:pt x="1390" y="775"/>
                  </a:lnTo>
                  <a:lnTo>
                    <a:pt x="1411" y="771"/>
                  </a:lnTo>
                  <a:lnTo>
                    <a:pt x="1423" y="759"/>
                  </a:lnTo>
                  <a:lnTo>
                    <a:pt x="1428" y="781"/>
                  </a:lnTo>
                  <a:lnTo>
                    <a:pt x="1441" y="799"/>
                  </a:lnTo>
                  <a:lnTo>
                    <a:pt x="1455" y="793"/>
                  </a:lnTo>
                  <a:lnTo>
                    <a:pt x="1480" y="787"/>
                  </a:lnTo>
                  <a:lnTo>
                    <a:pt x="1492" y="772"/>
                  </a:lnTo>
                  <a:lnTo>
                    <a:pt x="1504" y="801"/>
                  </a:lnTo>
                  <a:lnTo>
                    <a:pt x="1516" y="822"/>
                  </a:lnTo>
                  <a:lnTo>
                    <a:pt x="1528" y="844"/>
                  </a:lnTo>
                  <a:lnTo>
                    <a:pt x="1551" y="856"/>
                  </a:lnTo>
                  <a:lnTo>
                    <a:pt x="1578" y="849"/>
                  </a:lnTo>
                  <a:lnTo>
                    <a:pt x="1605" y="861"/>
                  </a:lnTo>
                  <a:lnTo>
                    <a:pt x="1615" y="870"/>
                  </a:lnTo>
                  <a:lnTo>
                    <a:pt x="1644" y="859"/>
                  </a:lnTo>
                  <a:lnTo>
                    <a:pt x="1656" y="877"/>
                  </a:lnTo>
                  <a:lnTo>
                    <a:pt x="1677" y="883"/>
                  </a:lnTo>
                  <a:lnTo>
                    <a:pt x="1699" y="898"/>
                  </a:lnTo>
                  <a:lnTo>
                    <a:pt x="1720" y="915"/>
                  </a:lnTo>
                  <a:lnTo>
                    <a:pt x="1731" y="933"/>
                  </a:lnTo>
                  <a:lnTo>
                    <a:pt x="1716" y="942"/>
                  </a:lnTo>
                  <a:lnTo>
                    <a:pt x="1695" y="949"/>
                  </a:lnTo>
                  <a:lnTo>
                    <a:pt x="1678" y="961"/>
                  </a:lnTo>
                  <a:lnTo>
                    <a:pt x="1693" y="982"/>
                  </a:lnTo>
                  <a:lnTo>
                    <a:pt x="1684" y="1006"/>
                  </a:lnTo>
                  <a:lnTo>
                    <a:pt x="1653" y="1012"/>
                  </a:lnTo>
                  <a:lnTo>
                    <a:pt x="1627" y="1012"/>
                  </a:lnTo>
                  <a:lnTo>
                    <a:pt x="1600" y="1032"/>
                  </a:lnTo>
                  <a:lnTo>
                    <a:pt x="1594" y="1057"/>
                  </a:lnTo>
                  <a:lnTo>
                    <a:pt x="1612" y="1077"/>
                  </a:lnTo>
                  <a:lnTo>
                    <a:pt x="1639" y="1074"/>
                  </a:lnTo>
                  <a:lnTo>
                    <a:pt x="1660" y="1096"/>
                  </a:lnTo>
                  <a:lnTo>
                    <a:pt x="1687" y="1101"/>
                  </a:lnTo>
                  <a:lnTo>
                    <a:pt x="1708" y="1114"/>
                  </a:lnTo>
                  <a:lnTo>
                    <a:pt x="1734" y="1123"/>
                  </a:lnTo>
                  <a:lnTo>
                    <a:pt x="1746" y="1140"/>
                  </a:lnTo>
                  <a:lnTo>
                    <a:pt x="1740" y="1162"/>
                  </a:lnTo>
                  <a:lnTo>
                    <a:pt x="1717" y="1167"/>
                  </a:lnTo>
                  <a:lnTo>
                    <a:pt x="1696" y="1174"/>
                  </a:lnTo>
                  <a:lnTo>
                    <a:pt x="1668" y="1171"/>
                  </a:lnTo>
                  <a:lnTo>
                    <a:pt x="1636" y="1176"/>
                  </a:lnTo>
                  <a:lnTo>
                    <a:pt x="1611" y="1183"/>
                  </a:lnTo>
                  <a:lnTo>
                    <a:pt x="1609" y="1209"/>
                  </a:lnTo>
                  <a:lnTo>
                    <a:pt x="1617" y="1236"/>
                  </a:lnTo>
                  <a:lnTo>
                    <a:pt x="1614" y="1260"/>
                  </a:lnTo>
                  <a:lnTo>
                    <a:pt x="1620" y="1282"/>
                  </a:lnTo>
                  <a:lnTo>
                    <a:pt x="1641" y="1281"/>
                  </a:lnTo>
                  <a:lnTo>
                    <a:pt x="1657" y="1266"/>
                  </a:lnTo>
                  <a:lnTo>
                    <a:pt x="1678" y="1266"/>
                  </a:lnTo>
                  <a:lnTo>
                    <a:pt x="1707" y="1264"/>
                  </a:lnTo>
                  <a:lnTo>
                    <a:pt x="1732" y="1266"/>
                  </a:lnTo>
                  <a:lnTo>
                    <a:pt x="1756" y="1282"/>
                  </a:lnTo>
                  <a:lnTo>
                    <a:pt x="1770" y="1305"/>
                  </a:lnTo>
                  <a:lnTo>
                    <a:pt x="1776" y="1323"/>
                  </a:lnTo>
                  <a:lnTo>
                    <a:pt x="1768" y="1342"/>
                  </a:lnTo>
                  <a:lnTo>
                    <a:pt x="1783" y="1371"/>
                  </a:lnTo>
                  <a:lnTo>
                    <a:pt x="1816" y="1365"/>
                  </a:lnTo>
                  <a:lnTo>
                    <a:pt x="1842" y="1366"/>
                  </a:lnTo>
                  <a:lnTo>
                    <a:pt x="1875" y="1366"/>
                  </a:lnTo>
                  <a:lnTo>
                    <a:pt x="1902" y="1368"/>
                  </a:lnTo>
                  <a:lnTo>
                    <a:pt x="1930" y="1372"/>
                  </a:lnTo>
                  <a:lnTo>
                    <a:pt x="1953" y="1377"/>
                  </a:lnTo>
                  <a:lnTo>
                    <a:pt x="1987" y="1383"/>
                  </a:lnTo>
                  <a:lnTo>
                    <a:pt x="2008" y="1381"/>
                  </a:lnTo>
                  <a:lnTo>
                    <a:pt x="2023" y="1395"/>
                  </a:lnTo>
                  <a:lnTo>
                    <a:pt x="2035" y="1413"/>
                  </a:lnTo>
                  <a:lnTo>
                    <a:pt x="2041" y="1429"/>
                  </a:lnTo>
                  <a:lnTo>
                    <a:pt x="2041" y="1450"/>
                  </a:lnTo>
                  <a:lnTo>
                    <a:pt x="2047" y="1468"/>
                  </a:lnTo>
                  <a:lnTo>
                    <a:pt x="2064" y="1483"/>
                  </a:lnTo>
                  <a:lnTo>
                    <a:pt x="2073" y="1506"/>
                  </a:lnTo>
                  <a:lnTo>
                    <a:pt x="2080" y="1522"/>
                  </a:lnTo>
                  <a:lnTo>
                    <a:pt x="2095" y="1533"/>
                  </a:lnTo>
                  <a:lnTo>
                    <a:pt x="2116" y="1542"/>
                  </a:lnTo>
                  <a:lnTo>
                    <a:pt x="2139" y="1531"/>
                  </a:lnTo>
                  <a:lnTo>
                    <a:pt x="2149" y="1509"/>
                  </a:lnTo>
                  <a:lnTo>
                    <a:pt x="2172" y="1480"/>
                  </a:lnTo>
                  <a:lnTo>
                    <a:pt x="2181" y="1449"/>
                  </a:lnTo>
                  <a:lnTo>
                    <a:pt x="2193" y="1417"/>
                  </a:lnTo>
                  <a:lnTo>
                    <a:pt x="2202" y="1395"/>
                  </a:lnTo>
                  <a:lnTo>
                    <a:pt x="2215" y="1378"/>
                  </a:lnTo>
                  <a:lnTo>
                    <a:pt x="2223" y="1360"/>
                  </a:lnTo>
                  <a:lnTo>
                    <a:pt x="2244" y="1353"/>
                  </a:lnTo>
                  <a:lnTo>
                    <a:pt x="2268" y="1350"/>
                  </a:lnTo>
                  <a:lnTo>
                    <a:pt x="2287" y="1332"/>
                  </a:lnTo>
                  <a:lnTo>
                    <a:pt x="2304" y="1317"/>
                  </a:lnTo>
                  <a:lnTo>
                    <a:pt x="2323" y="1314"/>
                  </a:lnTo>
                  <a:lnTo>
                    <a:pt x="2346" y="1326"/>
                  </a:lnTo>
                  <a:lnTo>
                    <a:pt x="2359" y="1342"/>
                  </a:lnTo>
                  <a:lnTo>
                    <a:pt x="2370" y="1359"/>
                  </a:lnTo>
                  <a:lnTo>
                    <a:pt x="2394" y="1372"/>
                  </a:lnTo>
                  <a:lnTo>
                    <a:pt x="2416" y="1395"/>
                  </a:lnTo>
                  <a:lnTo>
                    <a:pt x="2436" y="1404"/>
                  </a:lnTo>
                  <a:lnTo>
                    <a:pt x="2455" y="1398"/>
                  </a:lnTo>
                  <a:lnTo>
                    <a:pt x="2482" y="1407"/>
                  </a:lnTo>
                  <a:lnTo>
                    <a:pt x="2497" y="1416"/>
                  </a:lnTo>
                  <a:lnTo>
                    <a:pt x="2514" y="1429"/>
                  </a:lnTo>
                  <a:lnTo>
                    <a:pt x="2524" y="1453"/>
                  </a:lnTo>
                  <a:lnTo>
                    <a:pt x="2521" y="1476"/>
                  </a:lnTo>
                  <a:lnTo>
                    <a:pt x="2505" y="1489"/>
                  </a:lnTo>
                  <a:lnTo>
                    <a:pt x="2473" y="1488"/>
                  </a:lnTo>
                  <a:lnTo>
                    <a:pt x="2452" y="1473"/>
                  </a:lnTo>
                  <a:lnTo>
                    <a:pt x="2431" y="1461"/>
                  </a:lnTo>
                  <a:lnTo>
                    <a:pt x="2407" y="1462"/>
                  </a:lnTo>
                  <a:lnTo>
                    <a:pt x="2391" y="1474"/>
                  </a:lnTo>
                  <a:lnTo>
                    <a:pt x="2395" y="1497"/>
                  </a:lnTo>
                  <a:lnTo>
                    <a:pt x="2386" y="1519"/>
                  </a:lnTo>
                  <a:lnTo>
                    <a:pt x="2367" y="1530"/>
                  </a:lnTo>
                  <a:lnTo>
                    <a:pt x="2343" y="1525"/>
                  </a:lnTo>
                  <a:lnTo>
                    <a:pt x="2322" y="1536"/>
                  </a:lnTo>
                  <a:lnTo>
                    <a:pt x="2338" y="1557"/>
                  </a:lnTo>
                  <a:lnTo>
                    <a:pt x="2355" y="1570"/>
                  </a:lnTo>
                  <a:lnTo>
                    <a:pt x="2352" y="1599"/>
                  </a:lnTo>
                  <a:lnTo>
                    <a:pt x="2367" y="1617"/>
                  </a:lnTo>
                  <a:lnTo>
                    <a:pt x="2367" y="1644"/>
                  </a:lnTo>
                  <a:lnTo>
                    <a:pt x="2386" y="1654"/>
                  </a:lnTo>
                  <a:lnTo>
                    <a:pt x="2400" y="1677"/>
                  </a:lnTo>
                  <a:lnTo>
                    <a:pt x="2419" y="1686"/>
                  </a:lnTo>
                  <a:lnTo>
                    <a:pt x="2445" y="1689"/>
                  </a:lnTo>
                  <a:lnTo>
                    <a:pt x="2470" y="1693"/>
                  </a:lnTo>
                  <a:lnTo>
                    <a:pt x="2479" y="1714"/>
                  </a:lnTo>
                  <a:lnTo>
                    <a:pt x="2473" y="1749"/>
                  </a:lnTo>
                  <a:lnTo>
                    <a:pt x="2454" y="1756"/>
                  </a:lnTo>
                  <a:lnTo>
                    <a:pt x="2448" y="1771"/>
                  </a:lnTo>
                  <a:lnTo>
                    <a:pt x="2460" y="1779"/>
                  </a:lnTo>
                  <a:lnTo>
                    <a:pt x="2437" y="1792"/>
                  </a:lnTo>
                  <a:lnTo>
                    <a:pt x="2431" y="1818"/>
                  </a:lnTo>
                  <a:lnTo>
                    <a:pt x="2436" y="1837"/>
                  </a:lnTo>
                  <a:lnTo>
                    <a:pt x="2437" y="1860"/>
                  </a:lnTo>
                  <a:lnTo>
                    <a:pt x="2440" y="1882"/>
                  </a:lnTo>
                  <a:lnTo>
                    <a:pt x="2416" y="1893"/>
                  </a:lnTo>
                  <a:lnTo>
                    <a:pt x="2391" y="1894"/>
                  </a:lnTo>
                  <a:lnTo>
                    <a:pt x="2373" y="1891"/>
                  </a:lnTo>
                  <a:lnTo>
                    <a:pt x="2352" y="1890"/>
                  </a:lnTo>
                  <a:lnTo>
                    <a:pt x="2343" y="1908"/>
                  </a:lnTo>
                  <a:lnTo>
                    <a:pt x="2326" y="1927"/>
                  </a:lnTo>
                  <a:lnTo>
                    <a:pt x="2307" y="1933"/>
                  </a:lnTo>
                  <a:lnTo>
                    <a:pt x="2289" y="1947"/>
                  </a:lnTo>
                  <a:lnTo>
                    <a:pt x="2269" y="1951"/>
                  </a:lnTo>
                  <a:lnTo>
                    <a:pt x="2260" y="1971"/>
                  </a:lnTo>
                  <a:lnTo>
                    <a:pt x="2262" y="1993"/>
                  </a:lnTo>
                  <a:lnTo>
                    <a:pt x="2256" y="2008"/>
                  </a:lnTo>
                  <a:lnTo>
                    <a:pt x="2259" y="2029"/>
                  </a:lnTo>
                  <a:lnTo>
                    <a:pt x="2268" y="2044"/>
                  </a:lnTo>
                  <a:lnTo>
                    <a:pt x="2283" y="2059"/>
                  </a:lnTo>
                  <a:lnTo>
                    <a:pt x="2274" y="2083"/>
                  </a:lnTo>
                  <a:lnTo>
                    <a:pt x="2263" y="2101"/>
                  </a:lnTo>
                  <a:lnTo>
                    <a:pt x="2274" y="2119"/>
                  </a:lnTo>
                  <a:lnTo>
                    <a:pt x="2283" y="2130"/>
                  </a:lnTo>
                  <a:lnTo>
                    <a:pt x="2298" y="2146"/>
                  </a:lnTo>
                  <a:lnTo>
                    <a:pt x="2295" y="2167"/>
                  </a:lnTo>
                  <a:lnTo>
                    <a:pt x="2296" y="2193"/>
                  </a:lnTo>
                  <a:lnTo>
                    <a:pt x="2310" y="2211"/>
                  </a:lnTo>
                  <a:lnTo>
                    <a:pt x="2326" y="2223"/>
                  </a:lnTo>
                  <a:lnTo>
                    <a:pt x="2347" y="2236"/>
                  </a:lnTo>
                  <a:lnTo>
                    <a:pt x="2361" y="2253"/>
                  </a:lnTo>
                  <a:lnTo>
                    <a:pt x="2355" y="2278"/>
                  </a:lnTo>
                  <a:lnTo>
                    <a:pt x="2358" y="2302"/>
                  </a:lnTo>
                  <a:lnTo>
                    <a:pt x="2356" y="2326"/>
                  </a:lnTo>
                  <a:lnTo>
                    <a:pt x="2371" y="2340"/>
                  </a:lnTo>
                  <a:lnTo>
                    <a:pt x="2368" y="2362"/>
                  </a:lnTo>
                  <a:lnTo>
                    <a:pt x="2380" y="2394"/>
                  </a:lnTo>
                  <a:lnTo>
                    <a:pt x="2401" y="2412"/>
                  </a:lnTo>
                  <a:lnTo>
                    <a:pt x="2422" y="2415"/>
                  </a:lnTo>
                  <a:lnTo>
                    <a:pt x="2428" y="2434"/>
                  </a:lnTo>
                  <a:lnTo>
                    <a:pt x="2440" y="2445"/>
                  </a:lnTo>
                  <a:lnTo>
                    <a:pt x="2455" y="2437"/>
                  </a:lnTo>
                  <a:lnTo>
                    <a:pt x="2473" y="2436"/>
                  </a:lnTo>
                  <a:lnTo>
                    <a:pt x="2476" y="2457"/>
                  </a:lnTo>
                  <a:lnTo>
                    <a:pt x="2487" y="2473"/>
                  </a:lnTo>
                  <a:lnTo>
                    <a:pt x="2512" y="2472"/>
                  </a:lnTo>
                  <a:lnTo>
                    <a:pt x="2532" y="2479"/>
                  </a:lnTo>
                  <a:lnTo>
                    <a:pt x="2542" y="2502"/>
                  </a:lnTo>
                  <a:lnTo>
                    <a:pt x="2571" y="2517"/>
                  </a:lnTo>
                  <a:lnTo>
                    <a:pt x="2590" y="2527"/>
                  </a:lnTo>
                  <a:lnTo>
                    <a:pt x="2590" y="2550"/>
                  </a:lnTo>
                  <a:lnTo>
                    <a:pt x="2592" y="2574"/>
                  </a:lnTo>
                  <a:lnTo>
                    <a:pt x="2610" y="2575"/>
                  </a:lnTo>
                  <a:lnTo>
                    <a:pt x="2611" y="2596"/>
                  </a:lnTo>
                  <a:lnTo>
                    <a:pt x="2628" y="2613"/>
                  </a:lnTo>
                  <a:lnTo>
                    <a:pt x="2644" y="2629"/>
                  </a:lnTo>
                  <a:lnTo>
                    <a:pt x="2670" y="2631"/>
                  </a:lnTo>
                  <a:lnTo>
                    <a:pt x="2695" y="2635"/>
                  </a:lnTo>
                  <a:lnTo>
                    <a:pt x="2704" y="2646"/>
                  </a:lnTo>
                  <a:lnTo>
                    <a:pt x="2700" y="2671"/>
                  </a:lnTo>
                  <a:lnTo>
                    <a:pt x="2704" y="2698"/>
                  </a:lnTo>
                  <a:lnTo>
                    <a:pt x="2689" y="2718"/>
                  </a:lnTo>
                  <a:lnTo>
                    <a:pt x="2664" y="2733"/>
                  </a:lnTo>
                  <a:lnTo>
                    <a:pt x="2638" y="2757"/>
                  </a:lnTo>
                  <a:lnTo>
                    <a:pt x="2631" y="2784"/>
                  </a:lnTo>
                  <a:lnTo>
                    <a:pt x="2617" y="2803"/>
                  </a:lnTo>
                  <a:lnTo>
                    <a:pt x="2586" y="2820"/>
                  </a:lnTo>
                  <a:lnTo>
                    <a:pt x="2563" y="2832"/>
                  </a:lnTo>
                  <a:lnTo>
                    <a:pt x="2557" y="2862"/>
                  </a:lnTo>
                  <a:lnTo>
                    <a:pt x="2559" y="2892"/>
                  </a:lnTo>
                  <a:lnTo>
                    <a:pt x="2550" y="2913"/>
                  </a:lnTo>
                  <a:lnTo>
                    <a:pt x="2533" y="2920"/>
                  </a:lnTo>
                  <a:lnTo>
                    <a:pt x="2515" y="2923"/>
                  </a:lnTo>
                  <a:lnTo>
                    <a:pt x="2497" y="2935"/>
                  </a:lnTo>
                  <a:lnTo>
                    <a:pt x="2479" y="2922"/>
                  </a:lnTo>
                  <a:lnTo>
                    <a:pt x="2460" y="2917"/>
                  </a:lnTo>
                  <a:lnTo>
                    <a:pt x="2442" y="2914"/>
                  </a:lnTo>
                  <a:lnTo>
                    <a:pt x="2424" y="2916"/>
                  </a:lnTo>
                  <a:lnTo>
                    <a:pt x="2422" y="2932"/>
                  </a:lnTo>
                  <a:lnTo>
                    <a:pt x="2407" y="2932"/>
                  </a:lnTo>
                  <a:lnTo>
                    <a:pt x="2392" y="2928"/>
                  </a:lnTo>
                  <a:lnTo>
                    <a:pt x="2386" y="2946"/>
                  </a:lnTo>
                  <a:lnTo>
                    <a:pt x="2373" y="2961"/>
                  </a:lnTo>
                  <a:lnTo>
                    <a:pt x="2352" y="2964"/>
                  </a:lnTo>
                  <a:lnTo>
                    <a:pt x="2335" y="2976"/>
                  </a:lnTo>
                  <a:lnTo>
                    <a:pt x="2338" y="2997"/>
                  </a:lnTo>
                  <a:lnTo>
                    <a:pt x="2355" y="3009"/>
                  </a:lnTo>
                  <a:lnTo>
                    <a:pt x="2364" y="3028"/>
                  </a:lnTo>
                  <a:lnTo>
                    <a:pt x="2379" y="3040"/>
                  </a:lnTo>
                  <a:lnTo>
                    <a:pt x="2376" y="3058"/>
                  </a:lnTo>
                  <a:lnTo>
                    <a:pt x="2367" y="3067"/>
                  </a:lnTo>
                  <a:lnTo>
                    <a:pt x="2359" y="3084"/>
                  </a:lnTo>
                  <a:lnTo>
                    <a:pt x="2362" y="3106"/>
                  </a:lnTo>
                  <a:lnTo>
                    <a:pt x="2347" y="3120"/>
                  </a:lnTo>
                  <a:lnTo>
                    <a:pt x="2359" y="3138"/>
                  </a:lnTo>
                  <a:lnTo>
                    <a:pt x="2344" y="3153"/>
                  </a:lnTo>
                  <a:lnTo>
                    <a:pt x="2347" y="3172"/>
                  </a:lnTo>
                  <a:lnTo>
                    <a:pt x="2337" y="3196"/>
                  </a:lnTo>
                  <a:lnTo>
                    <a:pt x="2361" y="3193"/>
                  </a:lnTo>
                  <a:lnTo>
                    <a:pt x="2376" y="3207"/>
                  </a:lnTo>
                  <a:lnTo>
                    <a:pt x="2376" y="3232"/>
                  </a:lnTo>
                  <a:lnTo>
                    <a:pt x="2394" y="3228"/>
                  </a:lnTo>
                  <a:lnTo>
                    <a:pt x="2412" y="3238"/>
                  </a:lnTo>
                  <a:lnTo>
                    <a:pt x="2421" y="3258"/>
                  </a:lnTo>
                  <a:lnTo>
                    <a:pt x="2416" y="3282"/>
                  </a:lnTo>
                  <a:lnTo>
                    <a:pt x="2406" y="3303"/>
                  </a:lnTo>
                  <a:lnTo>
                    <a:pt x="2410" y="3322"/>
                  </a:lnTo>
                  <a:lnTo>
                    <a:pt x="2397" y="3333"/>
                  </a:lnTo>
                  <a:lnTo>
                    <a:pt x="2382" y="3351"/>
                  </a:lnTo>
                  <a:lnTo>
                    <a:pt x="2379" y="3363"/>
                  </a:lnTo>
                  <a:lnTo>
                    <a:pt x="2361" y="3366"/>
                  </a:lnTo>
                  <a:lnTo>
                    <a:pt x="2364" y="3382"/>
                  </a:lnTo>
                  <a:lnTo>
                    <a:pt x="2353" y="3396"/>
                  </a:lnTo>
                  <a:lnTo>
                    <a:pt x="2350" y="3412"/>
                  </a:lnTo>
                  <a:lnTo>
                    <a:pt x="2326" y="3420"/>
                  </a:lnTo>
                  <a:lnTo>
                    <a:pt x="2299" y="3423"/>
                  </a:lnTo>
                  <a:lnTo>
                    <a:pt x="2269" y="3417"/>
                  </a:lnTo>
                  <a:lnTo>
                    <a:pt x="2251" y="3403"/>
                  </a:lnTo>
                  <a:lnTo>
                    <a:pt x="2254" y="3385"/>
                  </a:lnTo>
                  <a:lnTo>
                    <a:pt x="2245" y="3366"/>
                  </a:lnTo>
                  <a:lnTo>
                    <a:pt x="2224" y="3375"/>
                  </a:lnTo>
                  <a:lnTo>
                    <a:pt x="2208" y="3394"/>
                  </a:lnTo>
                  <a:lnTo>
                    <a:pt x="2188" y="3400"/>
                  </a:lnTo>
                  <a:lnTo>
                    <a:pt x="2164" y="3400"/>
                  </a:lnTo>
                  <a:lnTo>
                    <a:pt x="2157" y="3418"/>
                  </a:lnTo>
                  <a:lnTo>
                    <a:pt x="2142" y="3430"/>
                  </a:lnTo>
                  <a:lnTo>
                    <a:pt x="2121" y="3430"/>
                  </a:lnTo>
                  <a:lnTo>
                    <a:pt x="2098" y="3435"/>
                  </a:lnTo>
                  <a:lnTo>
                    <a:pt x="2076" y="3438"/>
                  </a:lnTo>
                  <a:lnTo>
                    <a:pt x="2056" y="3429"/>
                  </a:lnTo>
                  <a:lnTo>
                    <a:pt x="2031" y="3408"/>
                  </a:lnTo>
                  <a:lnTo>
                    <a:pt x="2010" y="3396"/>
                  </a:lnTo>
                  <a:lnTo>
                    <a:pt x="1992" y="3414"/>
                  </a:lnTo>
                  <a:lnTo>
                    <a:pt x="1990" y="3438"/>
                  </a:lnTo>
                  <a:lnTo>
                    <a:pt x="1962" y="3432"/>
                  </a:lnTo>
                  <a:lnTo>
                    <a:pt x="1933" y="3414"/>
                  </a:lnTo>
                  <a:lnTo>
                    <a:pt x="1924" y="3438"/>
                  </a:lnTo>
                  <a:lnTo>
                    <a:pt x="1909" y="3459"/>
                  </a:lnTo>
                  <a:lnTo>
                    <a:pt x="1884" y="3468"/>
                  </a:lnTo>
                  <a:lnTo>
                    <a:pt x="1855" y="3472"/>
                  </a:lnTo>
                  <a:lnTo>
                    <a:pt x="1846" y="3493"/>
                  </a:lnTo>
                  <a:lnTo>
                    <a:pt x="1825" y="3480"/>
                  </a:lnTo>
                  <a:lnTo>
                    <a:pt x="1803" y="3475"/>
                  </a:lnTo>
                  <a:lnTo>
                    <a:pt x="1777" y="3474"/>
                  </a:lnTo>
                  <a:lnTo>
                    <a:pt x="1759" y="3471"/>
                  </a:lnTo>
                  <a:lnTo>
                    <a:pt x="1741" y="3478"/>
                  </a:lnTo>
                  <a:lnTo>
                    <a:pt x="1726" y="3490"/>
                  </a:lnTo>
                  <a:lnTo>
                    <a:pt x="1711" y="3480"/>
                  </a:lnTo>
                  <a:lnTo>
                    <a:pt x="1714" y="3462"/>
                  </a:lnTo>
                  <a:lnTo>
                    <a:pt x="1693" y="3456"/>
                  </a:lnTo>
                  <a:lnTo>
                    <a:pt x="1675" y="3457"/>
                  </a:lnTo>
                  <a:lnTo>
                    <a:pt x="1663" y="3471"/>
                  </a:lnTo>
                  <a:lnTo>
                    <a:pt x="1663" y="3486"/>
                  </a:lnTo>
                  <a:lnTo>
                    <a:pt x="1662" y="3505"/>
                  </a:lnTo>
                  <a:lnTo>
                    <a:pt x="1653" y="3489"/>
                  </a:lnTo>
                  <a:lnTo>
                    <a:pt x="1632" y="3484"/>
                  </a:lnTo>
                  <a:lnTo>
                    <a:pt x="1618" y="3501"/>
                  </a:lnTo>
                  <a:lnTo>
                    <a:pt x="1596" y="3523"/>
                  </a:lnTo>
                  <a:lnTo>
                    <a:pt x="1584" y="3549"/>
                  </a:lnTo>
                  <a:lnTo>
                    <a:pt x="1581" y="3571"/>
                  </a:lnTo>
                  <a:lnTo>
                    <a:pt x="1578" y="3589"/>
                  </a:lnTo>
                  <a:lnTo>
                    <a:pt x="1591" y="3606"/>
                  </a:lnTo>
                  <a:lnTo>
                    <a:pt x="1570" y="3613"/>
                  </a:lnTo>
                  <a:lnTo>
                    <a:pt x="1551" y="3624"/>
                  </a:lnTo>
                  <a:lnTo>
                    <a:pt x="1525" y="3625"/>
                  </a:lnTo>
                  <a:lnTo>
                    <a:pt x="1513" y="3601"/>
                  </a:lnTo>
                  <a:lnTo>
                    <a:pt x="1512" y="3582"/>
                  </a:lnTo>
                  <a:lnTo>
                    <a:pt x="1501" y="3564"/>
                  </a:lnTo>
                  <a:lnTo>
                    <a:pt x="1486" y="3546"/>
                  </a:lnTo>
                  <a:lnTo>
                    <a:pt x="1468" y="3528"/>
                  </a:lnTo>
                  <a:lnTo>
                    <a:pt x="1441" y="3520"/>
                  </a:lnTo>
                  <a:lnTo>
                    <a:pt x="1423" y="3535"/>
                  </a:lnTo>
                  <a:lnTo>
                    <a:pt x="1398" y="3550"/>
                  </a:lnTo>
                  <a:lnTo>
                    <a:pt x="1386" y="3571"/>
                  </a:lnTo>
                  <a:lnTo>
                    <a:pt x="1363" y="3570"/>
                  </a:lnTo>
                  <a:lnTo>
                    <a:pt x="1344" y="3589"/>
                  </a:lnTo>
                  <a:lnTo>
                    <a:pt x="1318" y="3589"/>
                  </a:lnTo>
                  <a:lnTo>
                    <a:pt x="1302" y="3601"/>
                  </a:lnTo>
                  <a:lnTo>
                    <a:pt x="1288" y="3621"/>
                  </a:lnTo>
                  <a:lnTo>
                    <a:pt x="1267" y="3613"/>
                  </a:lnTo>
                  <a:lnTo>
                    <a:pt x="1255" y="3627"/>
                  </a:lnTo>
                  <a:lnTo>
                    <a:pt x="1228" y="3622"/>
                  </a:lnTo>
                  <a:lnTo>
                    <a:pt x="1222" y="3646"/>
                  </a:lnTo>
                  <a:lnTo>
                    <a:pt x="1204" y="3651"/>
                  </a:lnTo>
                  <a:lnTo>
                    <a:pt x="1210" y="3667"/>
                  </a:lnTo>
                  <a:lnTo>
                    <a:pt x="1200" y="3679"/>
                  </a:lnTo>
                  <a:lnTo>
                    <a:pt x="1197" y="3705"/>
                  </a:lnTo>
                  <a:lnTo>
                    <a:pt x="1198" y="3724"/>
                  </a:lnTo>
                  <a:lnTo>
                    <a:pt x="1210" y="3739"/>
                  </a:lnTo>
                  <a:lnTo>
                    <a:pt x="1200" y="3754"/>
                  </a:lnTo>
                  <a:lnTo>
                    <a:pt x="1216" y="3771"/>
                  </a:lnTo>
                  <a:lnTo>
                    <a:pt x="1206" y="3775"/>
                  </a:lnTo>
                  <a:lnTo>
                    <a:pt x="1200" y="3795"/>
                  </a:lnTo>
                  <a:lnTo>
                    <a:pt x="1212" y="3808"/>
                  </a:lnTo>
                  <a:lnTo>
                    <a:pt x="1200" y="3820"/>
                  </a:lnTo>
                  <a:lnTo>
                    <a:pt x="1180" y="3828"/>
                  </a:lnTo>
                  <a:lnTo>
                    <a:pt x="1165" y="3838"/>
                  </a:lnTo>
                  <a:lnTo>
                    <a:pt x="1150" y="3856"/>
                  </a:lnTo>
                  <a:lnTo>
                    <a:pt x="1128" y="3870"/>
                  </a:lnTo>
                  <a:lnTo>
                    <a:pt x="1110" y="3879"/>
                  </a:lnTo>
                  <a:lnTo>
                    <a:pt x="1084" y="3877"/>
                  </a:lnTo>
                  <a:lnTo>
                    <a:pt x="1077" y="3856"/>
                  </a:lnTo>
                  <a:lnTo>
                    <a:pt x="1081" y="3841"/>
                  </a:lnTo>
                  <a:lnTo>
                    <a:pt x="1074" y="3826"/>
                  </a:lnTo>
                  <a:lnTo>
                    <a:pt x="1083" y="3813"/>
                  </a:lnTo>
                  <a:lnTo>
                    <a:pt x="1101" y="3810"/>
                  </a:lnTo>
                  <a:lnTo>
                    <a:pt x="1089" y="3792"/>
                  </a:lnTo>
                  <a:lnTo>
                    <a:pt x="1095" y="3766"/>
                  </a:lnTo>
                  <a:lnTo>
                    <a:pt x="1111" y="3759"/>
                  </a:lnTo>
                  <a:lnTo>
                    <a:pt x="1120" y="3744"/>
                  </a:lnTo>
                  <a:lnTo>
                    <a:pt x="1116" y="3718"/>
                  </a:lnTo>
                  <a:lnTo>
                    <a:pt x="1104" y="3702"/>
                  </a:lnTo>
                  <a:lnTo>
                    <a:pt x="1105" y="3673"/>
                  </a:lnTo>
                  <a:lnTo>
                    <a:pt x="1090" y="3642"/>
                  </a:lnTo>
                  <a:lnTo>
                    <a:pt x="1077" y="3624"/>
                  </a:lnTo>
                  <a:lnTo>
                    <a:pt x="1080" y="3604"/>
                  </a:lnTo>
                  <a:lnTo>
                    <a:pt x="1078" y="3583"/>
                  </a:lnTo>
                  <a:lnTo>
                    <a:pt x="1065" y="3561"/>
                  </a:lnTo>
                  <a:lnTo>
                    <a:pt x="1050" y="3531"/>
                  </a:lnTo>
                  <a:lnTo>
                    <a:pt x="1050" y="3502"/>
                  </a:lnTo>
                  <a:lnTo>
                    <a:pt x="1038" y="3493"/>
                  </a:lnTo>
                  <a:lnTo>
                    <a:pt x="1033" y="3477"/>
                  </a:lnTo>
                  <a:lnTo>
                    <a:pt x="1018" y="3460"/>
                  </a:lnTo>
                  <a:lnTo>
                    <a:pt x="999" y="3448"/>
                  </a:lnTo>
                  <a:lnTo>
                    <a:pt x="975" y="3447"/>
                  </a:lnTo>
                  <a:lnTo>
                    <a:pt x="960" y="3426"/>
                  </a:lnTo>
                  <a:lnTo>
                    <a:pt x="934" y="3423"/>
                  </a:lnTo>
                  <a:lnTo>
                    <a:pt x="925" y="3403"/>
                  </a:lnTo>
                  <a:lnTo>
                    <a:pt x="901" y="3414"/>
                  </a:lnTo>
                  <a:lnTo>
                    <a:pt x="885" y="3414"/>
                  </a:lnTo>
                  <a:lnTo>
                    <a:pt x="865" y="3412"/>
                  </a:lnTo>
                  <a:lnTo>
                    <a:pt x="862" y="3391"/>
                  </a:lnTo>
                  <a:lnTo>
                    <a:pt x="864" y="3373"/>
                  </a:lnTo>
                  <a:lnTo>
                    <a:pt x="858" y="3352"/>
                  </a:lnTo>
                  <a:lnTo>
                    <a:pt x="844" y="3337"/>
                  </a:lnTo>
                  <a:lnTo>
                    <a:pt x="853" y="3327"/>
                  </a:lnTo>
                  <a:lnTo>
                    <a:pt x="835" y="3295"/>
                  </a:lnTo>
                  <a:lnTo>
                    <a:pt x="834" y="3268"/>
                  </a:lnTo>
                  <a:lnTo>
                    <a:pt x="814" y="3258"/>
                  </a:lnTo>
                  <a:lnTo>
                    <a:pt x="817" y="3235"/>
                  </a:lnTo>
                  <a:lnTo>
                    <a:pt x="790" y="3226"/>
                  </a:lnTo>
                  <a:lnTo>
                    <a:pt x="769" y="3232"/>
                  </a:lnTo>
                  <a:lnTo>
                    <a:pt x="769" y="3214"/>
                  </a:lnTo>
                  <a:lnTo>
                    <a:pt x="753" y="3193"/>
                  </a:lnTo>
                  <a:lnTo>
                    <a:pt x="762" y="3171"/>
                  </a:lnTo>
                  <a:lnTo>
                    <a:pt x="753" y="3154"/>
                  </a:lnTo>
                  <a:lnTo>
                    <a:pt x="762" y="3135"/>
                  </a:lnTo>
                  <a:lnTo>
                    <a:pt x="778" y="3112"/>
                  </a:lnTo>
                  <a:lnTo>
                    <a:pt x="766" y="3097"/>
                  </a:lnTo>
                  <a:lnTo>
                    <a:pt x="748" y="3084"/>
                  </a:lnTo>
                  <a:lnTo>
                    <a:pt x="736" y="3075"/>
                  </a:lnTo>
                  <a:lnTo>
                    <a:pt x="718" y="3043"/>
                  </a:lnTo>
                  <a:lnTo>
                    <a:pt x="724" y="3025"/>
                  </a:lnTo>
                  <a:lnTo>
                    <a:pt x="744" y="3007"/>
                  </a:lnTo>
                  <a:lnTo>
                    <a:pt x="765" y="3018"/>
                  </a:lnTo>
                  <a:lnTo>
                    <a:pt x="786" y="3030"/>
                  </a:lnTo>
                  <a:lnTo>
                    <a:pt x="811" y="3030"/>
                  </a:lnTo>
                  <a:lnTo>
                    <a:pt x="826" y="3042"/>
                  </a:lnTo>
                  <a:lnTo>
                    <a:pt x="855" y="3030"/>
                  </a:lnTo>
                  <a:lnTo>
                    <a:pt x="880" y="3022"/>
                  </a:lnTo>
                  <a:lnTo>
                    <a:pt x="871" y="2989"/>
                  </a:lnTo>
                  <a:lnTo>
                    <a:pt x="891" y="2976"/>
                  </a:lnTo>
                  <a:lnTo>
                    <a:pt x="901" y="2962"/>
                  </a:lnTo>
                  <a:lnTo>
                    <a:pt x="930" y="2962"/>
                  </a:lnTo>
                  <a:lnTo>
                    <a:pt x="945" y="2959"/>
                  </a:lnTo>
                  <a:lnTo>
                    <a:pt x="934" y="2938"/>
                  </a:lnTo>
                  <a:lnTo>
                    <a:pt x="940" y="2916"/>
                  </a:lnTo>
                  <a:lnTo>
                    <a:pt x="924" y="2896"/>
                  </a:lnTo>
                  <a:lnTo>
                    <a:pt x="901" y="2887"/>
                  </a:lnTo>
                  <a:lnTo>
                    <a:pt x="877" y="2881"/>
                  </a:lnTo>
                  <a:lnTo>
                    <a:pt x="852" y="2866"/>
                  </a:lnTo>
                  <a:lnTo>
                    <a:pt x="826" y="2850"/>
                  </a:lnTo>
                  <a:lnTo>
                    <a:pt x="802" y="2823"/>
                  </a:lnTo>
                  <a:lnTo>
                    <a:pt x="781" y="2844"/>
                  </a:lnTo>
                  <a:lnTo>
                    <a:pt x="756" y="2815"/>
                  </a:lnTo>
                  <a:lnTo>
                    <a:pt x="739" y="2790"/>
                  </a:lnTo>
                  <a:lnTo>
                    <a:pt x="717" y="2782"/>
                  </a:lnTo>
                  <a:lnTo>
                    <a:pt x="694" y="2760"/>
                  </a:lnTo>
                  <a:lnTo>
                    <a:pt x="696" y="2740"/>
                  </a:lnTo>
                  <a:lnTo>
                    <a:pt x="681" y="2710"/>
                  </a:lnTo>
                  <a:lnTo>
                    <a:pt x="663" y="2724"/>
                  </a:lnTo>
                  <a:lnTo>
                    <a:pt x="646" y="2742"/>
                  </a:lnTo>
                  <a:lnTo>
                    <a:pt x="637" y="2731"/>
                  </a:lnTo>
                  <a:lnTo>
                    <a:pt x="625" y="2710"/>
                  </a:lnTo>
                  <a:lnTo>
                    <a:pt x="610" y="2722"/>
                  </a:lnTo>
                  <a:lnTo>
                    <a:pt x="592" y="2724"/>
                  </a:lnTo>
                  <a:lnTo>
                    <a:pt x="586" y="2698"/>
                  </a:lnTo>
                  <a:lnTo>
                    <a:pt x="558" y="2697"/>
                  </a:lnTo>
                  <a:lnTo>
                    <a:pt x="556" y="2671"/>
                  </a:lnTo>
                  <a:lnTo>
                    <a:pt x="531" y="2671"/>
                  </a:lnTo>
                  <a:lnTo>
                    <a:pt x="513" y="2655"/>
                  </a:lnTo>
                  <a:lnTo>
                    <a:pt x="490" y="2652"/>
                  </a:lnTo>
                  <a:lnTo>
                    <a:pt x="477" y="2646"/>
                  </a:lnTo>
                  <a:lnTo>
                    <a:pt x="457" y="2632"/>
                  </a:lnTo>
                  <a:lnTo>
                    <a:pt x="454" y="2604"/>
                  </a:lnTo>
                  <a:lnTo>
                    <a:pt x="433" y="2599"/>
                  </a:lnTo>
                  <a:lnTo>
                    <a:pt x="405" y="2596"/>
                  </a:lnTo>
                  <a:lnTo>
                    <a:pt x="396" y="2577"/>
                  </a:lnTo>
                  <a:lnTo>
                    <a:pt x="399" y="2553"/>
                  </a:lnTo>
                  <a:lnTo>
                    <a:pt x="393" y="2526"/>
                  </a:lnTo>
                  <a:lnTo>
                    <a:pt x="370" y="2524"/>
                  </a:lnTo>
                  <a:lnTo>
                    <a:pt x="351" y="2509"/>
                  </a:lnTo>
                  <a:lnTo>
                    <a:pt x="345" y="2487"/>
                  </a:lnTo>
                  <a:lnTo>
                    <a:pt x="345" y="2466"/>
                  </a:lnTo>
                  <a:lnTo>
                    <a:pt x="330" y="2458"/>
                  </a:lnTo>
                  <a:lnTo>
                    <a:pt x="304" y="2452"/>
                  </a:lnTo>
                  <a:lnTo>
                    <a:pt x="286" y="2436"/>
                  </a:lnTo>
                  <a:lnTo>
                    <a:pt x="264" y="2430"/>
                  </a:lnTo>
                  <a:lnTo>
                    <a:pt x="258" y="2415"/>
                  </a:lnTo>
                  <a:lnTo>
                    <a:pt x="231" y="2409"/>
                  </a:lnTo>
                  <a:lnTo>
                    <a:pt x="205" y="2388"/>
                  </a:lnTo>
                  <a:lnTo>
                    <a:pt x="193" y="2364"/>
                  </a:lnTo>
                  <a:lnTo>
                    <a:pt x="198" y="2344"/>
                  </a:lnTo>
                  <a:lnTo>
                    <a:pt x="219" y="2340"/>
                  </a:lnTo>
                  <a:lnTo>
                    <a:pt x="214" y="2320"/>
                  </a:lnTo>
                  <a:lnTo>
                    <a:pt x="217" y="2305"/>
                  </a:lnTo>
                  <a:lnTo>
                    <a:pt x="214" y="2292"/>
                  </a:lnTo>
                  <a:lnTo>
                    <a:pt x="219" y="2278"/>
                  </a:lnTo>
                  <a:lnTo>
                    <a:pt x="235" y="2275"/>
                  </a:lnTo>
                  <a:lnTo>
                    <a:pt x="250" y="2278"/>
                  </a:lnTo>
                  <a:lnTo>
                    <a:pt x="265" y="2289"/>
                  </a:lnTo>
                  <a:lnTo>
                    <a:pt x="283" y="2281"/>
                  </a:lnTo>
                  <a:lnTo>
                    <a:pt x="297" y="2266"/>
                  </a:lnTo>
                  <a:lnTo>
                    <a:pt x="306" y="2280"/>
                  </a:lnTo>
                  <a:lnTo>
                    <a:pt x="304" y="2298"/>
                  </a:lnTo>
                  <a:lnTo>
                    <a:pt x="319" y="2307"/>
                  </a:lnTo>
                  <a:lnTo>
                    <a:pt x="340" y="2295"/>
                  </a:lnTo>
                  <a:lnTo>
                    <a:pt x="363" y="2301"/>
                  </a:lnTo>
                  <a:lnTo>
                    <a:pt x="384" y="2301"/>
                  </a:lnTo>
                  <a:lnTo>
                    <a:pt x="388" y="2283"/>
                  </a:lnTo>
                  <a:lnTo>
                    <a:pt x="376" y="2272"/>
                  </a:lnTo>
                  <a:lnTo>
                    <a:pt x="373" y="2253"/>
                  </a:lnTo>
                  <a:lnTo>
                    <a:pt x="384" y="2235"/>
                  </a:lnTo>
                  <a:lnTo>
                    <a:pt x="396" y="2235"/>
                  </a:lnTo>
                  <a:lnTo>
                    <a:pt x="408" y="2232"/>
                  </a:lnTo>
                  <a:lnTo>
                    <a:pt x="406" y="2215"/>
                  </a:lnTo>
                  <a:lnTo>
                    <a:pt x="400" y="2194"/>
                  </a:lnTo>
                  <a:lnTo>
                    <a:pt x="381" y="2176"/>
                  </a:lnTo>
                  <a:lnTo>
                    <a:pt x="372" y="2152"/>
                  </a:lnTo>
                  <a:lnTo>
                    <a:pt x="348" y="2131"/>
                  </a:lnTo>
                  <a:lnTo>
                    <a:pt x="340" y="2107"/>
                  </a:lnTo>
                  <a:lnTo>
                    <a:pt x="318" y="2106"/>
                  </a:lnTo>
                  <a:lnTo>
                    <a:pt x="304" y="2079"/>
                  </a:lnTo>
                  <a:lnTo>
                    <a:pt x="283" y="2059"/>
                  </a:lnTo>
                  <a:lnTo>
                    <a:pt x="273" y="2032"/>
                  </a:lnTo>
                  <a:lnTo>
                    <a:pt x="256" y="2007"/>
                  </a:lnTo>
                  <a:lnTo>
                    <a:pt x="240" y="1990"/>
                  </a:lnTo>
                  <a:lnTo>
                    <a:pt x="226" y="1966"/>
                  </a:lnTo>
                  <a:lnTo>
                    <a:pt x="217" y="1950"/>
                  </a:lnTo>
                  <a:lnTo>
                    <a:pt x="210" y="1932"/>
                  </a:lnTo>
                  <a:lnTo>
                    <a:pt x="216" y="1909"/>
                  </a:lnTo>
                  <a:lnTo>
                    <a:pt x="240" y="1920"/>
                  </a:lnTo>
                  <a:lnTo>
                    <a:pt x="264" y="1923"/>
                  </a:lnTo>
                  <a:lnTo>
                    <a:pt x="283" y="1936"/>
                  </a:lnTo>
                  <a:lnTo>
                    <a:pt x="303" y="1953"/>
                  </a:lnTo>
                  <a:lnTo>
                    <a:pt x="328" y="1962"/>
                  </a:lnTo>
                  <a:lnTo>
                    <a:pt x="358" y="1963"/>
                  </a:lnTo>
                  <a:lnTo>
                    <a:pt x="390" y="1965"/>
                  </a:lnTo>
                  <a:lnTo>
                    <a:pt x="414" y="1962"/>
                  </a:lnTo>
                  <a:lnTo>
                    <a:pt x="436" y="1947"/>
                  </a:lnTo>
                  <a:lnTo>
                    <a:pt x="433" y="1929"/>
                  </a:lnTo>
                  <a:lnTo>
                    <a:pt x="459" y="1923"/>
                  </a:lnTo>
                  <a:lnTo>
                    <a:pt x="474" y="1906"/>
                  </a:lnTo>
                  <a:lnTo>
                    <a:pt x="471" y="1884"/>
                  </a:lnTo>
                  <a:lnTo>
                    <a:pt x="456" y="1873"/>
                  </a:lnTo>
                  <a:lnTo>
                    <a:pt x="448" y="1884"/>
                  </a:lnTo>
                  <a:lnTo>
                    <a:pt x="433" y="1887"/>
                  </a:lnTo>
                  <a:lnTo>
                    <a:pt x="420" y="1869"/>
                  </a:lnTo>
                  <a:lnTo>
                    <a:pt x="397" y="1857"/>
                  </a:lnTo>
                  <a:lnTo>
                    <a:pt x="382" y="1837"/>
                  </a:lnTo>
                  <a:lnTo>
                    <a:pt x="372" y="1816"/>
                  </a:lnTo>
                  <a:lnTo>
                    <a:pt x="376" y="1798"/>
                  </a:lnTo>
                  <a:lnTo>
                    <a:pt x="349" y="1813"/>
                  </a:lnTo>
                  <a:lnTo>
                    <a:pt x="339" y="1800"/>
                  </a:lnTo>
                  <a:lnTo>
                    <a:pt x="328" y="1776"/>
                  </a:lnTo>
                  <a:lnTo>
                    <a:pt x="301" y="1759"/>
                  </a:lnTo>
                  <a:lnTo>
                    <a:pt x="291" y="1740"/>
                  </a:lnTo>
                  <a:lnTo>
                    <a:pt x="298" y="1720"/>
                  </a:lnTo>
                  <a:lnTo>
                    <a:pt x="285" y="1708"/>
                  </a:lnTo>
                  <a:lnTo>
                    <a:pt x="282" y="1687"/>
                  </a:lnTo>
                  <a:lnTo>
                    <a:pt x="264" y="1689"/>
                  </a:lnTo>
                  <a:lnTo>
                    <a:pt x="249" y="1681"/>
                  </a:lnTo>
                  <a:lnTo>
                    <a:pt x="234" y="1698"/>
                  </a:lnTo>
                  <a:lnTo>
                    <a:pt x="216" y="1687"/>
                  </a:lnTo>
                  <a:lnTo>
                    <a:pt x="205" y="1666"/>
                  </a:lnTo>
                  <a:lnTo>
                    <a:pt x="186" y="1677"/>
                  </a:lnTo>
                  <a:lnTo>
                    <a:pt x="174" y="1663"/>
                  </a:lnTo>
                  <a:lnTo>
                    <a:pt x="160" y="1651"/>
                  </a:lnTo>
                  <a:lnTo>
                    <a:pt x="159" y="1632"/>
                  </a:lnTo>
                  <a:lnTo>
                    <a:pt x="153" y="1620"/>
                  </a:lnTo>
                  <a:lnTo>
                    <a:pt x="144" y="1603"/>
                  </a:lnTo>
                  <a:lnTo>
                    <a:pt x="136" y="1579"/>
                  </a:lnTo>
                  <a:lnTo>
                    <a:pt x="159" y="1567"/>
                  </a:lnTo>
                  <a:lnTo>
                    <a:pt x="174" y="1552"/>
                  </a:lnTo>
                  <a:lnTo>
                    <a:pt x="162" y="1519"/>
                  </a:lnTo>
                  <a:lnTo>
                    <a:pt x="165" y="1500"/>
                  </a:lnTo>
                  <a:lnTo>
                    <a:pt x="160" y="1480"/>
                  </a:lnTo>
                  <a:lnTo>
                    <a:pt x="168" y="1462"/>
                  </a:lnTo>
                  <a:lnTo>
                    <a:pt x="195" y="1462"/>
                  </a:lnTo>
                  <a:lnTo>
                    <a:pt x="202" y="1435"/>
                  </a:lnTo>
                  <a:lnTo>
                    <a:pt x="201" y="1411"/>
                  </a:lnTo>
                  <a:lnTo>
                    <a:pt x="219" y="1393"/>
                  </a:lnTo>
                  <a:lnTo>
                    <a:pt x="219" y="1377"/>
                  </a:lnTo>
                  <a:lnTo>
                    <a:pt x="250" y="1363"/>
                  </a:lnTo>
                  <a:lnTo>
                    <a:pt x="246" y="1342"/>
                  </a:lnTo>
                  <a:lnTo>
                    <a:pt x="265" y="1330"/>
                  </a:lnTo>
                  <a:lnTo>
                    <a:pt x="285" y="1302"/>
                  </a:lnTo>
                  <a:lnTo>
                    <a:pt x="280" y="1276"/>
                  </a:lnTo>
                  <a:lnTo>
                    <a:pt x="294" y="1270"/>
                  </a:lnTo>
                  <a:lnTo>
                    <a:pt x="292" y="1254"/>
                  </a:lnTo>
                  <a:lnTo>
                    <a:pt x="276" y="1231"/>
                  </a:lnTo>
                  <a:lnTo>
                    <a:pt x="289" y="1213"/>
                  </a:lnTo>
                  <a:lnTo>
                    <a:pt x="295" y="1198"/>
                  </a:lnTo>
                  <a:lnTo>
                    <a:pt x="321" y="1194"/>
                  </a:lnTo>
                  <a:lnTo>
                    <a:pt x="310" y="1174"/>
                  </a:lnTo>
                  <a:lnTo>
                    <a:pt x="325" y="1158"/>
                  </a:lnTo>
                  <a:lnTo>
                    <a:pt x="309" y="1138"/>
                  </a:lnTo>
                  <a:lnTo>
                    <a:pt x="279" y="1119"/>
                  </a:lnTo>
                  <a:lnTo>
                    <a:pt x="249" y="1120"/>
                  </a:lnTo>
                  <a:lnTo>
                    <a:pt x="228" y="1137"/>
                  </a:lnTo>
                  <a:lnTo>
                    <a:pt x="217" y="1123"/>
                  </a:lnTo>
                  <a:lnTo>
                    <a:pt x="202" y="1104"/>
                  </a:lnTo>
                  <a:lnTo>
                    <a:pt x="189" y="1119"/>
                  </a:lnTo>
                  <a:lnTo>
                    <a:pt x="169" y="1129"/>
                  </a:lnTo>
                  <a:lnTo>
                    <a:pt x="142" y="1140"/>
                  </a:lnTo>
                  <a:lnTo>
                    <a:pt x="124" y="1158"/>
                  </a:lnTo>
                  <a:lnTo>
                    <a:pt x="94" y="1167"/>
                  </a:lnTo>
                  <a:lnTo>
                    <a:pt x="148" y="1141"/>
                  </a:lnTo>
                  <a:lnTo>
                    <a:pt x="199" y="1110"/>
                  </a:lnTo>
                  <a:lnTo>
                    <a:pt x="180" y="1125"/>
                  </a:lnTo>
                  <a:lnTo>
                    <a:pt x="157" y="1137"/>
                  </a:lnTo>
                  <a:lnTo>
                    <a:pt x="141" y="1147"/>
                  </a:lnTo>
                  <a:lnTo>
                    <a:pt x="133" y="1152"/>
                  </a:lnTo>
                  <a:lnTo>
                    <a:pt x="114" y="1161"/>
                  </a:lnTo>
                  <a:lnTo>
                    <a:pt x="105" y="1162"/>
                  </a:lnTo>
                  <a:lnTo>
                    <a:pt x="91" y="1159"/>
                  </a:lnTo>
                  <a:lnTo>
                    <a:pt x="90" y="1153"/>
                  </a:lnTo>
                  <a:lnTo>
                    <a:pt x="87" y="1143"/>
                  </a:lnTo>
                  <a:lnTo>
                    <a:pt x="81" y="1129"/>
                  </a:lnTo>
                  <a:lnTo>
                    <a:pt x="76" y="1114"/>
                  </a:lnTo>
                  <a:lnTo>
                    <a:pt x="91" y="1110"/>
                  </a:lnTo>
                  <a:lnTo>
                    <a:pt x="109" y="1108"/>
                  </a:lnTo>
                  <a:lnTo>
                    <a:pt x="121" y="1113"/>
                  </a:lnTo>
                  <a:lnTo>
                    <a:pt x="142" y="1119"/>
                  </a:lnTo>
                  <a:lnTo>
                    <a:pt x="142" y="1108"/>
                  </a:lnTo>
                  <a:lnTo>
                    <a:pt x="162" y="1098"/>
                  </a:lnTo>
                  <a:lnTo>
                    <a:pt x="187" y="1092"/>
                  </a:lnTo>
                  <a:lnTo>
                    <a:pt x="184" y="1071"/>
                  </a:lnTo>
                  <a:lnTo>
                    <a:pt x="171" y="1053"/>
                  </a:lnTo>
                  <a:lnTo>
                    <a:pt x="151" y="1063"/>
                  </a:lnTo>
                  <a:lnTo>
                    <a:pt x="127" y="1057"/>
                  </a:lnTo>
                  <a:lnTo>
                    <a:pt x="147" y="1044"/>
                  </a:lnTo>
                  <a:lnTo>
                    <a:pt x="157" y="1026"/>
                  </a:lnTo>
                  <a:lnTo>
                    <a:pt x="159" y="1002"/>
                  </a:lnTo>
                  <a:lnTo>
                    <a:pt x="159" y="970"/>
                  </a:lnTo>
                  <a:lnTo>
                    <a:pt x="150" y="948"/>
                  </a:lnTo>
                  <a:lnTo>
                    <a:pt x="142" y="931"/>
                  </a:lnTo>
                  <a:lnTo>
                    <a:pt x="145" y="912"/>
                  </a:lnTo>
                  <a:lnTo>
                    <a:pt x="175" y="919"/>
                  </a:lnTo>
                  <a:lnTo>
                    <a:pt x="196" y="910"/>
                  </a:lnTo>
                  <a:lnTo>
                    <a:pt x="205" y="895"/>
                  </a:lnTo>
                  <a:lnTo>
                    <a:pt x="204" y="874"/>
                  </a:lnTo>
                  <a:lnTo>
                    <a:pt x="207" y="858"/>
                  </a:lnTo>
                  <a:lnTo>
                    <a:pt x="226" y="874"/>
                  </a:lnTo>
                  <a:lnTo>
                    <a:pt x="244" y="886"/>
                  </a:lnTo>
                  <a:lnTo>
                    <a:pt x="268" y="892"/>
                  </a:lnTo>
                  <a:lnTo>
                    <a:pt x="274" y="874"/>
                  </a:lnTo>
                  <a:lnTo>
                    <a:pt x="282" y="853"/>
                  </a:lnTo>
                  <a:lnTo>
                    <a:pt x="304" y="859"/>
                  </a:lnTo>
                  <a:lnTo>
                    <a:pt x="307" y="883"/>
                  </a:lnTo>
                  <a:lnTo>
                    <a:pt x="321" y="900"/>
                  </a:lnTo>
                  <a:lnTo>
                    <a:pt x="345" y="898"/>
                  </a:lnTo>
                  <a:lnTo>
                    <a:pt x="370" y="895"/>
                  </a:lnTo>
                  <a:lnTo>
                    <a:pt x="381" y="874"/>
                  </a:lnTo>
                  <a:lnTo>
                    <a:pt x="376" y="855"/>
                  </a:lnTo>
                  <a:lnTo>
                    <a:pt x="358" y="838"/>
                  </a:lnTo>
                  <a:lnTo>
                    <a:pt x="331" y="840"/>
                  </a:lnTo>
                  <a:lnTo>
                    <a:pt x="303" y="838"/>
                  </a:lnTo>
                  <a:lnTo>
                    <a:pt x="273" y="835"/>
                  </a:lnTo>
                  <a:lnTo>
                    <a:pt x="250" y="823"/>
                  </a:lnTo>
                  <a:lnTo>
                    <a:pt x="229" y="810"/>
                  </a:lnTo>
                  <a:lnTo>
                    <a:pt x="204" y="802"/>
                  </a:lnTo>
                  <a:lnTo>
                    <a:pt x="192" y="795"/>
                  </a:lnTo>
                  <a:lnTo>
                    <a:pt x="171" y="783"/>
                  </a:lnTo>
                  <a:lnTo>
                    <a:pt x="159" y="762"/>
                  </a:lnTo>
                  <a:lnTo>
                    <a:pt x="147" y="735"/>
                  </a:lnTo>
                  <a:lnTo>
                    <a:pt x="117" y="729"/>
                  </a:lnTo>
                  <a:lnTo>
                    <a:pt x="96" y="723"/>
                  </a:lnTo>
                  <a:lnTo>
                    <a:pt x="79" y="702"/>
                  </a:lnTo>
                  <a:lnTo>
                    <a:pt x="84" y="678"/>
                  </a:lnTo>
                  <a:lnTo>
                    <a:pt x="111" y="678"/>
                  </a:lnTo>
                  <a:lnTo>
                    <a:pt x="120" y="663"/>
                  </a:lnTo>
                  <a:lnTo>
                    <a:pt x="97" y="649"/>
                  </a:lnTo>
                  <a:lnTo>
                    <a:pt x="99" y="621"/>
                  </a:lnTo>
                  <a:lnTo>
                    <a:pt x="105" y="600"/>
                  </a:lnTo>
                  <a:lnTo>
                    <a:pt x="132" y="609"/>
                  </a:lnTo>
                  <a:lnTo>
                    <a:pt x="151" y="607"/>
                  </a:lnTo>
                  <a:lnTo>
                    <a:pt x="168" y="595"/>
                  </a:lnTo>
                  <a:lnTo>
                    <a:pt x="165" y="571"/>
                  </a:lnTo>
                  <a:lnTo>
                    <a:pt x="142" y="567"/>
                  </a:lnTo>
                  <a:lnTo>
                    <a:pt x="127" y="552"/>
                  </a:lnTo>
                  <a:lnTo>
                    <a:pt x="94" y="561"/>
                  </a:lnTo>
                  <a:lnTo>
                    <a:pt x="60" y="562"/>
                  </a:lnTo>
                  <a:lnTo>
                    <a:pt x="34" y="550"/>
                  </a:lnTo>
                  <a:lnTo>
                    <a:pt x="21" y="532"/>
                  </a:lnTo>
                  <a:lnTo>
                    <a:pt x="24" y="514"/>
                  </a:lnTo>
                  <a:lnTo>
                    <a:pt x="22" y="496"/>
                  </a:lnTo>
                  <a:lnTo>
                    <a:pt x="39" y="486"/>
                  </a:lnTo>
                  <a:lnTo>
                    <a:pt x="49" y="471"/>
                  </a:lnTo>
                  <a:lnTo>
                    <a:pt x="67" y="456"/>
                  </a:lnTo>
                  <a:lnTo>
                    <a:pt x="87" y="447"/>
                  </a:lnTo>
                  <a:lnTo>
                    <a:pt x="85" y="430"/>
                  </a:lnTo>
                  <a:lnTo>
                    <a:pt x="67" y="432"/>
                  </a:lnTo>
                  <a:lnTo>
                    <a:pt x="45" y="424"/>
                  </a:lnTo>
                  <a:lnTo>
                    <a:pt x="33" y="405"/>
                  </a:lnTo>
                  <a:lnTo>
                    <a:pt x="37" y="385"/>
                  </a:lnTo>
                  <a:lnTo>
                    <a:pt x="42" y="360"/>
                  </a:lnTo>
                  <a:lnTo>
                    <a:pt x="24" y="334"/>
                  </a:lnTo>
                  <a:lnTo>
                    <a:pt x="12" y="313"/>
                  </a:lnTo>
                  <a:lnTo>
                    <a:pt x="12" y="297"/>
                  </a:lnTo>
                  <a:lnTo>
                    <a:pt x="25" y="282"/>
                  </a:lnTo>
                  <a:lnTo>
                    <a:pt x="18" y="265"/>
                  </a:lnTo>
                  <a:lnTo>
                    <a:pt x="1" y="258"/>
                  </a:lnTo>
                  <a:lnTo>
                    <a:pt x="0" y="243"/>
                  </a:lnTo>
                  <a:lnTo>
                    <a:pt x="19" y="234"/>
                  </a:lnTo>
                  <a:lnTo>
                    <a:pt x="37" y="228"/>
                  </a:lnTo>
                  <a:lnTo>
                    <a:pt x="40" y="211"/>
                  </a:lnTo>
                  <a:lnTo>
                    <a:pt x="58" y="210"/>
                  </a:lnTo>
                  <a:lnTo>
                    <a:pt x="81" y="217"/>
                  </a:lnTo>
                  <a:lnTo>
                    <a:pt x="108" y="220"/>
                  </a:lnTo>
                  <a:lnTo>
                    <a:pt x="112" y="204"/>
                  </a:lnTo>
                  <a:lnTo>
                    <a:pt x="118" y="186"/>
                  </a:lnTo>
                  <a:lnTo>
                    <a:pt x="138" y="189"/>
                  </a:lnTo>
                  <a:lnTo>
                    <a:pt x="163" y="190"/>
                  </a:lnTo>
                  <a:lnTo>
                    <a:pt x="162" y="172"/>
                  </a:lnTo>
                  <a:lnTo>
                    <a:pt x="157" y="153"/>
                  </a:lnTo>
                  <a:lnTo>
                    <a:pt x="168" y="135"/>
                  </a:lnTo>
                  <a:lnTo>
                    <a:pt x="186" y="121"/>
                  </a:lnTo>
                  <a:lnTo>
                    <a:pt x="204" y="121"/>
                  </a:lnTo>
                  <a:lnTo>
                    <a:pt x="201" y="139"/>
                  </a:lnTo>
                  <a:lnTo>
                    <a:pt x="201" y="159"/>
                  </a:lnTo>
                  <a:lnTo>
                    <a:pt x="223" y="168"/>
                  </a:lnTo>
                  <a:lnTo>
                    <a:pt x="244" y="157"/>
                  </a:lnTo>
                  <a:lnTo>
                    <a:pt x="267" y="159"/>
                  </a:lnTo>
                  <a:lnTo>
                    <a:pt x="291" y="162"/>
                  </a:lnTo>
                  <a:lnTo>
                    <a:pt x="294" y="144"/>
                  </a:lnTo>
                  <a:lnTo>
                    <a:pt x="310" y="136"/>
                  </a:lnTo>
                  <a:lnTo>
                    <a:pt x="325" y="120"/>
                  </a:lnTo>
                  <a:lnTo>
                    <a:pt x="345" y="120"/>
                  </a:lnTo>
                  <a:lnTo>
                    <a:pt x="367" y="126"/>
                  </a:lnTo>
                  <a:lnTo>
                    <a:pt x="381" y="109"/>
                  </a:lnTo>
                  <a:lnTo>
                    <a:pt x="394" y="94"/>
                  </a:lnTo>
                  <a:lnTo>
                    <a:pt x="412" y="97"/>
                  </a:lnTo>
                  <a:lnTo>
                    <a:pt x="412" y="79"/>
                  </a:lnTo>
                  <a:lnTo>
                    <a:pt x="424" y="66"/>
                  </a:lnTo>
                  <a:lnTo>
                    <a:pt x="447" y="66"/>
                  </a:lnTo>
                  <a:lnTo>
                    <a:pt x="454" y="51"/>
                  </a:lnTo>
                  <a:lnTo>
                    <a:pt x="441" y="43"/>
                  </a:lnTo>
                  <a:lnTo>
                    <a:pt x="441" y="27"/>
                  </a:lnTo>
                  <a:lnTo>
                    <a:pt x="463" y="28"/>
                  </a:lnTo>
                  <a:lnTo>
                    <a:pt x="471" y="13"/>
                  </a:lnTo>
                  <a:lnTo>
                    <a:pt x="486" y="1"/>
                  </a:lnTo>
                  <a:lnTo>
                    <a:pt x="501" y="9"/>
                  </a:lnTo>
                  <a:lnTo>
                    <a:pt x="525" y="7"/>
                  </a:lnTo>
                  <a:lnTo>
                    <a:pt x="550" y="0"/>
                  </a:lnTo>
                  <a:lnTo>
                    <a:pt x="570" y="7"/>
                  </a:lnTo>
                  <a:lnTo>
                    <a:pt x="586" y="21"/>
                  </a:lnTo>
                  <a:lnTo>
                    <a:pt x="606" y="36"/>
                  </a:lnTo>
                  <a:lnTo>
                    <a:pt x="622" y="51"/>
                  </a:lnTo>
                  <a:lnTo>
                    <a:pt x="639" y="57"/>
                  </a:lnTo>
                  <a:lnTo>
                    <a:pt x="649" y="45"/>
                  </a:lnTo>
                  <a:lnTo>
                    <a:pt x="661" y="30"/>
                  </a:lnTo>
                  <a:lnTo>
                    <a:pt x="685" y="34"/>
                  </a:lnTo>
                  <a:lnTo>
                    <a:pt x="702" y="19"/>
                  </a:lnTo>
                  <a:lnTo>
                    <a:pt x="732" y="13"/>
                  </a:lnTo>
                  <a:lnTo>
                    <a:pt x="760" y="13"/>
                  </a:lnTo>
                  <a:lnTo>
                    <a:pt x="774" y="34"/>
                  </a:lnTo>
                  <a:lnTo>
                    <a:pt x="780" y="51"/>
                  </a:lnTo>
                  <a:lnTo>
                    <a:pt x="798" y="31"/>
                  </a:lnTo>
                  <a:lnTo>
                    <a:pt x="817" y="13"/>
                  </a:lnTo>
                  <a:lnTo>
                    <a:pt x="826" y="31"/>
                  </a:lnTo>
                  <a:lnTo>
                    <a:pt x="837" y="48"/>
                  </a:lnTo>
                  <a:lnTo>
                    <a:pt x="856" y="48"/>
                  </a:lnTo>
                  <a:lnTo>
                    <a:pt x="867" y="31"/>
                  </a:lnTo>
                  <a:lnTo>
                    <a:pt x="882" y="42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666720" y="1955880"/>
              <a:ext cx="7791120" cy="4222440"/>
              <a:chOff x="666720" y="1955880"/>
              <a:chExt cx="7791120" cy="4222440"/>
            </a:xfrm>
          </p:grpSpPr>
          <p:sp>
            <p:nvSpPr>
              <p:cNvPr id="73" name=""/>
              <p:cNvSpPr/>
              <p:nvPr/>
            </p:nvSpPr>
            <p:spPr>
              <a:xfrm>
                <a:off x="751680" y="5936760"/>
                <a:ext cx="7705800" cy="181440"/>
              </a:xfrm>
              <a:custGeom>
                <a:avLst/>
                <a:gdLst/>
                <a:ahLst/>
                <a:rect l="l" t="t" r="r" b="b"/>
                <a:pathLst>
                  <a:path w="2686" h="90">
                    <a:moveTo>
                      <a:pt x="0" y="90"/>
                    </a:moveTo>
                    <a:lnTo>
                      <a:pt x="126" y="0"/>
                    </a:lnTo>
                    <a:lnTo>
                      <a:pt x="2686" y="0"/>
                    </a:lnTo>
                    <a:lnTo>
                      <a:pt x="2560" y="9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1680" y="1955880"/>
                <a:ext cx="361080" cy="4162320"/>
              </a:xfrm>
              <a:custGeom>
                <a:avLst/>
                <a:gdLst/>
                <a:ahLst/>
                <a:rect l="l" t="t" r="r" b="b"/>
                <a:pathLst>
                  <a:path w="126" h="2062">
                    <a:moveTo>
                      <a:pt x="0" y="2062"/>
                    </a:moveTo>
                    <a:lnTo>
                      <a:pt x="0" y="90"/>
                    </a:lnTo>
                    <a:lnTo>
                      <a:pt x="126" y="0"/>
                    </a:lnTo>
                    <a:lnTo>
                      <a:pt x="126" y="1972"/>
                    </a:lnTo>
                    <a:lnTo>
                      <a:pt x="0" y="2062"/>
                    </a:lnTo>
                    <a:close/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113120" y="1955880"/>
                <a:ext cx="7344720" cy="398088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51680" y="5936760"/>
                <a:ext cx="7705800" cy="181440"/>
              </a:xfrm>
              <a:custGeom>
                <a:avLst/>
                <a:gdLst/>
                <a:ahLst/>
                <a:rect l="l" t="t" r="r" b="b"/>
                <a:pathLst>
                  <a:path w="448" h="15">
                    <a:moveTo>
                      <a:pt x="0" y="15"/>
                    </a:moveTo>
                    <a:lnTo>
                      <a:pt x="21" y="0"/>
                    </a:lnTo>
                    <a:lnTo>
                      <a:pt x="44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1680" y="5537160"/>
                <a:ext cx="7705800" cy="192600"/>
              </a:xfrm>
              <a:custGeom>
                <a:avLst/>
                <a:gdLst/>
                <a:ahLst/>
                <a:rect l="l" t="t" r="r" b="b"/>
                <a:pathLst>
                  <a:path w="448" h="16">
                    <a:moveTo>
                      <a:pt x="0" y="16"/>
                    </a:moveTo>
                    <a:lnTo>
                      <a:pt x="21" y="0"/>
                    </a:lnTo>
                    <a:lnTo>
                      <a:pt x="44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51680" y="5139720"/>
                <a:ext cx="7705800" cy="192240"/>
              </a:xfrm>
              <a:custGeom>
                <a:avLst/>
                <a:gdLst/>
                <a:ahLst/>
                <a:rect l="l" t="t" r="r" b="b"/>
                <a:pathLst>
                  <a:path w="448" h="16">
                    <a:moveTo>
                      <a:pt x="0" y="16"/>
                    </a:moveTo>
                    <a:lnTo>
                      <a:pt x="21" y="0"/>
                    </a:lnTo>
                    <a:lnTo>
                      <a:pt x="44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51680" y="4738320"/>
                <a:ext cx="7705800" cy="194040"/>
              </a:xfrm>
              <a:custGeom>
                <a:avLst/>
                <a:gdLst/>
                <a:ahLst/>
                <a:rect l="l" t="t" r="r" b="b"/>
                <a:pathLst>
                  <a:path w="448" h="16">
                    <a:moveTo>
                      <a:pt x="0" y="16"/>
                    </a:moveTo>
                    <a:lnTo>
                      <a:pt x="21" y="0"/>
                    </a:lnTo>
                    <a:lnTo>
                      <a:pt x="44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51680" y="4339440"/>
                <a:ext cx="7705800" cy="194040"/>
              </a:xfrm>
              <a:custGeom>
                <a:avLst/>
                <a:gdLst/>
                <a:ahLst/>
                <a:rect l="l" t="t" r="r" b="b"/>
                <a:pathLst>
                  <a:path w="448" h="16">
                    <a:moveTo>
                      <a:pt x="0" y="16"/>
                    </a:moveTo>
                    <a:lnTo>
                      <a:pt x="21" y="0"/>
                    </a:lnTo>
                    <a:lnTo>
                      <a:pt x="44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51680" y="3939840"/>
                <a:ext cx="7705800" cy="194040"/>
              </a:xfrm>
              <a:custGeom>
                <a:avLst/>
                <a:gdLst/>
                <a:ahLst/>
                <a:rect l="l" t="t" r="r" b="b"/>
                <a:pathLst>
                  <a:path w="448" h="16">
                    <a:moveTo>
                      <a:pt x="0" y="16"/>
                    </a:moveTo>
                    <a:lnTo>
                      <a:pt x="21" y="0"/>
                    </a:lnTo>
                    <a:lnTo>
                      <a:pt x="44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51680" y="3540600"/>
                <a:ext cx="7705800" cy="194040"/>
              </a:xfrm>
              <a:custGeom>
                <a:avLst/>
                <a:gdLst/>
                <a:ahLst/>
                <a:rect l="l" t="t" r="r" b="b"/>
                <a:pathLst>
                  <a:path w="448" h="16">
                    <a:moveTo>
                      <a:pt x="0" y="16"/>
                    </a:moveTo>
                    <a:lnTo>
                      <a:pt x="21" y="0"/>
                    </a:lnTo>
                    <a:lnTo>
                      <a:pt x="44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51680" y="3141000"/>
                <a:ext cx="7705800" cy="192600"/>
              </a:xfrm>
              <a:custGeom>
                <a:avLst/>
                <a:gdLst/>
                <a:ahLst/>
                <a:rect l="l" t="t" r="r" b="b"/>
                <a:pathLst>
                  <a:path w="448" h="16">
                    <a:moveTo>
                      <a:pt x="0" y="16"/>
                    </a:moveTo>
                    <a:lnTo>
                      <a:pt x="21" y="0"/>
                    </a:lnTo>
                    <a:lnTo>
                      <a:pt x="44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51680" y="2743560"/>
                <a:ext cx="7705800" cy="192240"/>
              </a:xfrm>
              <a:custGeom>
                <a:avLst/>
                <a:gdLst/>
                <a:ahLst/>
                <a:rect l="l" t="t" r="r" b="b"/>
                <a:pathLst>
                  <a:path w="448" h="16">
                    <a:moveTo>
                      <a:pt x="0" y="16"/>
                    </a:moveTo>
                    <a:lnTo>
                      <a:pt x="21" y="0"/>
                    </a:lnTo>
                    <a:lnTo>
                      <a:pt x="44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51680" y="2342160"/>
                <a:ext cx="7705800" cy="194040"/>
              </a:xfrm>
              <a:custGeom>
                <a:avLst/>
                <a:gdLst/>
                <a:ahLst/>
                <a:rect l="l" t="t" r="r" b="b"/>
                <a:pathLst>
                  <a:path w="448" h="16">
                    <a:moveTo>
                      <a:pt x="0" y="16"/>
                    </a:moveTo>
                    <a:lnTo>
                      <a:pt x="21" y="0"/>
                    </a:lnTo>
                    <a:lnTo>
                      <a:pt x="44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51680" y="1955880"/>
                <a:ext cx="7705800" cy="181080"/>
              </a:xfrm>
              <a:custGeom>
                <a:avLst/>
                <a:gdLst/>
                <a:ahLst/>
                <a:rect l="l" t="t" r="r" b="b"/>
                <a:pathLst>
                  <a:path w="448" h="15">
                    <a:moveTo>
                      <a:pt x="0" y="15"/>
                    </a:moveTo>
                    <a:lnTo>
                      <a:pt x="21" y="0"/>
                    </a:lnTo>
                    <a:lnTo>
                      <a:pt x="44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51680" y="5936760"/>
                <a:ext cx="7705800" cy="181440"/>
              </a:xfrm>
              <a:custGeom>
                <a:avLst/>
                <a:gdLst/>
                <a:ahLst/>
                <a:rect l="l" t="t" r="r" b="b"/>
                <a:pathLst>
                  <a:path w="2686" h="90">
                    <a:moveTo>
                      <a:pt x="2686" y="0"/>
                    </a:moveTo>
                    <a:lnTo>
                      <a:pt x="2560" y="90"/>
                    </a:lnTo>
                    <a:lnTo>
                      <a:pt x="0" y="90"/>
                    </a:lnTo>
                    <a:lnTo>
                      <a:pt x="126" y="0"/>
                    </a:lnTo>
                    <a:lnTo>
                      <a:pt x="2686" y="0"/>
                    </a:lnTo>
                    <a:close/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51680" y="1955880"/>
                <a:ext cx="361080" cy="4162320"/>
              </a:xfrm>
              <a:custGeom>
                <a:avLst/>
                <a:gdLst/>
                <a:ahLst/>
                <a:rect l="l" t="t" r="r" b="b"/>
                <a:pathLst>
                  <a:path w="126" h="2062">
                    <a:moveTo>
                      <a:pt x="0" y="2062"/>
                    </a:moveTo>
                    <a:lnTo>
                      <a:pt x="0" y="90"/>
                    </a:lnTo>
                    <a:lnTo>
                      <a:pt x="126" y="0"/>
                    </a:lnTo>
                    <a:lnTo>
                      <a:pt x="126" y="1972"/>
                    </a:lnTo>
                    <a:lnTo>
                      <a:pt x="0" y="2062"/>
                    </a:lnTo>
                    <a:close/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113120" y="1955880"/>
                <a:ext cx="7344720" cy="398088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>
                <a:off x="751680" y="2136600"/>
                <a:ext cx="2160" cy="39812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666720" y="6118200"/>
                <a:ext cx="84960" cy="14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666720" y="5730120"/>
                <a:ext cx="84960" cy="28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666720" y="5331960"/>
                <a:ext cx="84960" cy="32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666720" y="4932720"/>
                <a:ext cx="84960" cy="32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666720" y="4533480"/>
                <a:ext cx="84960" cy="14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666720" y="4133880"/>
                <a:ext cx="84960" cy="14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666720" y="3734640"/>
                <a:ext cx="84960" cy="14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666720" y="3333600"/>
                <a:ext cx="84960" cy="28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666720" y="2935800"/>
                <a:ext cx="84960" cy="32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666720" y="2536200"/>
                <a:ext cx="84960" cy="32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666720" y="2136960"/>
                <a:ext cx="84960" cy="18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51680" y="6118200"/>
                <a:ext cx="7344720" cy="14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51680" y="6118200"/>
                <a:ext cx="2160" cy="6012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31600" y="6118200"/>
                <a:ext cx="4680" cy="6012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096400" y="6118200"/>
                <a:ext cx="2520" cy="6012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90000" y="1992240"/>
              <a:ext cx="686160" cy="4256280"/>
              <a:chOff x="90000" y="1992240"/>
              <a:chExt cx="686160" cy="4256280"/>
            </a:xfrm>
          </p:grpSpPr>
          <p:sp>
            <p:nvSpPr>
              <p:cNvPr id="107" name=""/>
              <p:cNvSpPr/>
              <p:nvPr/>
            </p:nvSpPr>
            <p:spPr>
              <a:xfrm>
                <a:off x="511200" y="5973840"/>
                <a:ext cx="131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entury Gothic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19960" y="5584680"/>
                <a:ext cx="393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entury Gothic"/>
                  </a:rPr>
                  <a:t>1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19960" y="5187960"/>
                <a:ext cx="393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entury Gothic"/>
                  </a:rPr>
                  <a:t>2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28600" y="4788000"/>
                <a:ext cx="547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entury Gothic"/>
                  </a:rPr>
                  <a:t>3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19960" y="4387680"/>
                <a:ext cx="393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entury Gothic"/>
                  </a:rPr>
                  <a:t>4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19960" y="3987720"/>
                <a:ext cx="393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entury Gothic"/>
                  </a:rPr>
                  <a:t>5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19960" y="3587760"/>
                <a:ext cx="393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entury Gothic"/>
                  </a:rPr>
                  <a:t>6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19960" y="3189240"/>
                <a:ext cx="393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entury Gothic"/>
                  </a:rPr>
                  <a:t>7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19960" y="2790720"/>
                <a:ext cx="393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entury Gothic"/>
                  </a:rPr>
                  <a:t>8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19960" y="2392200"/>
                <a:ext cx="393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entury Gothic"/>
                  </a:rPr>
                  <a:t>9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90000" y="1992240"/>
                <a:ext cx="524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entury Gothic"/>
                  </a:rPr>
                  <a:t>10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990720" y="6269040"/>
              <a:ext cx="2209680" cy="360360"/>
            </a:xfrm>
            <a:prstGeom prst="roundRect">
              <a:avLst>
                <a:gd name="adj" fmla="val 16667"/>
              </a:avLst>
            </a:prstGeom>
            <a:solidFill>
              <a:srgbClr val="00008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cc"/>
                  </a:solidFill>
                  <a:latin typeface="Century Gothic"/>
                </a:rPr>
                <a:t>January </a:t>
              </a:r>
              <a:r>
                <a:rPr b="1" i="1" lang="sl-SI" sz="2000" spc="-1" strike="noStrike">
                  <a:solidFill>
                    <a:srgbClr val="ffffcc"/>
                  </a:solidFill>
                  <a:latin typeface="Century Gothic"/>
                </a:rPr>
                <a:t>20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1123920" y="3809880"/>
              <a:ext cx="1619280" cy="2286000"/>
              <a:chOff x="1123920" y="3809880"/>
              <a:chExt cx="1619280" cy="2286000"/>
            </a:xfrm>
          </p:grpSpPr>
          <p:sp>
            <p:nvSpPr>
              <p:cNvPr id="120" name=""/>
              <p:cNvSpPr/>
              <p:nvPr/>
            </p:nvSpPr>
            <p:spPr>
              <a:xfrm>
                <a:off x="2329560" y="3809880"/>
                <a:ext cx="413280" cy="2286000"/>
              </a:xfrm>
              <a:custGeom>
                <a:avLst/>
                <a:gdLst/>
                <a:ahLst/>
                <a:rect l="l" t="t" r="r" b="b"/>
                <a:pathLst>
                  <a:path w="126" h="1295">
                    <a:moveTo>
                      <a:pt x="0" y="1295"/>
                    </a:moveTo>
                    <a:lnTo>
                      <a:pt x="0" y="96"/>
                    </a:lnTo>
                    <a:lnTo>
                      <a:pt x="126" y="0"/>
                    </a:lnTo>
                    <a:lnTo>
                      <a:pt x="126" y="1205"/>
                    </a:lnTo>
                    <a:lnTo>
                      <a:pt x="0" y="1295"/>
                    </a:lnTo>
                    <a:close/>
                  </a:path>
                </a:pathLst>
              </a:custGeom>
              <a:solidFill>
                <a:srgbClr val="1a1a66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23920" y="3979080"/>
                <a:ext cx="1205640" cy="211644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23920" y="3809880"/>
                <a:ext cx="1619280" cy="169200"/>
              </a:xfrm>
              <a:custGeom>
                <a:avLst/>
                <a:gdLst/>
                <a:ahLst/>
                <a:rect l="l" t="t" r="r" b="b"/>
                <a:pathLst>
                  <a:path w="492" h="96">
                    <a:moveTo>
                      <a:pt x="366" y="96"/>
                    </a:moveTo>
                    <a:lnTo>
                      <a:pt x="492" y="0"/>
                    </a:lnTo>
                    <a:lnTo>
                      <a:pt x="126" y="0"/>
                    </a:lnTo>
                    <a:lnTo>
                      <a:pt x="0" y="96"/>
                    </a:lnTo>
                    <a:lnTo>
                      <a:pt x="366" y="96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304640" y="4210920"/>
                <a:ext cx="96084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4400" spc="-1" strike="noStrike">
                    <a:solidFill>
                      <a:srgbClr val="ffffcc"/>
                    </a:solidFill>
                    <a:latin typeface="Century Gothic"/>
                  </a:rPr>
                  <a:t>510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696960" y="384120"/>
              <a:ext cx="7750080" cy="982080"/>
            </a:xfrm>
            <a:prstGeom prst="roundRect">
              <a:avLst>
                <a:gd name="adj" fmla="val 16667"/>
              </a:avLst>
            </a:prstGeom>
            <a:solidFill>
              <a:srgbClr val="00008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 u="sng">
                  <a:solidFill>
                    <a:srgbClr val="ffffff"/>
                  </a:solidFill>
                  <a:uFillTx/>
                  <a:latin typeface="Century Gothic"/>
                </a:rPr>
                <a:t>Real Estate Cadastre</a:t>
              </a:r>
              <a:br>
                <a:rPr sz="3200"/>
              </a:br>
              <a:r>
                <a:rPr b="1" i="1" lang="en-US" sz="2000" spc="-1" strike="noStrike">
                  <a:solidFill>
                    <a:srgbClr val="ffffcc"/>
                  </a:solidFill>
                  <a:latin typeface="Century Gothic"/>
                </a:rPr>
                <a:t>No. of District Cadastre Offices with new ownership evid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29000" y="6269040"/>
              <a:ext cx="2209680" cy="360360"/>
            </a:xfrm>
            <a:prstGeom prst="roundRect">
              <a:avLst>
                <a:gd name="adj" fmla="val 16667"/>
              </a:avLst>
            </a:prstGeom>
            <a:solidFill>
              <a:srgbClr val="00008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l-SI" sz="2000" spc="-1" strike="noStrike">
                  <a:solidFill>
                    <a:srgbClr val="ffffcc"/>
                  </a:solidFill>
                  <a:latin typeface="Century Gothic"/>
                </a:rPr>
                <a:t>Novemb</a:t>
              </a:r>
              <a:r>
                <a:rPr b="1" i="1" lang="en-US" sz="2000" spc="-1" strike="noStrike">
                  <a:solidFill>
                    <a:srgbClr val="ffffcc"/>
                  </a:solidFill>
                  <a:latin typeface="Century Gothic"/>
                </a:rPr>
                <a:t>e</a:t>
              </a:r>
              <a:r>
                <a:rPr b="1" i="1" lang="sl-SI" sz="2000" spc="-1" strike="noStrike">
                  <a:solidFill>
                    <a:srgbClr val="ffffcc"/>
                  </a:solidFill>
                  <a:latin typeface="Century Gothic"/>
                </a:rPr>
                <a:t>r 20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3505320" y="2490840"/>
              <a:ext cx="1800000" cy="3604680"/>
              <a:chOff x="3505320" y="2490840"/>
              <a:chExt cx="1800000" cy="3604680"/>
            </a:xfrm>
          </p:grpSpPr>
          <p:sp>
            <p:nvSpPr>
              <p:cNvPr id="127" name=""/>
              <p:cNvSpPr/>
              <p:nvPr/>
            </p:nvSpPr>
            <p:spPr>
              <a:xfrm>
                <a:off x="4845600" y="2490840"/>
                <a:ext cx="459720" cy="3604680"/>
              </a:xfrm>
              <a:custGeom>
                <a:avLst/>
                <a:gdLst/>
                <a:ahLst/>
                <a:rect l="l" t="t" r="r" b="b"/>
                <a:pathLst>
                  <a:path w="126" h="1295">
                    <a:moveTo>
                      <a:pt x="0" y="1295"/>
                    </a:moveTo>
                    <a:lnTo>
                      <a:pt x="0" y="96"/>
                    </a:lnTo>
                    <a:lnTo>
                      <a:pt x="126" y="0"/>
                    </a:lnTo>
                    <a:lnTo>
                      <a:pt x="126" y="1205"/>
                    </a:lnTo>
                    <a:lnTo>
                      <a:pt x="0" y="1295"/>
                    </a:lnTo>
                    <a:close/>
                  </a:path>
                </a:pathLst>
              </a:custGeom>
              <a:solidFill>
                <a:srgbClr val="1a1a66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505320" y="2757600"/>
                <a:ext cx="1340280" cy="333756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5320" y="2490840"/>
                <a:ext cx="1800000" cy="266760"/>
              </a:xfrm>
              <a:custGeom>
                <a:avLst/>
                <a:gdLst/>
                <a:ahLst/>
                <a:rect l="l" t="t" r="r" b="b"/>
                <a:pathLst>
                  <a:path w="492" h="96">
                    <a:moveTo>
                      <a:pt x="366" y="96"/>
                    </a:moveTo>
                    <a:lnTo>
                      <a:pt x="492" y="0"/>
                    </a:lnTo>
                    <a:lnTo>
                      <a:pt x="126" y="0"/>
                    </a:lnTo>
                    <a:lnTo>
                      <a:pt x="0" y="96"/>
                    </a:lnTo>
                    <a:lnTo>
                      <a:pt x="366" y="96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707640" y="3123360"/>
                <a:ext cx="96084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4400" spc="-1" strike="noStrike">
                    <a:solidFill>
                      <a:srgbClr val="ffffcc"/>
                    </a:solidFill>
                    <a:latin typeface="Century Gothic"/>
                  </a:rPr>
                  <a:t>86</a:t>
                </a:r>
                <a:r>
                  <a:rPr b="1" lang="en-US" sz="4400" spc="-1" strike="noStrike">
                    <a:solidFill>
                      <a:srgbClr val="ffffcc"/>
                    </a:solidFill>
                    <a:latin typeface="Century Gothic"/>
                  </a:rPr>
                  <a:t>8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6002640" y="1752480"/>
              <a:ext cx="2176200" cy="4343400"/>
              <a:chOff x="6002640" y="1752480"/>
              <a:chExt cx="2176200" cy="4343400"/>
            </a:xfrm>
          </p:grpSpPr>
          <p:sp>
            <p:nvSpPr>
              <p:cNvPr id="132" name=""/>
              <p:cNvSpPr/>
              <p:nvPr/>
            </p:nvSpPr>
            <p:spPr>
              <a:xfrm>
                <a:off x="7628040" y="1752480"/>
                <a:ext cx="550800" cy="4343400"/>
              </a:xfrm>
              <a:custGeom>
                <a:avLst/>
                <a:gdLst/>
                <a:ahLst/>
                <a:rect l="l" t="t" r="r" b="b"/>
                <a:pathLst>
                  <a:path w="126" h="1295">
                    <a:moveTo>
                      <a:pt x="0" y="1295"/>
                    </a:moveTo>
                    <a:lnTo>
                      <a:pt x="0" y="96"/>
                    </a:lnTo>
                    <a:lnTo>
                      <a:pt x="126" y="0"/>
                    </a:lnTo>
                    <a:lnTo>
                      <a:pt x="126" y="1205"/>
                    </a:lnTo>
                    <a:lnTo>
                      <a:pt x="0" y="1295"/>
                    </a:lnTo>
                    <a:close/>
                  </a:path>
                </a:pathLst>
              </a:custGeom>
              <a:solidFill>
                <a:srgbClr val="1a1a66">
                  <a:alpha val="75000"/>
                </a:srgbClr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019920" y="2075040"/>
                <a:ext cx="1608120" cy="4020840"/>
              </a:xfrm>
              <a:prstGeom prst="rect">
                <a:avLst/>
              </a:prstGeom>
              <a:solidFill>
                <a:srgbClr val="0000ff">
                  <a:alpha val="41000"/>
                </a:srgbClr>
              </a:solidFill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19920" y="1752480"/>
                <a:ext cx="2158920" cy="322560"/>
              </a:xfrm>
              <a:custGeom>
                <a:avLst/>
                <a:gdLst/>
                <a:ahLst/>
                <a:rect l="l" t="t" r="r" b="b"/>
                <a:pathLst>
                  <a:path w="492" h="96">
                    <a:moveTo>
                      <a:pt x="366" y="96"/>
                    </a:moveTo>
                    <a:lnTo>
                      <a:pt x="492" y="0"/>
                    </a:lnTo>
                    <a:lnTo>
                      <a:pt x="126" y="0"/>
                    </a:lnTo>
                    <a:lnTo>
                      <a:pt x="0" y="96"/>
                    </a:lnTo>
                    <a:lnTo>
                      <a:pt x="366" y="96"/>
                    </a:lnTo>
                    <a:close/>
                  </a:path>
                </a:pathLst>
              </a:custGeom>
              <a:solidFill>
                <a:srgbClr val="0000ff">
                  <a:alpha val="41000"/>
                </a:srgbClr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002640" y="2209680"/>
                <a:ext cx="158580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4400" spc="-1" strike="noStrike">
                    <a:solidFill>
                      <a:srgbClr val="ffffcc"/>
                    </a:solidFill>
                    <a:latin typeface="Century Gothic"/>
                  </a:rPr>
                  <a:t>1050*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5943600" y="5943600"/>
              <a:ext cx="2209680" cy="719280"/>
            </a:xfrm>
            <a:prstGeom prst="roundRect">
              <a:avLst>
                <a:gd name="adj" fmla="val 16667"/>
              </a:avLst>
            </a:prstGeom>
            <a:solidFill>
              <a:srgbClr val="00008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l-SI" sz="1800" spc="-1" strike="noStrike">
                  <a:solidFill>
                    <a:srgbClr val="ffffcc"/>
                  </a:solidFill>
                  <a:latin typeface="Century Gothic"/>
                </a:rPr>
                <a:t>* </a:t>
              </a:r>
              <a:r>
                <a:rPr b="1" i="1" lang="en-US" sz="1800" spc="-1" strike="noStrike">
                  <a:solidFill>
                    <a:srgbClr val="ffffcc"/>
                  </a:solidFill>
                  <a:latin typeface="Century Gothic"/>
                </a:rPr>
                <a:t>Planned up to</a:t>
              </a:r>
              <a:r>
                <a:rPr b="1" i="1" lang="sl-SI" sz="1800" spc="-1" strike="noStrike">
                  <a:solidFill>
                    <a:srgbClr val="ffffcc"/>
                  </a:solidFill>
                  <a:latin typeface="Century Gothic"/>
                </a:rPr>
                <a:t> </a:t>
              </a:r>
              <a:r>
                <a:rPr b="1" i="1" lang="en-US" sz="1800" spc="-1" strike="noStrike">
                  <a:solidFill>
                    <a:srgbClr val="ffffcc"/>
                  </a:solidFill>
                  <a:latin typeface="Century Gothic"/>
                </a:rPr>
                <a:t>beginning of</a:t>
              </a:r>
              <a:r>
                <a:rPr b="1" i="1" lang="sl-SI" sz="1800" spc="-1" strike="noStrike">
                  <a:solidFill>
                    <a:srgbClr val="ffffcc"/>
                  </a:solidFill>
                  <a:latin typeface="Century Gothic"/>
                </a:rPr>
                <a:t> 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95280" y="2803680"/>
              <a:ext cx="1143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</a:t>
              </a:r>
              <a:endParaRPr b="0" lang="en-US" sz="10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9880" y="1523880"/>
              <a:ext cx="1143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</a:t>
              </a:r>
              <a:endParaRPr b="0" lang="en-US" sz="10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0" name=""/>
            <p:cNvSpPr/>
            <p:nvPr/>
          </p:nvSpPr>
          <p:spPr>
            <a:xfrm>
              <a:off x="685800" y="4114800"/>
              <a:ext cx="5715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800" spc="-1" strike="noStrike">
                  <a:solidFill>
                    <a:srgbClr val="ffcc00"/>
                  </a:solidFill>
                  <a:latin typeface="Arial"/>
                </a:rPr>
                <a:t>Crna rupa 1: 9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800" spc="-1" strike="noStrike">
                  <a:solidFill>
                    <a:srgbClr val="ffcc00"/>
                  </a:solidFill>
                  <a:latin typeface="Arial"/>
                </a:rPr>
                <a:t>Digitalni planovi-slicica iz cad-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11160" y="0"/>
              <a:ext cx="9132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0" y="0"/>
              <a:ext cx="4789440" cy="6858000"/>
            </a:xfrm>
            <a:custGeom>
              <a:avLst/>
              <a:gdLst/>
              <a:ahLst/>
              <a:rect l="l" t="t" r="r" b="b"/>
              <a:pathLst>
                <a:path w="2704" h="3879">
                  <a:moveTo>
                    <a:pt x="883" y="43"/>
                  </a:moveTo>
                  <a:lnTo>
                    <a:pt x="903" y="55"/>
                  </a:lnTo>
                  <a:lnTo>
                    <a:pt x="921" y="72"/>
                  </a:lnTo>
                  <a:lnTo>
                    <a:pt x="940" y="90"/>
                  </a:lnTo>
                  <a:lnTo>
                    <a:pt x="961" y="115"/>
                  </a:lnTo>
                  <a:lnTo>
                    <a:pt x="967" y="141"/>
                  </a:lnTo>
                  <a:lnTo>
                    <a:pt x="972" y="169"/>
                  </a:lnTo>
                  <a:lnTo>
                    <a:pt x="990" y="193"/>
                  </a:lnTo>
                  <a:lnTo>
                    <a:pt x="1014" y="213"/>
                  </a:lnTo>
                  <a:lnTo>
                    <a:pt x="1033" y="202"/>
                  </a:lnTo>
                  <a:lnTo>
                    <a:pt x="1057" y="196"/>
                  </a:lnTo>
                  <a:lnTo>
                    <a:pt x="1059" y="225"/>
                  </a:lnTo>
                  <a:lnTo>
                    <a:pt x="1063" y="252"/>
                  </a:lnTo>
                  <a:lnTo>
                    <a:pt x="1077" y="268"/>
                  </a:lnTo>
                  <a:lnTo>
                    <a:pt x="1098" y="258"/>
                  </a:lnTo>
                  <a:lnTo>
                    <a:pt x="1116" y="252"/>
                  </a:lnTo>
                  <a:lnTo>
                    <a:pt x="1119" y="273"/>
                  </a:lnTo>
                  <a:lnTo>
                    <a:pt x="1108" y="288"/>
                  </a:lnTo>
                  <a:lnTo>
                    <a:pt x="1120" y="304"/>
                  </a:lnTo>
                  <a:lnTo>
                    <a:pt x="1140" y="297"/>
                  </a:lnTo>
                  <a:lnTo>
                    <a:pt x="1156" y="307"/>
                  </a:lnTo>
                  <a:lnTo>
                    <a:pt x="1168" y="321"/>
                  </a:lnTo>
                  <a:lnTo>
                    <a:pt x="1159" y="343"/>
                  </a:lnTo>
                  <a:lnTo>
                    <a:pt x="1171" y="354"/>
                  </a:lnTo>
                  <a:lnTo>
                    <a:pt x="1191" y="361"/>
                  </a:lnTo>
                  <a:lnTo>
                    <a:pt x="1191" y="396"/>
                  </a:lnTo>
                  <a:lnTo>
                    <a:pt x="1215" y="403"/>
                  </a:lnTo>
                  <a:lnTo>
                    <a:pt x="1245" y="397"/>
                  </a:lnTo>
                  <a:lnTo>
                    <a:pt x="1243" y="372"/>
                  </a:lnTo>
                  <a:lnTo>
                    <a:pt x="1258" y="367"/>
                  </a:lnTo>
                  <a:lnTo>
                    <a:pt x="1275" y="375"/>
                  </a:lnTo>
                  <a:lnTo>
                    <a:pt x="1267" y="397"/>
                  </a:lnTo>
                  <a:lnTo>
                    <a:pt x="1257" y="412"/>
                  </a:lnTo>
                  <a:lnTo>
                    <a:pt x="1254" y="435"/>
                  </a:lnTo>
                  <a:lnTo>
                    <a:pt x="1255" y="477"/>
                  </a:lnTo>
                  <a:lnTo>
                    <a:pt x="1245" y="502"/>
                  </a:lnTo>
                  <a:lnTo>
                    <a:pt x="1234" y="522"/>
                  </a:lnTo>
                  <a:lnTo>
                    <a:pt x="1233" y="547"/>
                  </a:lnTo>
                  <a:lnTo>
                    <a:pt x="1261" y="550"/>
                  </a:lnTo>
                  <a:lnTo>
                    <a:pt x="1261" y="571"/>
                  </a:lnTo>
                  <a:lnTo>
                    <a:pt x="1272" y="589"/>
                  </a:lnTo>
                  <a:lnTo>
                    <a:pt x="1252" y="607"/>
                  </a:lnTo>
                  <a:lnTo>
                    <a:pt x="1233" y="622"/>
                  </a:lnTo>
                  <a:lnTo>
                    <a:pt x="1233" y="643"/>
                  </a:lnTo>
                  <a:lnTo>
                    <a:pt x="1267" y="642"/>
                  </a:lnTo>
                  <a:lnTo>
                    <a:pt x="1294" y="654"/>
                  </a:lnTo>
                  <a:lnTo>
                    <a:pt x="1296" y="676"/>
                  </a:lnTo>
                  <a:lnTo>
                    <a:pt x="1314" y="696"/>
                  </a:lnTo>
                  <a:lnTo>
                    <a:pt x="1332" y="708"/>
                  </a:lnTo>
                  <a:lnTo>
                    <a:pt x="1356" y="739"/>
                  </a:lnTo>
                  <a:lnTo>
                    <a:pt x="1372" y="757"/>
                  </a:lnTo>
                  <a:lnTo>
                    <a:pt x="1390" y="775"/>
                  </a:lnTo>
                  <a:lnTo>
                    <a:pt x="1411" y="771"/>
                  </a:lnTo>
                  <a:lnTo>
                    <a:pt x="1423" y="759"/>
                  </a:lnTo>
                  <a:lnTo>
                    <a:pt x="1428" y="781"/>
                  </a:lnTo>
                  <a:lnTo>
                    <a:pt x="1441" y="799"/>
                  </a:lnTo>
                  <a:lnTo>
                    <a:pt x="1455" y="793"/>
                  </a:lnTo>
                  <a:lnTo>
                    <a:pt x="1480" y="787"/>
                  </a:lnTo>
                  <a:lnTo>
                    <a:pt x="1492" y="772"/>
                  </a:lnTo>
                  <a:lnTo>
                    <a:pt x="1504" y="801"/>
                  </a:lnTo>
                  <a:lnTo>
                    <a:pt x="1516" y="822"/>
                  </a:lnTo>
                  <a:lnTo>
                    <a:pt x="1528" y="844"/>
                  </a:lnTo>
                  <a:lnTo>
                    <a:pt x="1551" y="856"/>
                  </a:lnTo>
                  <a:lnTo>
                    <a:pt x="1578" y="849"/>
                  </a:lnTo>
                  <a:lnTo>
                    <a:pt x="1605" y="861"/>
                  </a:lnTo>
                  <a:lnTo>
                    <a:pt x="1615" y="870"/>
                  </a:lnTo>
                  <a:lnTo>
                    <a:pt x="1644" y="859"/>
                  </a:lnTo>
                  <a:lnTo>
                    <a:pt x="1656" y="877"/>
                  </a:lnTo>
                  <a:lnTo>
                    <a:pt x="1677" y="883"/>
                  </a:lnTo>
                  <a:lnTo>
                    <a:pt x="1699" y="898"/>
                  </a:lnTo>
                  <a:lnTo>
                    <a:pt x="1720" y="915"/>
                  </a:lnTo>
                  <a:lnTo>
                    <a:pt x="1731" y="933"/>
                  </a:lnTo>
                  <a:lnTo>
                    <a:pt x="1716" y="942"/>
                  </a:lnTo>
                  <a:lnTo>
                    <a:pt x="1695" y="949"/>
                  </a:lnTo>
                  <a:lnTo>
                    <a:pt x="1678" y="961"/>
                  </a:lnTo>
                  <a:lnTo>
                    <a:pt x="1693" y="982"/>
                  </a:lnTo>
                  <a:lnTo>
                    <a:pt x="1684" y="1006"/>
                  </a:lnTo>
                  <a:lnTo>
                    <a:pt x="1653" y="1012"/>
                  </a:lnTo>
                  <a:lnTo>
                    <a:pt x="1627" y="1012"/>
                  </a:lnTo>
                  <a:lnTo>
                    <a:pt x="1600" y="1032"/>
                  </a:lnTo>
                  <a:lnTo>
                    <a:pt x="1594" y="1057"/>
                  </a:lnTo>
                  <a:lnTo>
                    <a:pt x="1612" y="1077"/>
                  </a:lnTo>
                  <a:lnTo>
                    <a:pt x="1639" y="1074"/>
                  </a:lnTo>
                  <a:lnTo>
                    <a:pt x="1660" y="1096"/>
                  </a:lnTo>
                  <a:lnTo>
                    <a:pt x="1687" y="1101"/>
                  </a:lnTo>
                  <a:lnTo>
                    <a:pt x="1708" y="1114"/>
                  </a:lnTo>
                  <a:lnTo>
                    <a:pt x="1734" y="1123"/>
                  </a:lnTo>
                  <a:lnTo>
                    <a:pt x="1746" y="1140"/>
                  </a:lnTo>
                  <a:lnTo>
                    <a:pt x="1740" y="1162"/>
                  </a:lnTo>
                  <a:lnTo>
                    <a:pt x="1717" y="1167"/>
                  </a:lnTo>
                  <a:lnTo>
                    <a:pt x="1696" y="1174"/>
                  </a:lnTo>
                  <a:lnTo>
                    <a:pt x="1668" y="1171"/>
                  </a:lnTo>
                  <a:lnTo>
                    <a:pt x="1636" y="1176"/>
                  </a:lnTo>
                  <a:lnTo>
                    <a:pt x="1611" y="1183"/>
                  </a:lnTo>
                  <a:lnTo>
                    <a:pt x="1609" y="1209"/>
                  </a:lnTo>
                  <a:lnTo>
                    <a:pt x="1617" y="1236"/>
                  </a:lnTo>
                  <a:lnTo>
                    <a:pt x="1614" y="1260"/>
                  </a:lnTo>
                  <a:lnTo>
                    <a:pt x="1620" y="1282"/>
                  </a:lnTo>
                  <a:lnTo>
                    <a:pt x="1641" y="1281"/>
                  </a:lnTo>
                  <a:lnTo>
                    <a:pt x="1657" y="1266"/>
                  </a:lnTo>
                  <a:lnTo>
                    <a:pt x="1678" y="1266"/>
                  </a:lnTo>
                  <a:lnTo>
                    <a:pt x="1707" y="1264"/>
                  </a:lnTo>
                  <a:lnTo>
                    <a:pt x="1732" y="1266"/>
                  </a:lnTo>
                  <a:lnTo>
                    <a:pt x="1756" y="1282"/>
                  </a:lnTo>
                  <a:lnTo>
                    <a:pt x="1770" y="1305"/>
                  </a:lnTo>
                  <a:lnTo>
                    <a:pt x="1776" y="1323"/>
                  </a:lnTo>
                  <a:lnTo>
                    <a:pt x="1768" y="1342"/>
                  </a:lnTo>
                  <a:lnTo>
                    <a:pt x="1783" y="1371"/>
                  </a:lnTo>
                  <a:lnTo>
                    <a:pt x="1816" y="1365"/>
                  </a:lnTo>
                  <a:lnTo>
                    <a:pt x="1842" y="1366"/>
                  </a:lnTo>
                  <a:lnTo>
                    <a:pt x="1875" y="1366"/>
                  </a:lnTo>
                  <a:lnTo>
                    <a:pt x="1902" y="1368"/>
                  </a:lnTo>
                  <a:lnTo>
                    <a:pt x="1930" y="1372"/>
                  </a:lnTo>
                  <a:lnTo>
                    <a:pt x="1953" y="1377"/>
                  </a:lnTo>
                  <a:lnTo>
                    <a:pt x="1987" y="1383"/>
                  </a:lnTo>
                  <a:lnTo>
                    <a:pt x="2008" y="1381"/>
                  </a:lnTo>
                  <a:lnTo>
                    <a:pt x="2023" y="1395"/>
                  </a:lnTo>
                  <a:lnTo>
                    <a:pt x="2035" y="1413"/>
                  </a:lnTo>
                  <a:lnTo>
                    <a:pt x="2041" y="1429"/>
                  </a:lnTo>
                  <a:lnTo>
                    <a:pt x="2041" y="1450"/>
                  </a:lnTo>
                  <a:lnTo>
                    <a:pt x="2047" y="1468"/>
                  </a:lnTo>
                  <a:lnTo>
                    <a:pt x="2064" y="1483"/>
                  </a:lnTo>
                  <a:lnTo>
                    <a:pt x="2073" y="1506"/>
                  </a:lnTo>
                  <a:lnTo>
                    <a:pt x="2080" y="1522"/>
                  </a:lnTo>
                  <a:lnTo>
                    <a:pt x="2095" y="1533"/>
                  </a:lnTo>
                  <a:lnTo>
                    <a:pt x="2116" y="1542"/>
                  </a:lnTo>
                  <a:lnTo>
                    <a:pt x="2139" y="1531"/>
                  </a:lnTo>
                  <a:lnTo>
                    <a:pt x="2149" y="1509"/>
                  </a:lnTo>
                  <a:lnTo>
                    <a:pt x="2172" y="1480"/>
                  </a:lnTo>
                  <a:lnTo>
                    <a:pt x="2181" y="1449"/>
                  </a:lnTo>
                  <a:lnTo>
                    <a:pt x="2193" y="1417"/>
                  </a:lnTo>
                  <a:lnTo>
                    <a:pt x="2202" y="1395"/>
                  </a:lnTo>
                  <a:lnTo>
                    <a:pt x="2215" y="1378"/>
                  </a:lnTo>
                  <a:lnTo>
                    <a:pt x="2223" y="1360"/>
                  </a:lnTo>
                  <a:lnTo>
                    <a:pt x="2244" y="1353"/>
                  </a:lnTo>
                  <a:lnTo>
                    <a:pt x="2268" y="1350"/>
                  </a:lnTo>
                  <a:lnTo>
                    <a:pt x="2287" y="1332"/>
                  </a:lnTo>
                  <a:lnTo>
                    <a:pt x="2304" y="1317"/>
                  </a:lnTo>
                  <a:lnTo>
                    <a:pt x="2323" y="1314"/>
                  </a:lnTo>
                  <a:lnTo>
                    <a:pt x="2346" y="1326"/>
                  </a:lnTo>
                  <a:lnTo>
                    <a:pt x="2359" y="1342"/>
                  </a:lnTo>
                  <a:lnTo>
                    <a:pt x="2370" y="1359"/>
                  </a:lnTo>
                  <a:lnTo>
                    <a:pt x="2394" y="1372"/>
                  </a:lnTo>
                  <a:lnTo>
                    <a:pt x="2416" y="1395"/>
                  </a:lnTo>
                  <a:lnTo>
                    <a:pt x="2436" y="1404"/>
                  </a:lnTo>
                  <a:lnTo>
                    <a:pt x="2455" y="1398"/>
                  </a:lnTo>
                  <a:lnTo>
                    <a:pt x="2482" y="1407"/>
                  </a:lnTo>
                  <a:lnTo>
                    <a:pt x="2497" y="1416"/>
                  </a:lnTo>
                  <a:lnTo>
                    <a:pt x="2514" y="1429"/>
                  </a:lnTo>
                  <a:lnTo>
                    <a:pt x="2524" y="1453"/>
                  </a:lnTo>
                  <a:lnTo>
                    <a:pt x="2521" y="1476"/>
                  </a:lnTo>
                  <a:lnTo>
                    <a:pt x="2505" y="1489"/>
                  </a:lnTo>
                  <a:lnTo>
                    <a:pt x="2473" y="1488"/>
                  </a:lnTo>
                  <a:lnTo>
                    <a:pt x="2452" y="1473"/>
                  </a:lnTo>
                  <a:lnTo>
                    <a:pt x="2431" y="1461"/>
                  </a:lnTo>
                  <a:lnTo>
                    <a:pt x="2407" y="1462"/>
                  </a:lnTo>
                  <a:lnTo>
                    <a:pt x="2391" y="1474"/>
                  </a:lnTo>
                  <a:lnTo>
                    <a:pt x="2395" y="1497"/>
                  </a:lnTo>
                  <a:lnTo>
                    <a:pt x="2386" y="1519"/>
                  </a:lnTo>
                  <a:lnTo>
                    <a:pt x="2367" y="1530"/>
                  </a:lnTo>
                  <a:lnTo>
                    <a:pt x="2343" y="1525"/>
                  </a:lnTo>
                  <a:lnTo>
                    <a:pt x="2322" y="1536"/>
                  </a:lnTo>
                  <a:lnTo>
                    <a:pt x="2338" y="1557"/>
                  </a:lnTo>
                  <a:lnTo>
                    <a:pt x="2355" y="1570"/>
                  </a:lnTo>
                  <a:lnTo>
                    <a:pt x="2352" y="1599"/>
                  </a:lnTo>
                  <a:lnTo>
                    <a:pt x="2367" y="1617"/>
                  </a:lnTo>
                  <a:lnTo>
                    <a:pt x="2367" y="1644"/>
                  </a:lnTo>
                  <a:lnTo>
                    <a:pt x="2386" y="1654"/>
                  </a:lnTo>
                  <a:lnTo>
                    <a:pt x="2400" y="1677"/>
                  </a:lnTo>
                  <a:lnTo>
                    <a:pt x="2419" y="1686"/>
                  </a:lnTo>
                  <a:lnTo>
                    <a:pt x="2445" y="1689"/>
                  </a:lnTo>
                  <a:lnTo>
                    <a:pt x="2470" y="1693"/>
                  </a:lnTo>
                  <a:lnTo>
                    <a:pt x="2479" y="1714"/>
                  </a:lnTo>
                  <a:lnTo>
                    <a:pt x="2473" y="1749"/>
                  </a:lnTo>
                  <a:lnTo>
                    <a:pt x="2454" y="1756"/>
                  </a:lnTo>
                  <a:lnTo>
                    <a:pt x="2448" y="1771"/>
                  </a:lnTo>
                  <a:lnTo>
                    <a:pt x="2460" y="1779"/>
                  </a:lnTo>
                  <a:lnTo>
                    <a:pt x="2437" y="1792"/>
                  </a:lnTo>
                  <a:lnTo>
                    <a:pt x="2431" y="1818"/>
                  </a:lnTo>
                  <a:lnTo>
                    <a:pt x="2436" y="1837"/>
                  </a:lnTo>
                  <a:lnTo>
                    <a:pt x="2437" y="1860"/>
                  </a:lnTo>
                  <a:lnTo>
                    <a:pt x="2440" y="1882"/>
                  </a:lnTo>
                  <a:lnTo>
                    <a:pt x="2416" y="1893"/>
                  </a:lnTo>
                  <a:lnTo>
                    <a:pt x="2391" y="1894"/>
                  </a:lnTo>
                  <a:lnTo>
                    <a:pt x="2373" y="1891"/>
                  </a:lnTo>
                  <a:lnTo>
                    <a:pt x="2352" y="1890"/>
                  </a:lnTo>
                  <a:lnTo>
                    <a:pt x="2343" y="1908"/>
                  </a:lnTo>
                  <a:lnTo>
                    <a:pt x="2326" y="1927"/>
                  </a:lnTo>
                  <a:lnTo>
                    <a:pt x="2307" y="1933"/>
                  </a:lnTo>
                  <a:lnTo>
                    <a:pt x="2289" y="1947"/>
                  </a:lnTo>
                  <a:lnTo>
                    <a:pt x="2269" y="1951"/>
                  </a:lnTo>
                  <a:lnTo>
                    <a:pt x="2260" y="1971"/>
                  </a:lnTo>
                  <a:lnTo>
                    <a:pt x="2262" y="1993"/>
                  </a:lnTo>
                  <a:lnTo>
                    <a:pt x="2256" y="2008"/>
                  </a:lnTo>
                  <a:lnTo>
                    <a:pt x="2259" y="2029"/>
                  </a:lnTo>
                  <a:lnTo>
                    <a:pt x="2268" y="2044"/>
                  </a:lnTo>
                  <a:lnTo>
                    <a:pt x="2283" y="2059"/>
                  </a:lnTo>
                  <a:lnTo>
                    <a:pt x="2274" y="2083"/>
                  </a:lnTo>
                  <a:lnTo>
                    <a:pt x="2263" y="2101"/>
                  </a:lnTo>
                  <a:lnTo>
                    <a:pt x="2274" y="2119"/>
                  </a:lnTo>
                  <a:lnTo>
                    <a:pt x="2283" y="2130"/>
                  </a:lnTo>
                  <a:lnTo>
                    <a:pt x="2298" y="2146"/>
                  </a:lnTo>
                  <a:lnTo>
                    <a:pt x="2295" y="2167"/>
                  </a:lnTo>
                  <a:lnTo>
                    <a:pt x="2296" y="2193"/>
                  </a:lnTo>
                  <a:lnTo>
                    <a:pt x="2310" y="2211"/>
                  </a:lnTo>
                  <a:lnTo>
                    <a:pt x="2326" y="2223"/>
                  </a:lnTo>
                  <a:lnTo>
                    <a:pt x="2347" y="2236"/>
                  </a:lnTo>
                  <a:lnTo>
                    <a:pt x="2361" y="2253"/>
                  </a:lnTo>
                  <a:lnTo>
                    <a:pt x="2355" y="2278"/>
                  </a:lnTo>
                  <a:lnTo>
                    <a:pt x="2358" y="2302"/>
                  </a:lnTo>
                  <a:lnTo>
                    <a:pt x="2356" y="2326"/>
                  </a:lnTo>
                  <a:lnTo>
                    <a:pt x="2371" y="2340"/>
                  </a:lnTo>
                  <a:lnTo>
                    <a:pt x="2368" y="2362"/>
                  </a:lnTo>
                  <a:lnTo>
                    <a:pt x="2380" y="2394"/>
                  </a:lnTo>
                  <a:lnTo>
                    <a:pt x="2401" y="2412"/>
                  </a:lnTo>
                  <a:lnTo>
                    <a:pt x="2422" y="2415"/>
                  </a:lnTo>
                  <a:lnTo>
                    <a:pt x="2428" y="2434"/>
                  </a:lnTo>
                  <a:lnTo>
                    <a:pt x="2440" y="2445"/>
                  </a:lnTo>
                  <a:lnTo>
                    <a:pt x="2455" y="2437"/>
                  </a:lnTo>
                  <a:lnTo>
                    <a:pt x="2473" y="2436"/>
                  </a:lnTo>
                  <a:lnTo>
                    <a:pt x="2476" y="2457"/>
                  </a:lnTo>
                  <a:lnTo>
                    <a:pt x="2487" y="2473"/>
                  </a:lnTo>
                  <a:lnTo>
                    <a:pt x="2512" y="2472"/>
                  </a:lnTo>
                  <a:lnTo>
                    <a:pt x="2532" y="2479"/>
                  </a:lnTo>
                  <a:lnTo>
                    <a:pt x="2542" y="2502"/>
                  </a:lnTo>
                  <a:lnTo>
                    <a:pt x="2571" y="2517"/>
                  </a:lnTo>
                  <a:lnTo>
                    <a:pt x="2590" y="2527"/>
                  </a:lnTo>
                  <a:lnTo>
                    <a:pt x="2590" y="2550"/>
                  </a:lnTo>
                  <a:lnTo>
                    <a:pt x="2592" y="2574"/>
                  </a:lnTo>
                  <a:lnTo>
                    <a:pt x="2610" y="2575"/>
                  </a:lnTo>
                  <a:lnTo>
                    <a:pt x="2611" y="2596"/>
                  </a:lnTo>
                  <a:lnTo>
                    <a:pt x="2628" y="2613"/>
                  </a:lnTo>
                  <a:lnTo>
                    <a:pt x="2644" y="2629"/>
                  </a:lnTo>
                  <a:lnTo>
                    <a:pt x="2670" y="2631"/>
                  </a:lnTo>
                  <a:lnTo>
                    <a:pt x="2695" y="2635"/>
                  </a:lnTo>
                  <a:lnTo>
                    <a:pt x="2704" y="2646"/>
                  </a:lnTo>
                  <a:lnTo>
                    <a:pt x="2700" y="2671"/>
                  </a:lnTo>
                  <a:lnTo>
                    <a:pt x="2704" y="2698"/>
                  </a:lnTo>
                  <a:lnTo>
                    <a:pt x="2689" y="2718"/>
                  </a:lnTo>
                  <a:lnTo>
                    <a:pt x="2664" y="2733"/>
                  </a:lnTo>
                  <a:lnTo>
                    <a:pt x="2638" y="2757"/>
                  </a:lnTo>
                  <a:lnTo>
                    <a:pt x="2631" y="2784"/>
                  </a:lnTo>
                  <a:lnTo>
                    <a:pt x="2617" y="2803"/>
                  </a:lnTo>
                  <a:lnTo>
                    <a:pt x="2586" y="2820"/>
                  </a:lnTo>
                  <a:lnTo>
                    <a:pt x="2563" y="2832"/>
                  </a:lnTo>
                  <a:lnTo>
                    <a:pt x="2557" y="2862"/>
                  </a:lnTo>
                  <a:lnTo>
                    <a:pt x="2559" y="2892"/>
                  </a:lnTo>
                  <a:lnTo>
                    <a:pt x="2550" y="2913"/>
                  </a:lnTo>
                  <a:lnTo>
                    <a:pt x="2533" y="2920"/>
                  </a:lnTo>
                  <a:lnTo>
                    <a:pt x="2515" y="2923"/>
                  </a:lnTo>
                  <a:lnTo>
                    <a:pt x="2497" y="2935"/>
                  </a:lnTo>
                  <a:lnTo>
                    <a:pt x="2479" y="2922"/>
                  </a:lnTo>
                  <a:lnTo>
                    <a:pt x="2460" y="2917"/>
                  </a:lnTo>
                  <a:lnTo>
                    <a:pt x="2442" y="2914"/>
                  </a:lnTo>
                  <a:lnTo>
                    <a:pt x="2424" y="2916"/>
                  </a:lnTo>
                  <a:lnTo>
                    <a:pt x="2422" y="2932"/>
                  </a:lnTo>
                  <a:lnTo>
                    <a:pt x="2407" y="2932"/>
                  </a:lnTo>
                  <a:lnTo>
                    <a:pt x="2392" y="2928"/>
                  </a:lnTo>
                  <a:lnTo>
                    <a:pt x="2386" y="2946"/>
                  </a:lnTo>
                  <a:lnTo>
                    <a:pt x="2373" y="2961"/>
                  </a:lnTo>
                  <a:lnTo>
                    <a:pt x="2352" y="2964"/>
                  </a:lnTo>
                  <a:lnTo>
                    <a:pt x="2335" y="2976"/>
                  </a:lnTo>
                  <a:lnTo>
                    <a:pt x="2338" y="2997"/>
                  </a:lnTo>
                  <a:lnTo>
                    <a:pt x="2355" y="3009"/>
                  </a:lnTo>
                  <a:lnTo>
                    <a:pt x="2364" y="3028"/>
                  </a:lnTo>
                  <a:lnTo>
                    <a:pt x="2379" y="3040"/>
                  </a:lnTo>
                  <a:lnTo>
                    <a:pt x="2376" y="3058"/>
                  </a:lnTo>
                  <a:lnTo>
                    <a:pt x="2367" y="3067"/>
                  </a:lnTo>
                  <a:lnTo>
                    <a:pt x="2359" y="3084"/>
                  </a:lnTo>
                  <a:lnTo>
                    <a:pt x="2362" y="3106"/>
                  </a:lnTo>
                  <a:lnTo>
                    <a:pt x="2347" y="3120"/>
                  </a:lnTo>
                  <a:lnTo>
                    <a:pt x="2359" y="3138"/>
                  </a:lnTo>
                  <a:lnTo>
                    <a:pt x="2344" y="3153"/>
                  </a:lnTo>
                  <a:lnTo>
                    <a:pt x="2347" y="3172"/>
                  </a:lnTo>
                  <a:lnTo>
                    <a:pt x="2337" y="3196"/>
                  </a:lnTo>
                  <a:lnTo>
                    <a:pt x="2361" y="3193"/>
                  </a:lnTo>
                  <a:lnTo>
                    <a:pt x="2376" y="3207"/>
                  </a:lnTo>
                  <a:lnTo>
                    <a:pt x="2376" y="3232"/>
                  </a:lnTo>
                  <a:lnTo>
                    <a:pt x="2394" y="3228"/>
                  </a:lnTo>
                  <a:lnTo>
                    <a:pt x="2412" y="3238"/>
                  </a:lnTo>
                  <a:lnTo>
                    <a:pt x="2421" y="3258"/>
                  </a:lnTo>
                  <a:lnTo>
                    <a:pt x="2416" y="3282"/>
                  </a:lnTo>
                  <a:lnTo>
                    <a:pt x="2406" y="3303"/>
                  </a:lnTo>
                  <a:lnTo>
                    <a:pt x="2410" y="3322"/>
                  </a:lnTo>
                  <a:lnTo>
                    <a:pt x="2397" y="3333"/>
                  </a:lnTo>
                  <a:lnTo>
                    <a:pt x="2382" y="3351"/>
                  </a:lnTo>
                  <a:lnTo>
                    <a:pt x="2379" y="3363"/>
                  </a:lnTo>
                  <a:lnTo>
                    <a:pt x="2361" y="3366"/>
                  </a:lnTo>
                  <a:lnTo>
                    <a:pt x="2364" y="3382"/>
                  </a:lnTo>
                  <a:lnTo>
                    <a:pt x="2353" y="3396"/>
                  </a:lnTo>
                  <a:lnTo>
                    <a:pt x="2350" y="3412"/>
                  </a:lnTo>
                  <a:lnTo>
                    <a:pt x="2326" y="3420"/>
                  </a:lnTo>
                  <a:lnTo>
                    <a:pt x="2299" y="3423"/>
                  </a:lnTo>
                  <a:lnTo>
                    <a:pt x="2269" y="3417"/>
                  </a:lnTo>
                  <a:lnTo>
                    <a:pt x="2251" y="3403"/>
                  </a:lnTo>
                  <a:lnTo>
                    <a:pt x="2254" y="3385"/>
                  </a:lnTo>
                  <a:lnTo>
                    <a:pt x="2245" y="3366"/>
                  </a:lnTo>
                  <a:lnTo>
                    <a:pt x="2224" y="3375"/>
                  </a:lnTo>
                  <a:lnTo>
                    <a:pt x="2208" y="3394"/>
                  </a:lnTo>
                  <a:lnTo>
                    <a:pt x="2188" y="3400"/>
                  </a:lnTo>
                  <a:lnTo>
                    <a:pt x="2164" y="3400"/>
                  </a:lnTo>
                  <a:lnTo>
                    <a:pt x="2157" y="3418"/>
                  </a:lnTo>
                  <a:lnTo>
                    <a:pt x="2142" y="3430"/>
                  </a:lnTo>
                  <a:lnTo>
                    <a:pt x="2121" y="3430"/>
                  </a:lnTo>
                  <a:lnTo>
                    <a:pt x="2098" y="3435"/>
                  </a:lnTo>
                  <a:lnTo>
                    <a:pt x="2076" y="3438"/>
                  </a:lnTo>
                  <a:lnTo>
                    <a:pt x="2056" y="3429"/>
                  </a:lnTo>
                  <a:lnTo>
                    <a:pt x="2031" y="3408"/>
                  </a:lnTo>
                  <a:lnTo>
                    <a:pt x="2010" y="3396"/>
                  </a:lnTo>
                  <a:lnTo>
                    <a:pt x="1992" y="3414"/>
                  </a:lnTo>
                  <a:lnTo>
                    <a:pt x="1990" y="3438"/>
                  </a:lnTo>
                  <a:lnTo>
                    <a:pt x="1962" y="3432"/>
                  </a:lnTo>
                  <a:lnTo>
                    <a:pt x="1933" y="3414"/>
                  </a:lnTo>
                  <a:lnTo>
                    <a:pt x="1924" y="3438"/>
                  </a:lnTo>
                  <a:lnTo>
                    <a:pt x="1909" y="3459"/>
                  </a:lnTo>
                  <a:lnTo>
                    <a:pt x="1884" y="3468"/>
                  </a:lnTo>
                  <a:lnTo>
                    <a:pt x="1855" y="3472"/>
                  </a:lnTo>
                  <a:lnTo>
                    <a:pt x="1846" y="3493"/>
                  </a:lnTo>
                  <a:lnTo>
                    <a:pt x="1825" y="3480"/>
                  </a:lnTo>
                  <a:lnTo>
                    <a:pt x="1803" y="3475"/>
                  </a:lnTo>
                  <a:lnTo>
                    <a:pt x="1777" y="3474"/>
                  </a:lnTo>
                  <a:lnTo>
                    <a:pt x="1759" y="3471"/>
                  </a:lnTo>
                  <a:lnTo>
                    <a:pt x="1741" y="3478"/>
                  </a:lnTo>
                  <a:lnTo>
                    <a:pt x="1726" y="3490"/>
                  </a:lnTo>
                  <a:lnTo>
                    <a:pt x="1711" y="3480"/>
                  </a:lnTo>
                  <a:lnTo>
                    <a:pt x="1714" y="3462"/>
                  </a:lnTo>
                  <a:lnTo>
                    <a:pt x="1693" y="3456"/>
                  </a:lnTo>
                  <a:lnTo>
                    <a:pt x="1675" y="3457"/>
                  </a:lnTo>
                  <a:lnTo>
                    <a:pt x="1663" y="3471"/>
                  </a:lnTo>
                  <a:lnTo>
                    <a:pt x="1663" y="3486"/>
                  </a:lnTo>
                  <a:lnTo>
                    <a:pt x="1662" y="3505"/>
                  </a:lnTo>
                  <a:lnTo>
                    <a:pt x="1653" y="3489"/>
                  </a:lnTo>
                  <a:lnTo>
                    <a:pt x="1632" y="3484"/>
                  </a:lnTo>
                  <a:lnTo>
                    <a:pt x="1618" y="3501"/>
                  </a:lnTo>
                  <a:lnTo>
                    <a:pt x="1596" y="3523"/>
                  </a:lnTo>
                  <a:lnTo>
                    <a:pt x="1584" y="3549"/>
                  </a:lnTo>
                  <a:lnTo>
                    <a:pt x="1581" y="3571"/>
                  </a:lnTo>
                  <a:lnTo>
                    <a:pt x="1578" y="3589"/>
                  </a:lnTo>
                  <a:lnTo>
                    <a:pt x="1591" y="3606"/>
                  </a:lnTo>
                  <a:lnTo>
                    <a:pt x="1570" y="3613"/>
                  </a:lnTo>
                  <a:lnTo>
                    <a:pt x="1551" y="3624"/>
                  </a:lnTo>
                  <a:lnTo>
                    <a:pt x="1525" y="3625"/>
                  </a:lnTo>
                  <a:lnTo>
                    <a:pt x="1513" y="3601"/>
                  </a:lnTo>
                  <a:lnTo>
                    <a:pt x="1512" y="3582"/>
                  </a:lnTo>
                  <a:lnTo>
                    <a:pt x="1501" y="3564"/>
                  </a:lnTo>
                  <a:lnTo>
                    <a:pt x="1486" y="3546"/>
                  </a:lnTo>
                  <a:lnTo>
                    <a:pt x="1468" y="3528"/>
                  </a:lnTo>
                  <a:lnTo>
                    <a:pt x="1441" y="3520"/>
                  </a:lnTo>
                  <a:lnTo>
                    <a:pt x="1423" y="3535"/>
                  </a:lnTo>
                  <a:lnTo>
                    <a:pt x="1398" y="3550"/>
                  </a:lnTo>
                  <a:lnTo>
                    <a:pt x="1386" y="3571"/>
                  </a:lnTo>
                  <a:lnTo>
                    <a:pt x="1363" y="3570"/>
                  </a:lnTo>
                  <a:lnTo>
                    <a:pt x="1344" y="3589"/>
                  </a:lnTo>
                  <a:lnTo>
                    <a:pt x="1318" y="3589"/>
                  </a:lnTo>
                  <a:lnTo>
                    <a:pt x="1302" y="3601"/>
                  </a:lnTo>
                  <a:lnTo>
                    <a:pt x="1288" y="3621"/>
                  </a:lnTo>
                  <a:lnTo>
                    <a:pt x="1267" y="3613"/>
                  </a:lnTo>
                  <a:lnTo>
                    <a:pt x="1255" y="3627"/>
                  </a:lnTo>
                  <a:lnTo>
                    <a:pt x="1228" y="3622"/>
                  </a:lnTo>
                  <a:lnTo>
                    <a:pt x="1222" y="3646"/>
                  </a:lnTo>
                  <a:lnTo>
                    <a:pt x="1204" y="3651"/>
                  </a:lnTo>
                  <a:lnTo>
                    <a:pt x="1210" y="3667"/>
                  </a:lnTo>
                  <a:lnTo>
                    <a:pt x="1200" y="3679"/>
                  </a:lnTo>
                  <a:lnTo>
                    <a:pt x="1197" y="3705"/>
                  </a:lnTo>
                  <a:lnTo>
                    <a:pt x="1198" y="3724"/>
                  </a:lnTo>
                  <a:lnTo>
                    <a:pt x="1210" y="3739"/>
                  </a:lnTo>
                  <a:lnTo>
                    <a:pt x="1200" y="3754"/>
                  </a:lnTo>
                  <a:lnTo>
                    <a:pt x="1216" y="3771"/>
                  </a:lnTo>
                  <a:lnTo>
                    <a:pt x="1206" y="3775"/>
                  </a:lnTo>
                  <a:lnTo>
                    <a:pt x="1200" y="3795"/>
                  </a:lnTo>
                  <a:lnTo>
                    <a:pt x="1212" y="3808"/>
                  </a:lnTo>
                  <a:lnTo>
                    <a:pt x="1200" y="3820"/>
                  </a:lnTo>
                  <a:lnTo>
                    <a:pt x="1180" y="3828"/>
                  </a:lnTo>
                  <a:lnTo>
                    <a:pt x="1165" y="3838"/>
                  </a:lnTo>
                  <a:lnTo>
                    <a:pt x="1150" y="3856"/>
                  </a:lnTo>
                  <a:lnTo>
                    <a:pt x="1128" y="3870"/>
                  </a:lnTo>
                  <a:lnTo>
                    <a:pt x="1110" y="3879"/>
                  </a:lnTo>
                  <a:lnTo>
                    <a:pt x="1084" y="3877"/>
                  </a:lnTo>
                  <a:lnTo>
                    <a:pt x="1077" y="3856"/>
                  </a:lnTo>
                  <a:lnTo>
                    <a:pt x="1081" y="3841"/>
                  </a:lnTo>
                  <a:lnTo>
                    <a:pt x="1074" y="3826"/>
                  </a:lnTo>
                  <a:lnTo>
                    <a:pt x="1083" y="3813"/>
                  </a:lnTo>
                  <a:lnTo>
                    <a:pt x="1101" y="3810"/>
                  </a:lnTo>
                  <a:lnTo>
                    <a:pt x="1089" y="3792"/>
                  </a:lnTo>
                  <a:lnTo>
                    <a:pt x="1095" y="3766"/>
                  </a:lnTo>
                  <a:lnTo>
                    <a:pt x="1111" y="3759"/>
                  </a:lnTo>
                  <a:lnTo>
                    <a:pt x="1120" y="3744"/>
                  </a:lnTo>
                  <a:lnTo>
                    <a:pt x="1116" y="3718"/>
                  </a:lnTo>
                  <a:lnTo>
                    <a:pt x="1104" y="3702"/>
                  </a:lnTo>
                  <a:lnTo>
                    <a:pt x="1105" y="3673"/>
                  </a:lnTo>
                  <a:lnTo>
                    <a:pt x="1090" y="3642"/>
                  </a:lnTo>
                  <a:lnTo>
                    <a:pt x="1077" y="3624"/>
                  </a:lnTo>
                  <a:lnTo>
                    <a:pt x="1080" y="3604"/>
                  </a:lnTo>
                  <a:lnTo>
                    <a:pt x="1078" y="3583"/>
                  </a:lnTo>
                  <a:lnTo>
                    <a:pt x="1065" y="3561"/>
                  </a:lnTo>
                  <a:lnTo>
                    <a:pt x="1050" y="3531"/>
                  </a:lnTo>
                  <a:lnTo>
                    <a:pt x="1050" y="3502"/>
                  </a:lnTo>
                  <a:lnTo>
                    <a:pt x="1038" y="3493"/>
                  </a:lnTo>
                  <a:lnTo>
                    <a:pt x="1033" y="3477"/>
                  </a:lnTo>
                  <a:lnTo>
                    <a:pt x="1018" y="3460"/>
                  </a:lnTo>
                  <a:lnTo>
                    <a:pt x="999" y="3448"/>
                  </a:lnTo>
                  <a:lnTo>
                    <a:pt x="975" y="3447"/>
                  </a:lnTo>
                  <a:lnTo>
                    <a:pt x="960" y="3426"/>
                  </a:lnTo>
                  <a:lnTo>
                    <a:pt x="934" y="3423"/>
                  </a:lnTo>
                  <a:lnTo>
                    <a:pt x="925" y="3403"/>
                  </a:lnTo>
                  <a:lnTo>
                    <a:pt x="901" y="3414"/>
                  </a:lnTo>
                  <a:lnTo>
                    <a:pt x="885" y="3414"/>
                  </a:lnTo>
                  <a:lnTo>
                    <a:pt x="865" y="3412"/>
                  </a:lnTo>
                  <a:lnTo>
                    <a:pt x="862" y="3391"/>
                  </a:lnTo>
                  <a:lnTo>
                    <a:pt x="864" y="3373"/>
                  </a:lnTo>
                  <a:lnTo>
                    <a:pt x="858" y="3352"/>
                  </a:lnTo>
                  <a:lnTo>
                    <a:pt x="844" y="3337"/>
                  </a:lnTo>
                  <a:lnTo>
                    <a:pt x="853" y="3327"/>
                  </a:lnTo>
                  <a:lnTo>
                    <a:pt x="835" y="3295"/>
                  </a:lnTo>
                  <a:lnTo>
                    <a:pt x="834" y="3268"/>
                  </a:lnTo>
                  <a:lnTo>
                    <a:pt x="814" y="3258"/>
                  </a:lnTo>
                  <a:lnTo>
                    <a:pt x="817" y="3235"/>
                  </a:lnTo>
                  <a:lnTo>
                    <a:pt x="790" y="3226"/>
                  </a:lnTo>
                  <a:lnTo>
                    <a:pt x="769" y="3232"/>
                  </a:lnTo>
                  <a:lnTo>
                    <a:pt x="769" y="3214"/>
                  </a:lnTo>
                  <a:lnTo>
                    <a:pt x="753" y="3193"/>
                  </a:lnTo>
                  <a:lnTo>
                    <a:pt x="762" y="3171"/>
                  </a:lnTo>
                  <a:lnTo>
                    <a:pt x="753" y="3154"/>
                  </a:lnTo>
                  <a:lnTo>
                    <a:pt x="762" y="3135"/>
                  </a:lnTo>
                  <a:lnTo>
                    <a:pt x="778" y="3112"/>
                  </a:lnTo>
                  <a:lnTo>
                    <a:pt x="766" y="3097"/>
                  </a:lnTo>
                  <a:lnTo>
                    <a:pt x="748" y="3084"/>
                  </a:lnTo>
                  <a:lnTo>
                    <a:pt x="736" y="3075"/>
                  </a:lnTo>
                  <a:lnTo>
                    <a:pt x="718" y="3043"/>
                  </a:lnTo>
                  <a:lnTo>
                    <a:pt x="724" y="3025"/>
                  </a:lnTo>
                  <a:lnTo>
                    <a:pt x="744" y="3007"/>
                  </a:lnTo>
                  <a:lnTo>
                    <a:pt x="765" y="3018"/>
                  </a:lnTo>
                  <a:lnTo>
                    <a:pt x="786" y="3030"/>
                  </a:lnTo>
                  <a:lnTo>
                    <a:pt x="811" y="3030"/>
                  </a:lnTo>
                  <a:lnTo>
                    <a:pt x="826" y="3042"/>
                  </a:lnTo>
                  <a:lnTo>
                    <a:pt x="855" y="3030"/>
                  </a:lnTo>
                  <a:lnTo>
                    <a:pt x="880" y="3022"/>
                  </a:lnTo>
                  <a:lnTo>
                    <a:pt x="871" y="2989"/>
                  </a:lnTo>
                  <a:lnTo>
                    <a:pt x="891" y="2976"/>
                  </a:lnTo>
                  <a:lnTo>
                    <a:pt x="901" y="2962"/>
                  </a:lnTo>
                  <a:lnTo>
                    <a:pt x="930" y="2962"/>
                  </a:lnTo>
                  <a:lnTo>
                    <a:pt x="945" y="2959"/>
                  </a:lnTo>
                  <a:lnTo>
                    <a:pt x="934" y="2938"/>
                  </a:lnTo>
                  <a:lnTo>
                    <a:pt x="940" y="2916"/>
                  </a:lnTo>
                  <a:lnTo>
                    <a:pt x="924" y="2896"/>
                  </a:lnTo>
                  <a:lnTo>
                    <a:pt x="901" y="2887"/>
                  </a:lnTo>
                  <a:lnTo>
                    <a:pt x="877" y="2881"/>
                  </a:lnTo>
                  <a:lnTo>
                    <a:pt x="852" y="2866"/>
                  </a:lnTo>
                  <a:lnTo>
                    <a:pt x="826" y="2850"/>
                  </a:lnTo>
                  <a:lnTo>
                    <a:pt x="802" y="2823"/>
                  </a:lnTo>
                  <a:lnTo>
                    <a:pt x="781" y="2844"/>
                  </a:lnTo>
                  <a:lnTo>
                    <a:pt x="756" y="2815"/>
                  </a:lnTo>
                  <a:lnTo>
                    <a:pt x="739" y="2790"/>
                  </a:lnTo>
                  <a:lnTo>
                    <a:pt x="717" y="2782"/>
                  </a:lnTo>
                  <a:lnTo>
                    <a:pt x="694" y="2760"/>
                  </a:lnTo>
                  <a:lnTo>
                    <a:pt x="696" y="2740"/>
                  </a:lnTo>
                  <a:lnTo>
                    <a:pt x="681" y="2710"/>
                  </a:lnTo>
                  <a:lnTo>
                    <a:pt x="663" y="2724"/>
                  </a:lnTo>
                  <a:lnTo>
                    <a:pt x="646" y="2742"/>
                  </a:lnTo>
                  <a:lnTo>
                    <a:pt x="637" y="2731"/>
                  </a:lnTo>
                  <a:lnTo>
                    <a:pt x="625" y="2710"/>
                  </a:lnTo>
                  <a:lnTo>
                    <a:pt x="610" y="2722"/>
                  </a:lnTo>
                  <a:lnTo>
                    <a:pt x="592" y="2724"/>
                  </a:lnTo>
                  <a:lnTo>
                    <a:pt x="586" y="2698"/>
                  </a:lnTo>
                  <a:lnTo>
                    <a:pt x="558" y="2697"/>
                  </a:lnTo>
                  <a:lnTo>
                    <a:pt x="556" y="2671"/>
                  </a:lnTo>
                  <a:lnTo>
                    <a:pt x="531" y="2671"/>
                  </a:lnTo>
                  <a:lnTo>
                    <a:pt x="513" y="2655"/>
                  </a:lnTo>
                  <a:lnTo>
                    <a:pt x="490" y="2652"/>
                  </a:lnTo>
                  <a:lnTo>
                    <a:pt x="477" y="2646"/>
                  </a:lnTo>
                  <a:lnTo>
                    <a:pt x="457" y="2632"/>
                  </a:lnTo>
                  <a:lnTo>
                    <a:pt x="454" y="2604"/>
                  </a:lnTo>
                  <a:lnTo>
                    <a:pt x="433" y="2599"/>
                  </a:lnTo>
                  <a:lnTo>
                    <a:pt x="405" y="2596"/>
                  </a:lnTo>
                  <a:lnTo>
                    <a:pt x="396" y="2577"/>
                  </a:lnTo>
                  <a:lnTo>
                    <a:pt x="399" y="2553"/>
                  </a:lnTo>
                  <a:lnTo>
                    <a:pt x="393" y="2526"/>
                  </a:lnTo>
                  <a:lnTo>
                    <a:pt x="370" y="2524"/>
                  </a:lnTo>
                  <a:lnTo>
                    <a:pt x="351" y="2509"/>
                  </a:lnTo>
                  <a:lnTo>
                    <a:pt x="345" y="2487"/>
                  </a:lnTo>
                  <a:lnTo>
                    <a:pt x="345" y="2466"/>
                  </a:lnTo>
                  <a:lnTo>
                    <a:pt x="330" y="2458"/>
                  </a:lnTo>
                  <a:lnTo>
                    <a:pt x="304" y="2452"/>
                  </a:lnTo>
                  <a:lnTo>
                    <a:pt x="286" y="2436"/>
                  </a:lnTo>
                  <a:lnTo>
                    <a:pt x="264" y="2430"/>
                  </a:lnTo>
                  <a:lnTo>
                    <a:pt x="258" y="2415"/>
                  </a:lnTo>
                  <a:lnTo>
                    <a:pt x="231" y="2409"/>
                  </a:lnTo>
                  <a:lnTo>
                    <a:pt x="205" y="2388"/>
                  </a:lnTo>
                  <a:lnTo>
                    <a:pt x="193" y="2364"/>
                  </a:lnTo>
                  <a:lnTo>
                    <a:pt x="198" y="2344"/>
                  </a:lnTo>
                  <a:lnTo>
                    <a:pt x="219" y="2340"/>
                  </a:lnTo>
                  <a:lnTo>
                    <a:pt x="214" y="2320"/>
                  </a:lnTo>
                  <a:lnTo>
                    <a:pt x="217" y="2305"/>
                  </a:lnTo>
                  <a:lnTo>
                    <a:pt x="214" y="2292"/>
                  </a:lnTo>
                  <a:lnTo>
                    <a:pt x="219" y="2278"/>
                  </a:lnTo>
                  <a:lnTo>
                    <a:pt x="235" y="2275"/>
                  </a:lnTo>
                  <a:lnTo>
                    <a:pt x="250" y="2278"/>
                  </a:lnTo>
                  <a:lnTo>
                    <a:pt x="265" y="2289"/>
                  </a:lnTo>
                  <a:lnTo>
                    <a:pt x="283" y="2281"/>
                  </a:lnTo>
                  <a:lnTo>
                    <a:pt x="297" y="2266"/>
                  </a:lnTo>
                  <a:lnTo>
                    <a:pt x="306" y="2280"/>
                  </a:lnTo>
                  <a:lnTo>
                    <a:pt x="304" y="2298"/>
                  </a:lnTo>
                  <a:lnTo>
                    <a:pt x="319" y="2307"/>
                  </a:lnTo>
                  <a:lnTo>
                    <a:pt x="340" y="2295"/>
                  </a:lnTo>
                  <a:lnTo>
                    <a:pt x="363" y="2301"/>
                  </a:lnTo>
                  <a:lnTo>
                    <a:pt x="384" y="2301"/>
                  </a:lnTo>
                  <a:lnTo>
                    <a:pt x="388" y="2283"/>
                  </a:lnTo>
                  <a:lnTo>
                    <a:pt x="376" y="2272"/>
                  </a:lnTo>
                  <a:lnTo>
                    <a:pt x="373" y="2253"/>
                  </a:lnTo>
                  <a:lnTo>
                    <a:pt x="384" y="2235"/>
                  </a:lnTo>
                  <a:lnTo>
                    <a:pt x="396" y="2235"/>
                  </a:lnTo>
                  <a:lnTo>
                    <a:pt x="408" y="2232"/>
                  </a:lnTo>
                  <a:lnTo>
                    <a:pt x="406" y="2215"/>
                  </a:lnTo>
                  <a:lnTo>
                    <a:pt x="400" y="2194"/>
                  </a:lnTo>
                  <a:lnTo>
                    <a:pt x="381" y="2176"/>
                  </a:lnTo>
                  <a:lnTo>
                    <a:pt x="372" y="2152"/>
                  </a:lnTo>
                  <a:lnTo>
                    <a:pt x="348" y="2131"/>
                  </a:lnTo>
                  <a:lnTo>
                    <a:pt x="340" y="2107"/>
                  </a:lnTo>
                  <a:lnTo>
                    <a:pt x="318" y="2106"/>
                  </a:lnTo>
                  <a:lnTo>
                    <a:pt x="304" y="2079"/>
                  </a:lnTo>
                  <a:lnTo>
                    <a:pt x="283" y="2059"/>
                  </a:lnTo>
                  <a:lnTo>
                    <a:pt x="273" y="2032"/>
                  </a:lnTo>
                  <a:lnTo>
                    <a:pt x="256" y="2007"/>
                  </a:lnTo>
                  <a:lnTo>
                    <a:pt x="240" y="1990"/>
                  </a:lnTo>
                  <a:lnTo>
                    <a:pt x="226" y="1966"/>
                  </a:lnTo>
                  <a:lnTo>
                    <a:pt x="217" y="1950"/>
                  </a:lnTo>
                  <a:lnTo>
                    <a:pt x="210" y="1932"/>
                  </a:lnTo>
                  <a:lnTo>
                    <a:pt x="216" y="1909"/>
                  </a:lnTo>
                  <a:lnTo>
                    <a:pt x="240" y="1920"/>
                  </a:lnTo>
                  <a:lnTo>
                    <a:pt x="264" y="1923"/>
                  </a:lnTo>
                  <a:lnTo>
                    <a:pt x="283" y="1936"/>
                  </a:lnTo>
                  <a:lnTo>
                    <a:pt x="303" y="1953"/>
                  </a:lnTo>
                  <a:lnTo>
                    <a:pt x="328" y="1962"/>
                  </a:lnTo>
                  <a:lnTo>
                    <a:pt x="358" y="1963"/>
                  </a:lnTo>
                  <a:lnTo>
                    <a:pt x="390" y="1965"/>
                  </a:lnTo>
                  <a:lnTo>
                    <a:pt x="414" y="1962"/>
                  </a:lnTo>
                  <a:lnTo>
                    <a:pt x="436" y="1947"/>
                  </a:lnTo>
                  <a:lnTo>
                    <a:pt x="433" y="1929"/>
                  </a:lnTo>
                  <a:lnTo>
                    <a:pt x="459" y="1923"/>
                  </a:lnTo>
                  <a:lnTo>
                    <a:pt x="474" y="1906"/>
                  </a:lnTo>
                  <a:lnTo>
                    <a:pt x="471" y="1884"/>
                  </a:lnTo>
                  <a:lnTo>
                    <a:pt x="456" y="1873"/>
                  </a:lnTo>
                  <a:lnTo>
                    <a:pt x="448" y="1884"/>
                  </a:lnTo>
                  <a:lnTo>
                    <a:pt x="433" y="1887"/>
                  </a:lnTo>
                  <a:lnTo>
                    <a:pt x="420" y="1869"/>
                  </a:lnTo>
                  <a:lnTo>
                    <a:pt x="397" y="1857"/>
                  </a:lnTo>
                  <a:lnTo>
                    <a:pt x="382" y="1837"/>
                  </a:lnTo>
                  <a:lnTo>
                    <a:pt x="372" y="1816"/>
                  </a:lnTo>
                  <a:lnTo>
                    <a:pt x="376" y="1798"/>
                  </a:lnTo>
                  <a:lnTo>
                    <a:pt x="349" y="1813"/>
                  </a:lnTo>
                  <a:lnTo>
                    <a:pt x="339" y="1800"/>
                  </a:lnTo>
                  <a:lnTo>
                    <a:pt x="328" y="1776"/>
                  </a:lnTo>
                  <a:lnTo>
                    <a:pt x="301" y="1759"/>
                  </a:lnTo>
                  <a:lnTo>
                    <a:pt x="291" y="1740"/>
                  </a:lnTo>
                  <a:lnTo>
                    <a:pt x="298" y="1720"/>
                  </a:lnTo>
                  <a:lnTo>
                    <a:pt x="285" y="1708"/>
                  </a:lnTo>
                  <a:lnTo>
                    <a:pt x="282" y="1687"/>
                  </a:lnTo>
                  <a:lnTo>
                    <a:pt x="264" y="1689"/>
                  </a:lnTo>
                  <a:lnTo>
                    <a:pt x="249" y="1681"/>
                  </a:lnTo>
                  <a:lnTo>
                    <a:pt x="234" y="1698"/>
                  </a:lnTo>
                  <a:lnTo>
                    <a:pt x="216" y="1687"/>
                  </a:lnTo>
                  <a:lnTo>
                    <a:pt x="205" y="1666"/>
                  </a:lnTo>
                  <a:lnTo>
                    <a:pt x="186" y="1677"/>
                  </a:lnTo>
                  <a:lnTo>
                    <a:pt x="174" y="1663"/>
                  </a:lnTo>
                  <a:lnTo>
                    <a:pt x="160" y="1651"/>
                  </a:lnTo>
                  <a:lnTo>
                    <a:pt x="159" y="1632"/>
                  </a:lnTo>
                  <a:lnTo>
                    <a:pt x="153" y="1620"/>
                  </a:lnTo>
                  <a:lnTo>
                    <a:pt x="144" y="1603"/>
                  </a:lnTo>
                  <a:lnTo>
                    <a:pt x="136" y="1579"/>
                  </a:lnTo>
                  <a:lnTo>
                    <a:pt x="159" y="1567"/>
                  </a:lnTo>
                  <a:lnTo>
                    <a:pt x="174" y="1552"/>
                  </a:lnTo>
                  <a:lnTo>
                    <a:pt x="162" y="1519"/>
                  </a:lnTo>
                  <a:lnTo>
                    <a:pt x="165" y="1500"/>
                  </a:lnTo>
                  <a:lnTo>
                    <a:pt x="160" y="1480"/>
                  </a:lnTo>
                  <a:lnTo>
                    <a:pt x="168" y="1462"/>
                  </a:lnTo>
                  <a:lnTo>
                    <a:pt x="195" y="1462"/>
                  </a:lnTo>
                  <a:lnTo>
                    <a:pt x="202" y="1435"/>
                  </a:lnTo>
                  <a:lnTo>
                    <a:pt x="201" y="1411"/>
                  </a:lnTo>
                  <a:lnTo>
                    <a:pt x="219" y="1393"/>
                  </a:lnTo>
                  <a:lnTo>
                    <a:pt x="219" y="1377"/>
                  </a:lnTo>
                  <a:lnTo>
                    <a:pt x="250" y="1363"/>
                  </a:lnTo>
                  <a:lnTo>
                    <a:pt x="246" y="1342"/>
                  </a:lnTo>
                  <a:lnTo>
                    <a:pt x="265" y="1330"/>
                  </a:lnTo>
                  <a:lnTo>
                    <a:pt x="285" y="1302"/>
                  </a:lnTo>
                  <a:lnTo>
                    <a:pt x="280" y="1276"/>
                  </a:lnTo>
                  <a:lnTo>
                    <a:pt x="294" y="1270"/>
                  </a:lnTo>
                  <a:lnTo>
                    <a:pt x="292" y="1254"/>
                  </a:lnTo>
                  <a:lnTo>
                    <a:pt x="276" y="1231"/>
                  </a:lnTo>
                  <a:lnTo>
                    <a:pt x="289" y="1213"/>
                  </a:lnTo>
                  <a:lnTo>
                    <a:pt x="295" y="1198"/>
                  </a:lnTo>
                  <a:lnTo>
                    <a:pt x="321" y="1194"/>
                  </a:lnTo>
                  <a:lnTo>
                    <a:pt x="310" y="1174"/>
                  </a:lnTo>
                  <a:lnTo>
                    <a:pt x="325" y="1158"/>
                  </a:lnTo>
                  <a:lnTo>
                    <a:pt x="309" y="1138"/>
                  </a:lnTo>
                  <a:lnTo>
                    <a:pt x="279" y="1119"/>
                  </a:lnTo>
                  <a:lnTo>
                    <a:pt x="249" y="1120"/>
                  </a:lnTo>
                  <a:lnTo>
                    <a:pt x="228" y="1137"/>
                  </a:lnTo>
                  <a:lnTo>
                    <a:pt x="217" y="1123"/>
                  </a:lnTo>
                  <a:lnTo>
                    <a:pt x="202" y="1104"/>
                  </a:lnTo>
                  <a:lnTo>
                    <a:pt x="189" y="1119"/>
                  </a:lnTo>
                  <a:lnTo>
                    <a:pt x="169" y="1129"/>
                  </a:lnTo>
                  <a:lnTo>
                    <a:pt x="142" y="1140"/>
                  </a:lnTo>
                  <a:lnTo>
                    <a:pt x="124" y="1158"/>
                  </a:lnTo>
                  <a:lnTo>
                    <a:pt x="94" y="1167"/>
                  </a:lnTo>
                  <a:lnTo>
                    <a:pt x="148" y="1141"/>
                  </a:lnTo>
                  <a:lnTo>
                    <a:pt x="199" y="1110"/>
                  </a:lnTo>
                  <a:lnTo>
                    <a:pt x="180" y="1125"/>
                  </a:lnTo>
                  <a:lnTo>
                    <a:pt x="157" y="1137"/>
                  </a:lnTo>
                  <a:lnTo>
                    <a:pt x="141" y="1147"/>
                  </a:lnTo>
                  <a:lnTo>
                    <a:pt x="133" y="1152"/>
                  </a:lnTo>
                  <a:lnTo>
                    <a:pt x="114" y="1161"/>
                  </a:lnTo>
                  <a:lnTo>
                    <a:pt x="105" y="1162"/>
                  </a:lnTo>
                  <a:lnTo>
                    <a:pt x="91" y="1159"/>
                  </a:lnTo>
                  <a:lnTo>
                    <a:pt x="90" y="1153"/>
                  </a:lnTo>
                  <a:lnTo>
                    <a:pt x="87" y="1143"/>
                  </a:lnTo>
                  <a:lnTo>
                    <a:pt x="81" y="1129"/>
                  </a:lnTo>
                  <a:lnTo>
                    <a:pt x="76" y="1114"/>
                  </a:lnTo>
                  <a:lnTo>
                    <a:pt x="91" y="1110"/>
                  </a:lnTo>
                  <a:lnTo>
                    <a:pt x="109" y="1108"/>
                  </a:lnTo>
                  <a:lnTo>
                    <a:pt x="121" y="1113"/>
                  </a:lnTo>
                  <a:lnTo>
                    <a:pt x="142" y="1119"/>
                  </a:lnTo>
                  <a:lnTo>
                    <a:pt x="142" y="1108"/>
                  </a:lnTo>
                  <a:lnTo>
                    <a:pt x="162" y="1098"/>
                  </a:lnTo>
                  <a:lnTo>
                    <a:pt x="187" y="1092"/>
                  </a:lnTo>
                  <a:lnTo>
                    <a:pt x="184" y="1071"/>
                  </a:lnTo>
                  <a:lnTo>
                    <a:pt x="171" y="1053"/>
                  </a:lnTo>
                  <a:lnTo>
                    <a:pt x="151" y="1063"/>
                  </a:lnTo>
                  <a:lnTo>
                    <a:pt x="127" y="1057"/>
                  </a:lnTo>
                  <a:lnTo>
                    <a:pt x="147" y="1044"/>
                  </a:lnTo>
                  <a:lnTo>
                    <a:pt x="157" y="1026"/>
                  </a:lnTo>
                  <a:lnTo>
                    <a:pt x="159" y="1002"/>
                  </a:lnTo>
                  <a:lnTo>
                    <a:pt x="159" y="970"/>
                  </a:lnTo>
                  <a:lnTo>
                    <a:pt x="150" y="948"/>
                  </a:lnTo>
                  <a:lnTo>
                    <a:pt x="142" y="931"/>
                  </a:lnTo>
                  <a:lnTo>
                    <a:pt x="145" y="912"/>
                  </a:lnTo>
                  <a:lnTo>
                    <a:pt x="175" y="919"/>
                  </a:lnTo>
                  <a:lnTo>
                    <a:pt x="196" y="910"/>
                  </a:lnTo>
                  <a:lnTo>
                    <a:pt x="205" y="895"/>
                  </a:lnTo>
                  <a:lnTo>
                    <a:pt x="204" y="874"/>
                  </a:lnTo>
                  <a:lnTo>
                    <a:pt x="207" y="858"/>
                  </a:lnTo>
                  <a:lnTo>
                    <a:pt x="226" y="874"/>
                  </a:lnTo>
                  <a:lnTo>
                    <a:pt x="244" y="886"/>
                  </a:lnTo>
                  <a:lnTo>
                    <a:pt x="268" y="892"/>
                  </a:lnTo>
                  <a:lnTo>
                    <a:pt x="274" y="874"/>
                  </a:lnTo>
                  <a:lnTo>
                    <a:pt x="282" y="853"/>
                  </a:lnTo>
                  <a:lnTo>
                    <a:pt x="304" y="859"/>
                  </a:lnTo>
                  <a:lnTo>
                    <a:pt x="307" y="883"/>
                  </a:lnTo>
                  <a:lnTo>
                    <a:pt x="321" y="900"/>
                  </a:lnTo>
                  <a:lnTo>
                    <a:pt x="345" y="898"/>
                  </a:lnTo>
                  <a:lnTo>
                    <a:pt x="370" y="895"/>
                  </a:lnTo>
                  <a:lnTo>
                    <a:pt x="381" y="874"/>
                  </a:lnTo>
                  <a:lnTo>
                    <a:pt x="376" y="855"/>
                  </a:lnTo>
                  <a:lnTo>
                    <a:pt x="358" y="838"/>
                  </a:lnTo>
                  <a:lnTo>
                    <a:pt x="331" y="840"/>
                  </a:lnTo>
                  <a:lnTo>
                    <a:pt x="303" y="838"/>
                  </a:lnTo>
                  <a:lnTo>
                    <a:pt x="273" y="835"/>
                  </a:lnTo>
                  <a:lnTo>
                    <a:pt x="250" y="823"/>
                  </a:lnTo>
                  <a:lnTo>
                    <a:pt x="229" y="810"/>
                  </a:lnTo>
                  <a:lnTo>
                    <a:pt x="204" y="802"/>
                  </a:lnTo>
                  <a:lnTo>
                    <a:pt x="192" y="795"/>
                  </a:lnTo>
                  <a:lnTo>
                    <a:pt x="171" y="783"/>
                  </a:lnTo>
                  <a:lnTo>
                    <a:pt x="159" y="762"/>
                  </a:lnTo>
                  <a:lnTo>
                    <a:pt x="147" y="735"/>
                  </a:lnTo>
                  <a:lnTo>
                    <a:pt x="117" y="729"/>
                  </a:lnTo>
                  <a:lnTo>
                    <a:pt x="96" y="723"/>
                  </a:lnTo>
                  <a:lnTo>
                    <a:pt x="79" y="702"/>
                  </a:lnTo>
                  <a:lnTo>
                    <a:pt x="84" y="678"/>
                  </a:lnTo>
                  <a:lnTo>
                    <a:pt x="111" y="678"/>
                  </a:lnTo>
                  <a:lnTo>
                    <a:pt x="120" y="663"/>
                  </a:lnTo>
                  <a:lnTo>
                    <a:pt x="97" y="649"/>
                  </a:lnTo>
                  <a:lnTo>
                    <a:pt x="99" y="621"/>
                  </a:lnTo>
                  <a:lnTo>
                    <a:pt x="105" y="600"/>
                  </a:lnTo>
                  <a:lnTo>
                    <a:pt x="132" y="609"/>
                  </a:lnTo>
                  <a:lnTo>
                    <a:pt x="151" y="607"/>
                  </a:lnTo>
                  <a:lnTo>
                    <a:pt x="168" y="595"/>
                  </a:lnTo>
                  <a:lnTo>
                    <a:pt x="165" y="571"/>
                  </a:lnTo>
                  <a:lnTo>
                    <a:pt x="142" y="567"/>
                  </a:lnTo>
                  <a:lnTo>
                    <a:pt x="127" y="552"/>
                  </a:lnTo>
                  <a:lnTo>
                    <a:pt x="94" y="561"/>
                  </a:lnTo>
                  <a:lnTo>
                    <a:pt x="60" y="562"/>
                  </a:lnTo>
                  <a:lnTo>
                    <a:pt x="34" y="550"/>
                  </a:lnTo>
                  <a:lnTo>
                    <a:pt x="21" y="532"/>
                  </a:lnTo>
                  <a:lnTo>
                    <a:pt x="24" y="514"/>
                  </a:lnTo>
                  <a:lnTo>
                    <a:pt x="22" y="496"/>
                  </a:lnTo>
                  <a:lnTo>
                    <a:pt x="39" y="486"/>
                  </a:lnTo>
                  <a:lnTo>
                    <a:pt x="49" y="471"/>
                  </a:lnTo>
                  <a:lnTo>
                    <a:pt x="67" y="456"/>
                  </a:lnTo>
                  <a:lnTo>
                    <a:pt x="87" y="447"/>
                  </a:lnTo>
                  <a:lnTo>
                    <a:pt x="85" y="430"/>
                  </a:lnTo>
                  <a:lnTo>
                    <a:pt x="67" y="432"/>
                  </a:lnTo>
                  <a:lnTo>
                    <a:pt x="45" y="424"/>
                  </a:lnTo>
                  <a:lnTo>
                    <a:pt x="33" y="405"/>
                  </a:lnTo>
                  <a:lnTo>
                    <a:pt x="37" y="385"/>
                  </a:lnTo>
                  <a:lnTo>
                    <a:pt x="42" y="360"/>
                  </a:lnTo>
                  <a:lnTo>
                    <a:pt x="24" y="334"/>
                  </a:lnTo>
                  <a:lnTo>
                    <a:pt x="12" y="313"/>
                  </a:lnTo>
                  <a:lnTo>
                    <a:pt x="12" y="297"/>
                  </a:lnTo>
                  <a:lnTo>
                    <a:pt x="25" y="282"/>
                  </a:lnTo>
                  <a:lnTo>
                    <a:pt x="18" y="265"/>
                  </a:lnTo>
                  <a:lnTo>
                    <a:pt x="1" y="258"/>
                  </a:lnTo>
                  <a:lnTo>
                    <a:pt x="0" y="243"/>
                  </a:lnTo>
                  <a:lnTo>
                    <a:pt x="19" y="234"/>
                  </a:lnTo>
                  <a:lnTo>
                    <a:pt x="37" y="228"/>
                  </a:lnTo>
                  <a:lnTo>
                    <a:pt x="40" y="211"/>
                  </a:lnTo>
                  <a:lnTo>
                    <a:pt x="58" y="210"/>
                  </a:lnTo>
                  <a:lnTo>
                    <a:pt x="81" y="217"/>
                  </a:lnTo>
                  <a:lnTo>
                    <a:pt x="108" y="220"/>
                  </a:lnTo>
                  <a:lnTo>
                    <a:pt x="112" y="204"/>
                  </a:lnTo>
                  <a:lnTo>
                    <a:pt x="118" y="186"/>
                  </a:lnTo>
                  <a:lnTo>
                    <a:pt x="138" y="189"/>
                  </a:lnTo>
                  <a:lnTo>
                    <a:pt x="163" y="190"/>
                  </a:lnTo>
                  <a:lnTo>
                    <a:pt x="162" y="172"/>
                  </a:lnTo>
                  <a:lnTo>
                    <a:pt x="157" y="153"/>
                  </a:lnTo>
                  <a:lnTo>
                    <a:pt x="168" y="135"/>
                  </a:lnTo>
                  <a:lnTo>
                    <a:pt x="186" y="121"/>
                  </a:lnTo>
                  <a:lnTo>
                    <a:pt x="204" y="121"/>
                  </a:lnTo>
                  <a:lnTo>
                    <a:pt x="201" y="139"/>
                  </a:lnTo>
                  <a:lnTo>
                    <a:pt x="201" y="159"/>
                  </a:lnTo>
                  <a:lnTo>
                    <a:pt x="223" y="168"/>
                  </a:lnTo>
                  <a:lnTo>
                    <a:pt x="244" y="157"/>
                  </a:lnTo>
                  <a:lnTo>
                    <a:pt x="267" y="159"/>
                  </a:lnTo>
                  <a:lnTo>
                    <a:pt x="291" y="162"/>
                  </a:lnTo>
                  <a:lnTo>
                    <a:pt x="294" y="144"/>
                  </a:lnTo>
                  <a:lnTo>
                    <a:pt x="310" y="136"/>
                  </a:lnTo>
                  <a:lnTo>
                    <a:pt x="325" y="120"/>
                  </a:lnTo>
                  <a:lnTo>
                    <a:pt x="345" y="120"/>
                  </a:lnTo>
                  <a:lnTo>
                    <a:pt x="367" y="126"/>
                  </a:lnTo>
                  <a:lnTo>
                    <a:pt x="381" y="109"/>
                  </a:lnTo>
                  <a:lnTo>
                    <a:pt x="394" y="94"/>
                  </a:lnTo>
                  <a:lnTo>
                    <a:pt x="412" y="97"/>
                  </a:lnTo>
                  <a:lnTo>
                    <a:pt x="412" y="79"/>
                  </a:lnTo>
                  <a:lnTo>
                    <a:pt x="424" y="66"/>
                  </a:lnTo>
                  <a:lnTo>
                    <a:pt x="447" y="66"/>
                  </a:lnTo>
                  <a:lnTo>
                    <a:pt x="454" y="51"/>
                  </a:lnTo>
                  <a:lnTo>
                    <a:pt x="441" y="43"/>
                  </a:lnTo>
                  <a:lnTo>
                    <a:pt x="441" y="27"/>
                  </a:lnTo>
                  <a:lnTo>
                    <a:pt x="463" y="28"/>
                  </a:lnTo>
                  <a:lnTo>
                    <a:pt x="471" y="13"/>
                  </a:lnTo>
                  <a:lnTo>
                    <a:pt x="486" y="1"/>
                  </a:lnTo>
                  <a:lnTo>
                    <a:pt x="501" y="9"/>
                  </a:lnTo>
                  <a:lnTo>
                    <a:pt x="525" y="7"/>
                  </a:lnTo>
                  <a:lnTo>
                    <a:pt x="550" y="0"/>
                  </a:lnTo>
                  <a:lnTo>
                    <a:pt x="570" y="7"/>
                  </a:lnTo>
                  <a:lnTo>
                    <a:pt x="586" y="21"/>
                  </a:lnTo>
                  <a:lnTo>
                    <a:pt x="606" y="36"/>
                  </a:lnTo>
                  <a:lnTo>
                    <a:pt x="622" y="51"/>
                  </a:lnTo>
                  <a:lnTo>
                    <a:pt x="639" y="57"/>
                  </a:lnTo>
                  <a:lnTo>
                    <a:pt x="649" y="45"/>
                  </a:lnTo>
                  <a:lnTo>
                    <a:pt x="661" y="30"/>
                  </a:lnTo>
                  <a:lnTo>
                    <a:pt x="685" y="34"/>
                  </a:lnTo>
                  <a:lnTo>
                    <a:pt x="702" y="19"/>
                  </a:lnTo>
                  <a:lnTo>
                    <a:pt x="732" y="13"/>
                  </a:lnTo>
                  <a:lnTo>
                    <a:pt x="760" y="13"/>
                  </a:lnTo>
                  <a:lnTo>
                    <a:pt x="774" y="34"/>
                  </a:lnTo>
                  <a:lnTo>
                    <a:pt x="780" y="51"/>
                  </a:lnTo>
                  <a:lnTo>
                    <a:pt x="798" y="31"/>
                  </a:lnTo>
                  <a:lnTo>
                    <a:pt x="817" y="13"/>
                  </a:lnTo>
                  <a:lnTo>
                    <a:pt x="826" y="31"/>
                  </a:lnTo>
                  <a:lnTo>
                    <a:pt x="837" y="48"/>
                  </a:lnTo>
                  <a:lnTo>
                    <a:pt x="856" y="48"/>
                  </a:lnTo>
                  <a:lnTo>
                    <a:pt x="867" y="31"/>
                  </a:lnTo>
                  <a:lnTo>
                    <a:pt x="882" y="42"/>
                  </a:lnTo>
                </a:path>
              </a:pathLst>
            </a:custGeom>
            <a:gradFill rotWithShape="0">
              <a:gsLst>
                <a:gs pos="0">
                  <a:srgbClr val="cc99ff">
                    <a:alpha val="10196"/>
                  </a:srgbClr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3333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228600" y="1905120"/>
              <a:ext cx="4025880" cy="1890720"/>
              <a:chOff x="228600" y="1905120"/>
              <a:chExt cx="4025880" cy="1890720"/>
            </a:xfrm>
          </p:grpSpPr>
          <p:sp>
            <p:nvSpPr>
              <p:cNvPr id="145" name=""/>
              <p:cNvSpPr/>
              <p:nvPr/>
            </p:nvSpPr>
            <p:spPr>
              <a:xfrm>
                <a:off x="2094120" y="1905120"/>
                <a:ext cx="142920" cy="1086120"/>
              </a:xfrm>
              <a:custGeom>
                <a:avLst/>
                <a:gdLst/>
                <a:ahLst/>
                <a:rect l="l" t="t" r="r" b="b"/>
                <a:pathLst>
                  <a:path w="90" h="684">
                    <a:moveTo>
                      <a:pt x="90" y="330"/>
                    </a:moveTo>
                    <a:lnTo>
                      <a:pt x="0" y="0"/>
                    </a:lnTo>
                    <a:lnTo>
                      <a:pt x="0" y="354"/>
                    </a:lnTo>
                    <a:lnTo>
                      <a:pt x="90" y="684"/>
                    </a:lnTo>
                    <a:lnTo>
                      <a:pt x="90" y="33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094120" y="1905120"/>
                <a:ext cx="142920" cy="523800"/>
              </a:xfrm>
              <a:custGeom>
                <a:avLst/>
                <a:gdLst/>
                <a:ahLst/>
                <a:rect l="l" t="t" r="r" b="b"/>
                <a:pathLst>
                  <a:path w="90" h="330">
                    <a:moveTo>
                      <a:pt x="0" y="0"/>
                    </a:moveTo>
                    <a:lnTo>
                      <a:pt x="24" y="0"/>
                    </a:lnTo>
                    <a:lnTo>
                      <a:pt x="72" y="0"/>
                    </a:lnTo>
                    <a:lnTo>
                      <a:pt x="90" y="0"/>
                    </a:lnTo>
                    <a:lnTo>
                      <a:pt x="90" y="3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8600" y="2710080"/>
                <a:ext cx="4025880" cy="1085760"/>
              </a:xfrm>
              <a:custGeom>
                <a:avLst/>
                <a:gdLst/>
                <a:ahLst/>
                <a:rect l="l" t="t" r="r" b="b"/>
                <a:pathLst>
                  <a:path w="2536" h="684">
                    <a:moveTo>
                      <a:pt x="2536" y="0"/>
                    </a:moveTo>
                    <a:lnTo>
                      <a:pt x="2536" y="6"/>
                    </a:lnTo>
                    <a:lnTo>
                      <a:pt x="2530" y="18"/>
                    </a:lnTo>
                    <a:lnTo>
                      <a:pt x="2530" y="24"/>
                    </a:lnTo>
                    <a:lnTo>
                      <a:pt x="2530" y="30"/>
                    </a:lnTo>
                    <a:lnTo>
                      <a:pt x="2524" y="36"/>
                    </a:lnTo>
                    <a:lnTo>
                      <a:pt x="2524" y="42"/>
                    </a:lnTo>
                    <a:lnTo>
                      <a:pt x="2518" y="48"/>
                    </a:lnTo>
                    <a:lnTo>
                      <a:pt x="2512" y="60"/>
                    </a:lnTo>
                    <a:lnTo>
                      <a:pt x="2506" y="66"/>
                    </a:lnTo>
                    <a:lnTo>
                      <a:pt x="2500" y="72"/>
                    </a:lnTo>
                    <a:lnTo>
                      <a:pt x="2494" y="84"/>
                    </a:lnTo>
                    <a:lnTo>
                      <a:pt x="2488" y="90"/>
                    </a:lnTo>
                    <a:lnTo>
                      <a:pt x="2482" y="96"/>
                    </a:lnTo>
                    <a:lnTo>
                      <a:pt x="2464" y="108"/>
                    </a:lnTo>
                    <a:lnTo>
                      <a:pt x="2458" y="114"/>
                    </a:lnTo>
                    <a:lnTo>
                      <a:pt x="2452" y="114"/>
                    </a:lnTo>
                    <a:lnTo>
                      <a:pt x="2434" y="126"/>
                    </a:lnTo>
                    <a:lnTo>
                      <a:pt x="2422" y="132"/>
                    </a:lnTo>
                    <a:lnTo>
                      <a:pt x="2416" y="138"/>
                    </a:lnTo>
                    <a:lnTo>
                      <a:pt x="2398" y="150"/>
                    </a:lnTo>
                    <a:lnTo>
                      <a:pt x="2386" y="156"/>
                    </a:lnTo>
                    <a:lnTo>
                      <a:pt x="2374" y="156"/>
                    </a:lnTo>
                    <a:lnTo>
                      <a:pt x="2356" y="168"/>
                    </a:lnTo>
                    <a:lnTo>
                      <a:pt x="2344" y="174"/>
                    </a:lnTo>
                    <a:lnTo>
                      <a:pt x="2332" y="180"/>
                    </a:lnTo>
                    <a:lnTo>
                      <a:pt x="2302" y="186"/>
                    </a:lnTo>
                    <a:lnTo>
                      <a:pt x="2290" y="192"/>
                    </a:lnTo>
                    <a:lnTo>
                      <a:pt x="2278" y="198"/>
                    </a:lnTo>
                    <a:lnTo>
                      <a:pt x="2254" y="204"/>
                    </a:lnTo>
                    <a:lnTo>
                      <a:pt x="2236" y="210"/>
                    </a:lnTo>
                    <a:lnTo>
                      <a:pt x="2224" y="216"/>
                    </a:lnTo>
                    <a:lnTo>
                      <a:pt x="2194" y="222"/>
                    </a:lnTo>
                    <a:lnTo>
                      <a:pt x="2176" y="228"/>
                    </a:lnTo>
                    <a:lnTo>
                      <a:pt x="2164" y="234"/>
                    </a:lnTo>
                    <a:lnTo>
                      <a:pt x="2128" y="240"/>
                    </a:lnTo>
                    <a:lnTo>
                      <a:pt x="2116" y="246"/>
                    </a:lnTo>
                    <a:lnTo>
                      <a:pt x="2098" y="246"/>
                    </a:lnTo>
                    <a:lnTo>
                      <a:pt x="2062" y="252"/>
                    </a:lnTo>
                    <a:lnTo>
                      <a:pt x="2044" y="258"/>
                    </a:lnTo>
                    <a:lnTo>
                      <a:pt x="2032" y="264"/>
                    </a:lnTo>
                    <a:lnTo>
                      <a:pt x="1996" y="270"/>
                    </a:lnTo>
                    <a:lnTo>
                      <a:pt x="1978" y="270"/>
                    </a:lnTo>
                    <a:lnTo>
                      <a:pt x="1954" y="276"/>
                    </a:lnTo>
                    <a:lnTo>
                      <a:pt x="1918" y="282"/>
                    </a:lnTo>
                    <a:lnTo>
                      <a:pt x="1900" y="282"/>
                    </a:lnTo>
                    <a:lnTo>
                      <a:pt x="1882" y="288"/>
                    </a:lnTo>
                    <a:lnTo>
                      <a:pt x="1840" y="294"/>
                    </a:lnTo>
                    <a:lnTo>
                      <a:pt x="1822" y="294"/>
                    </a:lnTo>
                    <a:lnTo>
                      <a:pt x="1804" y="300"/>
                    </a:lnTo>
                    <a:lnTo>
                      <a:pt x="1762" y="300"/>
                    </a:lnTo>
                    <a:lnTo>
                      <a:pt x="1738" y="306"/>
                    </a:lnTo>
                    <a:lnTo>
                      <a:pt x="1720" y="306"/>
                    </a:lnTo>
                    <a:lnTo>
                      <a:pt x="1678" y="312"/>
                    </a:lnTo>
                    <a:lnTo>
                      <a:pt x="1660" y="312"/>
                    </a:lnTo>
                    <a:lnTo>
                      <a:pt x="1637" y="312"/>
                    </a:lnTo>
                    <a:lnTo>
                      <a:pt x="1595" y="318"/>
                    </a:lnTo>
                    <a:lnTo>
                      <a:pt x="1571" y="318"/>
                    </a:lnTo>
                    <a:lnTo>
                      <a:pt x="1553" y="318"/>
                    </a:lnTo>
                    <a:lnTo>
                      <a:pt x="1511" y="324"/>
                    </a:lnTo>
                    <a:lnTo>
                      <a:pt x="1487" y="324"/>
                    </a:lnTo>
                    <a:lnTo>
                      <a:pt x="1463" y="324"/>
                    </a:lnTo>
                    <a:lnTo>
                      <a:pt x="1421" y="324"/>
                    </a:lnTo>
                    <a:lnTo>
                      <a:pt x="1397" y="324"/>
                    </a:lnTo>
                    <a:lnTo>
                      <a:pt x="1379" y="330"/>
                    </a:lnTo>
                    <a:lnTo>
                      <a:pt x="1331" y="330"/>
                    </a:lnTo>
                    <a:lnTo>
                      <a:pt x="1313" y="330"/>
                    </a:lnTo>
                    <a:lnTo>
                      <a:pt x="1289" y="330"/>
                    </a:lnTo>
                    <a:lnTo>
                      <a:pt x="1247" y="330"/>
                    </a:lnTo>
                    <a:lnTo>
                      <a:pt x="1223" y="330"/>
                    </a:lnTo>
                    <a:lnTo>
                      <a:pt x="1199" y="330"/>
                    </a:lnTo>
                    <a:lnTo>
                      <a:pt x="1157" y="330"/>
                    </a:lnTo>
                    <a:lnTo>
                      <a:pt x="1133" y="324"/>
                    </a:lnTo>
                    <a:lnTo>
                      <a:pt x="1109" y="324"/>
                    </a:lnTo>
                    <a:lnTo>
                      <a:pt x="1067" y="324"/>
                    </a:lnTo>
                    <a:lnTo>
                      <a:pt x="1049" y="324"/>
                    </a:lnTo>
                    <a:lnTo>
                      <a:pt x="1025" y="324"/>
                    </a:lnTo>
                    <a:lnTo>
                      <a:pt x="983" y="318"/>
                    </a:lnTo>
                    <a:lnTo>
                      <a:pt x="959" y="318"/>
                    </a:lnTo>
                    <a:lnTo>
                      <a:pt x="941" y="318"/>
                    </a:lnTo>
                    <a:lnTo>
                      <a:pt x="893" y="312"/>
                    </a:lnTo>
                    <a:lnTo>
                      <a:pt x="875" y="312"/>
                    </a:lnTo>
                    <a:lnTo>
                      <a:pt x="851" y="312"/>
                    </a:lnTo>
                    <a:lnTo>
                      <a:pt x="809" y="306"/>
                    </a:lnTo>
                    <a:lnTo>
                      <a:pt x="791" y="306"/>
                    </a:lnTo>
                    <a:lnTo>
                      <a:pt x="773" y="300"/>
                    </a:lnTo>
                    <a:lnTo>
                      <a:pt x="731" y="300"/>
                    </a:lnTo>
                    <a:lnTo>
                      <a:pt x="713" y="294"/>
                    </a:lnTo>
                    <a:lnTo>
                      <a:pt x="689" y="294"/>
                    </a:lnTo>
                    <a:lnTo>
                      <a:pt x="653" y="288"/>
                    </a:lnTo>
                    <a:lnTo>
                      <a:pt x="629" y="282"/>
                    </a:lnTo>
                    <a:lnTo>
                      <a:pt x="611" y="282"/>
                    </a:lnTo>
                    <a:lnTo>
                      <a:pt x="575" y="276"/>
                    </a:lnTo>
                    <a:lnTo>
                      <a:pt x="557" y="270"/>
                    </a:lnTo>
                    <a:lnTo>
                      <a:pt x="539" y="270"/>
                    </a:lnTo>
                    <a:lnTo>
                      <a:pt x="503" y="264"/>
                    </a:lnTo>
                    <a:lnTo>
                      <a:pt x="485" y="258"/>
                    </a:lnTo>
                    <a:lnTo>
                      <a:pt x="467" y="252"/>
                    </a:lnTo>
                    <a:lnTo>
                      <a:pt x="431" y="246"/>
                    </a:lnTo>
                    <a:lnTo>
                      <a:pt x="419" y="246"/>
                    </a:lnTo>
                    <a:lnTo>
                      <a:pt x="401" y="240"/>
                    </a:lnTo>
                    <a:lnTo>
                      <a:pt x="371" y="234"/>
                    </a:lnTo>
                    <a:lnTo>
                      <a:pt x="354" y="228"/>
                    </a:lnTo>
                    <a:lnTo>
                      <a:pt x="342" y="222"/>
                    </a:lnTo>
                    <a:lnTo>
                      <a:pt x="312" y="216"/>
                    </a:lnTo>
                    <a:lnTo>
                      <a:pt x="294" y="210"/>
                    </a:lnTo>
                    <a:lnTo>
                      <a:pt x="282" y="204"/>
                    </a:lnTo>
                    <a:lnTo>
                      <a:pt x="252" y="198"/>
                    </a:lnTo>
                    <a:lnTo>
                      <a:pt x="240" y="192"/>
                    </a:lnTo>
                    <a:lnTo>
                      <a:pt x="228" y="186"/>
                    </a:lnTo>
                    <a:lnTo>
                      <a:pt x="204" y="180"/>
                    </a:lnTo>
                    <a:lnTo>
                      <a:pt x="192" y="174"/>
                    </a:lnTo>
                    <a:lnTo>
                      <a:pt x="180" y="168"/>
                    </a:lnTo>
                    <a:lnTo>
                      <a:pt x="156" y="156"/>
                    </a:lnTo>
                    <a:lnTo>
                      <a:pt x="150" y="156"/>
                    </a:lnTo>
                    <a:lnTo>
                      <a:pt x="138" y="150"/>
                    </a:lnTo>
                    <a:lnTo>
                      <a:pt x="120" y="138"/>
                    </a:lnTo>
                    <a:lnTo>
                      <a:pt x="108" y="132"/>
                    </a:lnTo>
                    <a:lnTo>
                      <a:pt x="102" y="126"/>
                    </a:lnTo>
                    <a:lnTo>
                      <a:pt x="84" y="114"/>
                    </a:lnTo>
                    <a:lnTo>
                      <a:pt x="78" y="114"/>
                    </a:lnTo>
                    <a:lnTo>
                      <a:pt x="66" y="108"/>
                    </a:lnTo>
                    <a:lnTo>
                      <a:pt x="54" y="96"/>
                    </a:lnTo>
                    <a:lnTo>
                      <a:pt x="48" y="90"/>
                    </a:lnTo>
                    <a:lnTo>
                      <a:pt x="42" y="84"/>
                    </a:lnTo>
                    <a:lnTo>
                      <a:pt x="30" y="72"/>
                    </a:lnTo>
                    <a:lnTo>
                      <a:pt x="24" y="66"/>
                    </a:lnTo>
                    <a:lnTo>
                      <a:pt x="24" y="60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354"/>
                    </a:lnTo>
                    <a:lnTo>
                      <a:pt x="0" y="360"/>
                    </a:lnTo>
                    <a:lnTo>
                      <a:pt x="0" y="372"/>
                    </a:lnTo>
                    <a:lnTo>
                      <a:pt x="0" y="378"/>
                    </a:lnTo>
                    <a:lnTo>
                      <a:pt x="6" y="384"/>
                    </a:lnTo>
                    <a:lnTo>
                      <a:pt x="6" y="390"/>
                    </a:lnTo>
                    <a:lnTo>
                      <a:pt x="12" y="396"/>
                    </a:lnTo>
                    <a:lnTo>
                      <a:pt x="12" y="402"/>
                    </a:lnTo>
                    <a:lnTo>
                      <a:pt x="24" y="414"/>
                    </a:lnTo>
                    <a:lnTo>
                      <a:pt x="24" y="420"/>
                    </a:lnTo>
                    <a:lnTo>
                      <a:pt x="30" y="426"/>
                    </a:lnTo>
                    <a:lnTo>
                      <a:pt x="42" y="438"/>
                    </a:lnTo>
                    <a:lnTo>
                      <a:pt x="48" y="444"/>
                    </a:lnTo>
                    <a:lnTo>
                      <a:pt x="54" y="450"/>
                    </a:lnTo>
                    <a:lnTo>
                      <a:pt x="66" y="462"/>
                    </a:lnTo>
                    <a:lnTo>
                      <a:pt x="78" y="468"/>
                    </a:lnTo>
                    <a:lnTo>
                      <a:pt x="84" y="468"/>
                    </a:lnTo>
                    <a:lnTo>
                      <a:pt x="102" y="480"/>
                    </a:lnTo>
                    <a:lnTo>
                      <a:pt x="108" y="486"/>
                    </a:lnTo>
                    <a:lnTo>
                      <a:pt x="120" y="492"/>
                    </a:lnTo>
                    <a:lnTo>
                      <a:pt x="138" y="504"/>
                    </a:lnTo>
                    <a:lnTo>
                      <a:pt x="150" y="510"/>
                    </a:lnTo>
                    <a:lnTo>
                      <a:pt x="156" y="510"/>
                    </a:lnTo>
                    <a:lnTo>
                      <a:pt x="180" y="522"/>
                    </a:lnTo>
                    <a:lnTo>
                      <a:pt x="192" y="528"/>
                    </a:lnTo>
                    <a:lnTo>
                      <a:pt x="204" y="534"/>
                    </a:lnTo>
                    <a:lnTo>
                      <a:pt x="228" y="540"/>
                    </a:lnTo>
                    <a:lnTo>
                      <a:pt x="240" y="546"/>
                    </a:lnTo>
                    <a:lnTo>
                      <a:pt x="252" y="552"/>
                    </a:lnTo>
                    <a:lnTo>
                      <a:pt x="282" y="558"/>
                    </a:lnTo>
                    <a:lnTo>
                      <a:pt x="294" y="564"/>
                    </a:lnTo>
                    <a:lnTo>
                      <a:pt x="312" y="570"/>
                    </a:lnTo>
                    <a:lnTo>
                      <a:pt x="342" y="576"/>
                    </a:lnTo>
                    <a:lnTo>
                      <a:pt x="354" y="582"/>
                    </a:lnTo>
                    <a:lnTo>
                      <a:pt x="371" y="588"/>
                    </a:lnTo>
                    <a:lnTo>
                      <a:pt x="401" y="594"/>
                    </a:lnTo>
                    <a:lnTo>
                      <a:pt x="419" y="600"/>
                    </a:lnTo>
                    <a:lnTo>
                      <a:pt x="431" y="600"/>
                    </a:lnTo>
                    <a:lnTo>
                      <a:pt x="467" y="606"/>
                    </a:lnTo>
                    <a:lnTo>
                      <a:pt x="485" y="612"/>
                    </a:lnTo>
                    <a:lnTo>
                      <a:pt x="503" y="618"/>
                    </a:lnTo>
                    <a:lnTo>
                      <a:pt x="539" y="624"/>
                    </a:lnTo>
                    <a:lnTo>
                      <a:pt x="557" y="624"/>
                    </a:lnTo>
                    <a:lnTo>
                      <a:pt x="575" y="630"/>
                    </a:lnTo>
                    <a:lnTo>
                      <a:pt x="611" y="636"/>
                    </a:lnTo>
                    <a:lnTo>
                      <a:pt x="629" y="636"/>
                    </a:lnTo>
                    <a:lnTo>
                      <a:pt x="653" y="642"/>
                    </a:lnTo>
                    <a:lnTo>
                      <a:pt x="689" y="648"/>
                    </a:lnTo>
                    <a:lnTo>
                      <a:pt x="713" y="648"/>
                    </a:lnTo>
                    <a:lnTo>
                      <a:pt x="731" y="654"/>
                    </a:lnTo>
                    <a:lnTo>
                      <a:pt x="773" y="654"/>
                    </a:lnTo>
                    <a:lnTo>
                      <a:pt x="791" y="660"/>
                    </a:lnTo>
                    <a:lnTo>
                      <a:pt x="809" y="660"/>
                    </a:lnTo>
                    <a:lnTo>
                      <a:pt x="851" y="666"/>
                    </a:lnTo>
                    <a:lnTo>
                      <a:pt x="875" y="666"/>
                    </a:lnTo>
                    <a:lnTo>
                      <a:pt x="893" y="666"/>
                    </a:lnTo>
                    <a:lnTo>
                      <a:pt x="941" y="672"/>
                    </a:lnTo>
                    <a:lnTo>
                      <a:pt x="959" y="672"/>
                    </a:lnTo>
                    <a:lnTo>
                      <a:pt x="983" y="672"/>
                    </a:lnTo>
                    <a:lnTo>
                      <a:pt x="1025" y="678"/>
                    </a:lnTo>
                    <a:lnTo>
                      <a:pt x="1049" y="678"/>
                    </a:lnTo>
                    <a:lnTo>
                      <a:pt x="1067" y="678"/>
                    </a:lnTo>
                    <a:lnTo>
                      <a:pt x="1109" y="678"/>
                    </a:lnTo>
                    <a:lnTo>
                      <a:pt x="1133" y="678"/>
                    </a:lnTo>
                    <a:lnTo>
                      <a:pt x="1157" y="684"/>
                    </a:lnTo>
                    <a:lnTo>
                      <a:pt x="1199" y="684"/>
                    </a:lnTo>
                    <a:lnTo>
                      <a:pt x="1223" y="684"/>
                    </a:lnTo>
                    <a:lnTo>
                      <a:pt x="1247" y="684"/>
                    </a:lnTo>
                    <a:lnTo>
                      <a:pt x="1289" y="684"/>
                    </a:lnTo>
                    <a:lnTo>
                      <a:pt x="1313" y="684"/>
                    </a:lnTo>
                    <a:lnTo>
                      <a:pt x="1331" y="684"/>
                    </a:lnTo>
                    <a:lnTo>
                      <a:pt x="1379" y="684"/>
                    </a:lnTo>
                    <a:lnTo>
                      <a:pt x="1397" y="678"/>
                    </a:lnTo>
                    <a:lnTo>
                      <a:pt x="1421" y="678"/>
                    </a:lnTo>
                    <a:lnTo>
                      <a:pt x="1463" y="678"/>
                    </a:lnTo>
                    <a:lnTo>
                      <a:pt x="1487" y="678"/>
                    </a:lnTo>
                    <a:lnTo>
                      <a:pt x="1511" y="678"/>
                    </a:lnTo>
                    <a:lnTo>
                      <a:pt x="1553" y="672"/>
                    </a:lnTo>
                    <a:lnTo>
                      <a:pt x="1571" y="672"/>
                    </a:lnTo>
                    <a:lnTo>
                      <a:pt x="1595" y="672"/>
                    </a:lnTo>
                    <a:lnTo>
                      <a:pt x="1637" y="666"/>
                    </a:lnTo>
                    <a:lnTo>
                      <a:pt x="1660" y="666"/>
                    </a:lnTo>
                    <a:lnTo>
                      <a:pt x="1678" y="666"/>
                    </a:lnTo>
                    <a:lnTo>
                      <a:pt x="1720" y="660"/>
                    </a:lnTo>
                    <a:lnTo>
                      <a:pt x="1738" y="660"/>
                    </a:lnTo>
                    <a:lnTo>
                      <a:pt x="1762" y="654"/>
                    </a:lnTo>
                    <a:lnTo>
                      <a:pt x="1804" y="654"/>
                    </a:lnTo>
                    <a:lnTo>
                      <a:pt x="1822" y="648"/>
                    </a:lnTo>
                    <a:lnTo>
                      <a:pt x="1840" y="648"/>
                    </a:lnTo>
                    <a:lnTo>
                      <a:pt x="1882" y="642"/>
                    </a:lnTo>
                    <a:lnTo>
                      <a:pt x="1900" y="636"/>
                    </a:lnTo>
                    <a:lnTo>
                      <a:pt x="1918" y="636"/>
                    </a:lnTo>
                    <a:lnTo>
                      <a:pt x="1954" y="630"/>
                    </a:lnTo>
                    <a:lnTo>
                      <a:pt x="1978" y="624"/>
                    </a:lnTo>
                    <a:lnTo>
                      <a:pt x="1996" y="624"/>
                    </a:lnTo>
                    <a:lnTo>
                      <a:pt x="2032" y="618"/>
                    </a:lnTo>
                    <a:lnTo>
                      <a:pt x="2044" y="612"/>
                    </a:lnTo>
                    <a:lnTo>
                      <a:pt x="2062" y="606"/>
                    </a:lnTo>
                    <a:lnTo>
                      <a:pt x="2098" y="600"/>
                    </a:lnTo>
                    <a:lnTo>
                      <a:pt x="2116" y="600"/>
                    </a:lnTo>
                    <a:lnTo>
                      <a:pt x="2128" y="594"/>
                    </a:lnTo>
                    <a:lnTo>
                      <a:pt x="2164" y="588"/>
                    </a:lnTo>
                    <a:lnTo>
                      <a:pt x="2176" y="582"/>
                    </a:lnTo>
                    <a:lnTo>
                      <a:pt x="2194" y="576"/>
                    </a:lnTo>
                    <a:lnTo>
                      <a:pt x="2224" y="570"/>
                    </a:lnTo>
                    <a:lnTo>
                      <a:pt x="2236" y="564"/>
                    </a:lnTo>
                    <a:lnTo>
                      <a:pt x="2254" y="558"/>
                    </a:lnTo>
                    <a:lnTo>
                      <a:pt x="2278" y="552"/>
                    </a:lnTo>
                    <a:lnTo>
                      <a:pt x="2290" y="546"/>
                    </a:lnTo>
                    <a:lnTo>
                      <a:pt x="2302" y="540"/>
                    </a:lnTo>
                    <a:lnTo>
                      <a:pt x="2332" y="534"/>
                    </a:lnTo>
                    <a:lnTo>
                      <a:pt x="2344" y="528"/>
                    </a:lnTo>
                    <a:lnTo>
                      <a:pt x="2356" y="522"/>
                    </a:lnTo>
                    <a:lnTo>
                      <a:pt x="2374" y="510"/>
                    </a:lnTo>
                    <a:lnTo>
                      <a:pt x="2386" y="510"/>
                    </a:lnTo>
                    <a:lnTo>
                      <a:pt x="2398" y="504"/>
                    </a:lnTo>
                    <a:lnTo>
                      <a:pt x="2416" y="492"/>
                    </a:lnTo>
                    <a:lnTo>
                      <a:pt x="2422" y="486"/>
                    </a:lnTo>
                    <a:lnTo>
                      <a:pt x="2434" y="480"/>
                    </a:lnTo>
                    <a:lnTo>
                      <a:pt x="2452" y="468"/>
                    </a:lnTo>
                    <a:lnTo>
                      <a:pt x="2458" y="468"/>
                    </a:lnTo>
                    <a:lnTo>
                      <a:pt x="2464" y="462"/>
                    </a:lnTo>
                    <a:lnTo>
                      <a:pt x="2482" y="450"/>
                    </a:lnTo>
                    <a:lnTo>
                      <a:pt x="2488" y="444"/>
                    </a:lnTo>
                    <a:lnTo>
                      <a:pt x="2494" y="438"/>
                    </a:lnTo>
                    <a:lnTo>
                      <a:pt x="2500" y="426"/>
                    </a:lnTo>
                    <a:lnTo>
                      <a:pt x="2506" y="420"/>
                    </a:lnTo>
                    <a:lnTo>
                      <a:pt x="2512" y="414"/>
                    </a:lnTo>
                    <a:lnTo>
                      <a:pt x="2518" y="402"/>
                    </a:lnTo>
                    <a:lnTo>
                      <a:pt x="2524" y="396"/>
                    </a:lnTo>
                    <a:lnTo>
                      <a:pt x="2524" y="390"/>
                    </a:lnTo>
                    <a:lnTo>
                      <a:pt x="2530" y="384"/>
                    </a:lnTo>
                    <a:lnTo>
                      <a:pt x="2530" y="378"/>
                    </a:lnTo>
                    <a:lnTo>
                      <a:pt x="2530" y="372"/>
                    </a:lnTo>
                    <a:lnTo>
                      <a:pt x="2536" y="360"/>
                    </a:lnTo>
                    <a:lnTo>
                      <a:pt x="2536" y="354"/>
                    </a:lnTo>
                    <a:lnTo>
                      <a:pt x="2536" y="0"/>
                    </a:lnTo>
                    <a:close/>
                  </a:path>
                </a:pathLst>
              </a:custGeom>
              <a:solidFill>
                <a:srgbClr val="666699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28600" y="2195640"/>
                <a:ext cx="4025880" cy="1047960"/>
              </a:xfrm>
              <a:custGeom>
                <a:avLst/>
                <a:gdLst/>
                <a:ahLst/>
                <a:rect l="l" t="t" r="r" b="b"/>
                <a:pathLst>
                  <a:path w="2536" h="660">
                    <a:moveTo>
                      <a:pt x="1265" y="0"/>
                    </a:moveTo>
                    <a:lnTo>
                      <a:pt x="1289" y="0"/>
                    </a:lnTo>
                    <a:lnTo>
                      <a:pt x="1331" y="0"/>
                    </a:lnTo>
                    <a:lnTo>
                      <a:pt x="1355" y="0"/>
                    </a:lnTo>
                    <a:lnTo>
                      <a:pt x="1379" y="0"/>
                    </a:lnTo>
                    <a:lnTo>
                      <a:pt x="1421" y="0"/>
                    </a:lnTo>
                    <a:lnTo>
                      <a:pt x="1445" y="0"/>
                    </a:lnTo>
                    <a:lnTo>
                      <a:pt x="1463" y="0"/>
                    </a:lnTo>
                    <a:lnTo>
                      <a:pt x="1511" y="6"/>
                    </a:lnTo>
                    <a:lnTo>
                      <a:pt x="1529" y="6"/>
                    </a:lnTo>
                    <a:lnTo>
                      <a:pt x="1553" y="6"/>
                    </a:lnTo>
                    <a:lnTo>
                      <a:pt x="1595" y="12"/>
                    </a:lnTo>
                    <a:lnTo>
                      <a:pt x="1619" y="12"/>
                    </a:lnTo>
                    <a:lnTo>
                      <a:pt x="1637" y="12"/>
                    </a:lnTo>
                    <a:lnTo>
                      <a:pt x="1678" y="18"/>
                    </a:lnTo>
                    <a:lnTo>
                      <a:pt x="1702" y="18"/>
                    </a:lnTo>
                    <a:lnTo>
                      <a:pt x="1720" y="18"/>
                    </a:lnTo>
                    <a:lnTo>
                      <a:pt x="1762" y="24"/>
                    </a:lnTo>
                    <a:lnTo>
                      <a:pt x="1780" y="30"/>
                    </a:lnTo>
                    <a:lnTo>
                      <a:pt x="1804" y="30"/>
                    </a:lnTo>
                    <a:lnTo>
                      <a:pt x="1840" y="36"/>
                    </a:lnTo>
                    <a:lnTo>
                      <a:pt x="1864" y="36"/>
                    </a:lnTo>
                    <a:lnTo>
                      <a:pt x="1882" y="42"/>
                    </a:lnTo>
                    <a:lnTo>
                      <a:pt x="1918" y="48"/>
                    </a:lnTo>
                    <a:lnTo>
                      <a:pt x="1936" y="48"/>
                    </a:lnTo>
                    <a:lnTo>
                      <a:pt x="1954" y="54"/>
                    </a:lnTo>
                    <a:lnTo>
                      <a:pt x="1996" y="60"/>
                    </a:lnTo>
                    <a:lnTo>
                      <a:pt x="2014" y="60"/>
                    </a:lnTo>
                    <a:lnTo>
                      <a:pt x="2032" y="66"/>
                    </a:lnTo>
                    <a:lnTo>
                      <a:pt x="2062" y="72"/>
                    </a:lnTo>
                    <a:lnTo>
                      <a:pt x="2080" y="78"/>
                    </a:lnTo>
                    <a:lnTo>
                      <a:pt x="2098" y="78"/>
                    </a:lnTo>
                    <a:lnTo>
                      <a:pt x="2128" y="90"/>
                    </a:lnTo>
                    <a:lnTo>
                      <a:pt x="2146" y="90"/>
                    </a:lnTo>
                    <a:lnTo>
                      <a:pt x="2164" y="96"/>
                    </a:lnTo>
                    <a:lnTo>
                      <a:pt x="2194" y="102"/>
                    </a:lnTo>
                    <a:lnTo>
                      <a:pt x="2206" y="108"/>
                    </a:lnTo>
                    <a:lnTo>
                      <a:pt x="2224" y="114"/>
                    </a:lnTo>
                    <a:lnTo>
                      <a:pt x="2254" y="120"/>
                    </a:lnTo>
                    <a:lnTo>
                      <a:pt x="2266" y="126"/>
                    </a:lnTo>
                    <a:lnTo>
                      <a:pt x="2278" y="132"/>
                    </a:lnTo>
                    <a:lnTo>
                      <a:pt x="2302" y="138"/>
                    </a:lnTo>
                    <a:lnTo>
                      <a:pt x="2320" y="144"/>
                    </a:lnTo>
                    <a:lnTo>
                      <a:pt x="2332" y="150"/>
                    </a:lnTo>
                    <a:lnTo>
                      <a:pt x="2356" y="156"/>
                    </a:lnTo>
                    <a:lnTo>
                      <a:pt x="2362" y="162"/>
                    </a:lnTo>
                    <a:lnTo>
                      <a:pt x="2374" y="168"/>
                    </a:lnTo>
                    <a:lnTo>
                      <a:pt x="2398" y="180"/>
                    </a:lnTo>
                    <a:lnTo>
                      <a:pt x="2404" y="186"/>
                    </a:lnTo>
                    <a:lnTo>
                      <a:pt x="2416" y="192"/>
                    </a:lnTo>
                    <a:lnTo>
                      <a:pt x="2434" y="198"/>
                    </a:lnTo>
                    <a:lnTo>
                      <a:pt x="2440" y="204"/>
                    </a:lnTo>
                    <a:lnTo>
                      <a:pt x="2452" y="210"/>
                    </a:lnTo>
                    <a:lnTo>
                      <a:pt x="2464" y="222"/>
                    </a:lnTo>
                    <a:lnTo>
                      <a:pt x="2470" y="228"/>
                    </a:lnTo>
                    <a:lnTo>
                      <a:pt x="2482" y="234"/>
                    </a:lnTo>
                    <a:lnTo>
                      <a:pt x="2494" y="246"/>
                    </a:lnTo>
                    <a:lnTo>
                      <a:pt x="2494" y="246"/>
                    </a:lnTo>
                    <a:lnTo>
                      <a:pt x="2500" y="252"/>
                    </a:lnTo>
                    <a:lnTo>
                      <a:pt x="2512" y="264"/>
                    </a:lnTo>
                    <a:lnTo>
                      <a:pt x="2518" y="270"/>
                    </a:lnTo>
                    <a:lnTo>
                      <a:pt x="2518" y="276"/>
                    </a:lnTo>
                    <a:lnTo>
                      <a:pt x="2524" y="288"/>
                    </a:lnTo>
                    <a:lnTo>
                      <a:pt x="2530" y="294"/>
                    </a:lnTo>
                    <a:lnTo>
                      <a:pt x="2530" y="300"/>
                    </a:lnTo>
                    <a:lnTo>
                      <a:pt x="2530" y="312"/>
                    </a:lnTo>
                    <a:lnTo>
                      <a:pt x="2536" y="318"/>
                    </a:lnTo>
                    <a:lnTo>
                      <a:pt x="2536" y="324"/>
                    </a:lnTo>
                    <a:lnTo>
                      <a:pt x="2536" y="336"/>
                    </a:lnTo>
                    <a:lnTo>
                      <a:pt x="2536" y="342"/>
                    </a:lnTo>
                    <a:lnTo>
                      <a:pt x="2530" y="348"/>
                    </a:lnTo>
                    <a:lnTo>
                      <a:pt x="2530" y="360"/>
                    </a:lnTo>
                    <a:lnTo>
                      <a:pt x="2530" y="360"/>
                    </a:lnTo>
                    <a:lnTo>
                      <a:pt x="2524" y="366"/>
                    </a:lnTo>
                    <a:lnTo>
                      <a:pt x="2518" y="378"/>
                    </a:lnTo>
                    <a:lnTo>
                      <a:pt x="2518" y="384"/>
                    </a:lnTo>
                    <a:lnTo>
                      <a:pt x="2512" y="390"/>
                    </a:lnTo>
                    <a:lnTo>
                      <a:pt x="2500" y="402"/>
                    </a:lnTo>
                    <a:lnTo>
                      <a:pt x="2494" y="408"/>
                    </a:lnTo>
                    <a:lnTo>
                      <a:pt x="2494" y="414"/>
                    </a:lnTo>
                    <a:lnTo>
                      <a:pt x="2482" y="426"/>
                    </a:lnTo>
                    <a:lnTo>
                      <a:pt x="2470" y="432"/>
                    </a:lnTo>
                    <a:lnTo>
                      <a:pt x="2464" y="438"/>
                    </a:lnTo>
                    <a:lnTo>
                      <a:pt x="2452" y="444"/>
                    </a:lnTo>
                    <a:lnTo>
                      <a:pt x="2440" y="450"/>
                    </a:lnTo>
                    <a:lnTo>
                      <a:pt x="2434" y="456"/>
                    </a:lnTo>
                    <a:lnTo>
                      <a:pt x="2416" y="468"/>
                    </a:lnTo>
                    <a:lnTo>
                      <a:pt x="2404" y="474"/>
                    </a:lnTo>
                    <a:lnTo>
                      <a:pt x="2398" y="480"/>
                    </a:lnTo>
                    <a:lnTo>
                      <a:pt x="2374" y="486"/>
                    </a:lnTo>
                    <a:lnTo>
                      <a:pt x="2362" y="492"/>
                    </a:lnTo>
                    <a:lnTo>
                      <a:pt x="2356" y="498"/>
                    </a:lnTo>
                    <a:lnTo>
                      <a:pt x="2332" y="510"/>
                    </a:lnTo>
                    <a:lnTo>
                      <a:pt x="2320" y="516"/>
                    </a:lnTo>
                    <a:lnTo>
                      <a:pt x="2302" y="516"/>
                    </a:lnTo>
                    <a:lnTo>
                      <a:pt x="2278" y="528"/>
                    </a:lnTo>
                    <a:lnTo>
                      <a:pt x="2266" y="534"/>
                    </a:lnTo>
                    <a:lnTo>
                      <a:pt x="2254" y="534"/>
                    </a:lnTo>
                    <a:lnTo>
                      <a:pt x="2224" y="546"/>
                    </a:lnTo>
                    <a:lnTo>
                      <a:pt x="2206" y="552"/>
                    </a:lnTo>
                    <a:lnTo>
                      <a:pt x="2194" y="552"/>
                    </a:lnTo>
                    <a:lnTo>
                      <a:pt x="2164" y="564"/>
                    </a:lnTo>
                    <a:lnTo>
                      <a:pt x="2146" y="564"/>
                    </a:lnTo>
                    <a:lnTo>
                      <a:pt x="2128" y="570"/>
                    </a:lnTo>
                    <a:lnTo>
                      <a:pt x="2098" y="576"/>
                    </a:lnTo>
                    <a:lnTo>
                      <a:pt x="2080" y="582"/>
                    </a:lnTo>
                    <a:lnTo>
                      <a:pt x="2062" y="582"/>
                    </a:lnTo>
                    <a:lnTo>
                      <a:pt x="2032" y="594"/>
                    </a:lnTo>
                    <a:lnTo>
                      <a:pt x="2014" y="594"/>
                    </a:lnTo>
                    <a:lnTo>
                      <a:pt x="1996" y="600"/>
                    </a:lnTo>
                    <a:lnTo>
                      <a:pt x="1954" y="606"/>
                    </a:lnTo>
                    <a:lnTo>
                      <a:pt x="1936" y="606"/>
                    </a:lnTo>
                    <a:lnTo>
                      <a:pt x="1918" y="612"/>
                    </a:lnTo>
                    <a:lnTo>
                      <a:pt x="1882" y="618"/>
                    </a:lnTo>
                    <a:lnTo>
                      <a:pt x="1864" y="618"/>
                    </a:lnTo>
                    <a:lnTo>
                      <a:pt x="1840" y="624"/>
                    </a:lnTo>
                    <a:lnTo>
                      <a:pt x="1804" y="630"/>
                    </a:lnTo>
                    <a:lnTo>
                      <a:pt x="1780" y="630"/>
                    </a:lnTo>
                    <a:lnTo>
                      <a:pt x="1762" y="630"/>
                    </a:lnTo>
                    <a:lnTo>
                      <a:pt x="1720" y="636"/>
                    </a:lnTo>
                    <a:lnTo>
                      <a:pt x="1702" y="636"/>
                    </a:lnTo>
                    <a:lnTo>
                      <a:pt x="1678" y="642"/>
                    </a:lnTo>
                    <a:lnTo>
                      <a:pt x="1637" y="642"/>
                    </a:lnTo>
                    <a:lnTo>
                      <a:pt x="1619" y="648"/>
                    </a:lnTo>
                    <a:lnTo>
                      <a:pt x="1595" y="648"/>
                    </a:lnTo>
                    <a:lnTo>
                      <a:pt x="1553" y="648"/>
                    </a:lnTo>
                    <a:lnTo>
                      <a:pt x="1529" y="654"/>
                    </a:lnTo>
                    <a:lnTo>
                      <a:pt x="1511" y="654"/>
                    </a:lnTo>
                    <a:lnTo>
                      <a:pt x="1463" y="654"/>
                    </a:lnTo>
                    <a:lnTo>
                      <a:pt x="1445" y="654"/>
                    </a:lnTo>
                    <a:lnTo>
                      <a:pt x="1421" y="654"/>
                    </a:lnTo>
                    <a:lnTo>
                      <a:pt x="1379" y="660"/>
                    </a:lnTo>
                    <a:lnTo>
                      <a:pt x="1355" y="660"/>
                    </a:lnTo>
                    <a:lnTo>
                      <a:pt x="1331" y="660"/>
                    </a:lnTo>
                    <a:lnTo>
                      <a:pt x="1289" y="660"/>
                    </a:lnTo>
                    <a:lnTo>
                      <a:pt x="1265" y="660"/>
                    </a:lnTo>
                    <a:lnTo>
                      <a:pt x="1247" y="660"/>
                    </a:lnTo>
                    <a:lnTo>
                      <a:pt x="1199" y="660"/>
                    </a:lnTo>
                    <a:lnTo>
                      <a:pt x="1175" y="660"/>
                    </a:lnTo>
                    <a:lnTo>
                      <a:pt x="1157" y="660"/>
                    </a:lnTo>
                    <a:lnTo>
                      <a:pt x="1109" y="654"/>
                    </a:lnTo>
                    <a:lnTo>
                      <a:pt x="1091" y="654"/>
                    </a:lnTo>
                    <a:lnTo>
                      <a:pt x="1067" y="654"/>
                    </a:lnTo>
                    <a:lnTo>
                      <a:pt x="1025" y="654"/>
                    </a:lnTo>
                    <a:lnTo>
                      <a:pt x="1001" y="654"/>
                    </a:lnTo>
                    <a:lnTo>
                      <a:pt x="983" y="648"/>
                    </a:lnTo>
                    <a:lnTo>
                      <a:pt x="941" y="648"/>
                    </a:lnTo>
                    <a:lnTo>
                      <a:pt x="917" y="648"/>
                    </a:lnTo>
                    <a:lnTo>
                      <a:pt x="893" y="642"/>
                    </a:lnTo>
                    <a:lnTo>
                      <a:pt x="851" y="642"/>
                    </a:lnTo>
                    <a:lnTo>
                      <a:pt x="833" y="636"/>
                    </a:lnTo>
                    <a:lnTo>
                      <a:pt x="809" y="636"/>
                    </a:lnTo>
                    <a:lnTo>
                      <a:pt x="773" y="630"/>
                    </a:lnTo>
                    <a:lnTo>
                      <a:pt x="749" y="630"/>
                    </a:lnTo>
                    <a:lnTo>
                      <a:pt x="731" y="630"/>
                    </a:lnTo>
                    <a:lnTo>
                      <a:pt x="689" y="624"/>
                    </a:lnTo>
                    <a:lnTo>
                      <a:pt x="671" y="618"/>
                    </a:lnTo>
                    <a:lnTo>
                      <a:pt x="653" y="618"/>
                    </a:lnTo>
                    <a:lnTo>
                      <a:pt x="611" y="612"/>
                    </a:lnTo>
                    <a:lnTo>
                      <a:pt x="593" y="606"/>
                    </a:lnTo>
                    <a:lnTo>
                      <a:pt x="575" y="606"/>
                    </a:lnTo>
                    <a:lnTo>
                      <a:pt x="539" y="600"/>
                    </a:lnTo>
                    <a:lnTo>
                      <a:pt x="521" y="594"/>
                    </a:lnTo>
                    <a:lnTo>
                      <a:pt x="503" y="594"/>
                    </a:lnTo>
                    <a:lnTo>
                      <a:pt x="467" y="582"/>
                    </a:lnTo>
                    <a:lnTo>
                      <a:pt x="449" y="582"/>
                    </a:lnTo>
                    <a:lnTo>
                      <a:pt x="431" y="576"/>
                    </a:lnTo>
                    <a:lnTo>
                      <a:pt x="401" y="570"/>
                    </a:lnTo>
                    <a:lnTo>
                      <a:pt x="383" y="564"/>
                    </a:lnTo>
                    <a:lnTo>
                      <a:pt x="371" y="564"/>
                    </a:lnTo>
                    <a:lnTo>
                      <a:pt x="342" y="552"/>
                    </a:lnTo>
                    <a:lnTo>
                      <a:pt x="324" y="552"/>
                    </a:lnTo>
                    <a:lnTo>
                      <a:pt x="312" y="546"/>
                    </a:lnTo>
                    <a:lnTo>
                      <a:pt x="282" y="534"/>
                    </a:lnTo>
                    <a:lnTo>
                      <a:pt x="270" y="534"/>
                    </a:lnTo>
                    <a:lnTo>
                      <a:pt x="252" y="528"/>
                    </a:lnTo>
                    <a:lnTo>
                      <a:pt x="228" y="516"/>
                    </a:lnTo>
                    <a:lnTo>
                      <a:pt x="216" y="516"/>
                    </a:lnTo>
                    <a:lnTo>
                      <a:pt x="204" y="510"/>
                    </a:lnTo>
                    <a:lnTo>
                      <a:pt x="180" y="498"/>
                    </a:lnTo>
                    <a:lnTo>
                      <a:pt x="168" y="492"/>
                    </a:lnTo>
                    <a:lnTo>
                      <a:pt x="156" y="486"/>
                    </a:lnTo>
                    <a:lnTo>
                      <a:pt x="138" y="480"/>
                    </a:lnTo>
                    <a:lnTo>
                      <a:pt x="126" y="474"/>
                    </a:lnTo>
                    <a:lnTo>
                      <a:pt x="120" y="468"/>
                    </a:lnTo>
                    <a:lnTo>
                      <a:pt x="102" y="456"/>
                    </a:lnTo>
                    <a:lnTo>
                      <a:pt x="90" y="450"/>
                    </a:lnTo>
                    <a:lnTo>
                      <a:pt x="84" y="444"/>
                    </a:lnTo>
                    <a:lnTo>
                      <a:pt x="66" y="438"/>
                    </a:lnTo>
                    <a:lnTo>
                      <a:pt x="60" y="432"/>
                    </a:lnTo>
                    <a:lnTo>
                      <a:pt x="54" y="426"/>
                    </a:lnTo>
                    <a:lnTo>
                      <a:pt x="42" y="414"/>
                    </a:lnTo>
                    <a:lnTo>
                      <a:pt x="36" y="408"/>
                    </a:lnTo>
                    <a:lnTo>
                      <a:pt x="30" y="402"/>
                    </a:lnTo>
                    <a:lnTo>
                      <a:pt x="24" y="390"/>
                    </a:lnTo>
                    <a:lnTo>
                      <a:pt x="18" y="384"/>
                    </a:lnTo>
                    <a:lnTo>
                      <a:pt x="12" y="378"/>
                    </a:lnTo>
                    <a:lnTo>
                      <a:pt x="6" y="366"/>
                    </a:lnTo>
                    <a:lnTo>
                      <a:pt x="6" y="360"/>
                    </a:lnTo>
                    <a:lnTo>
                      <a:pt x="6" y="360"/>
                    </a:lnTo>
                    <a:lnTo>
                      <a:pt x="0" y="348"/>
                    </a:lnTo>
                    <a:lnTo>
                      <a:pt x="0" y="342"/>
                    </a:lnTo>
                    <a:lnTo>
                      <a:pt x="0" y="336"/>
                    </a:lnTo>
                    <a:lnTo>
                      <a:pt x="0" y="324"/>
                    </a:lnTo>
                    <a:lnTo>
                      <a:pt x="0" y="318"/>
                    </a:lnTo>
                    <a:lnTo>
                      <a:pt x="0" y="312"/>
                    </a:lnTo>
                    <a:lnTo>
                      <a:pt x="6" y="300"/>
                    </a:lnTo>
                    <a:lnTo>
                      <a:pt x="6" y="294"/>
                    </a:lnTo>
                    <a:lnTo>
                      <a:pt x="6" y="288"/>
                    </a:lnTo>
                    <a:lnTo>
                      <a:pt x="12" y="276"/>
                    </a:lnTo>
                    <a:lnTo>
                      <a:pt x="18" y="270"/>
                    </a:lnTo>
                    <a:lnTo>
                      <a:pt x="24" y="264"/>
                    </a:lnTo>
                    <a:lnTo>
                      <a:pt x="30" y="252"/>
                    </a:lnTo>
                    <a:lnTo>
                      <a:pt x="36" y="246"/>
                    </a:lnTo>
                    <a:lnTo>
                      <a:pt x="42" y="246"/>
                    </a:lnTo>
                    <a:lnTo>
                      <a:pt x="54" y="234"/>
                    </a:lnTo>
                    <a:lnTo>
                      <a:pt x="60" y="228"/>
                    </a:lnTo>
                    <a:lnTo>
                      <a:pt x="66" y="222"/>
                    </a:lnTo>
                    <a:lnTo>
                      <a:pt x="84" y="210"/>
                    </a:lnTo>
                    <a:lnTo>
                      <a:pt x="90" y="204"/>
                    </a:lnTo>
                    <a:lnTo>
                      <a:pt x="102" y="198"/>
                    </a:lnTo>
                    <a:lnTo>
                      <a:pt x="120" y="192"/>
                    </a:lnTo>
                    <a:lnTo>
                      <a:pt x="126" y="186"/>
                    </a:lnTo>
                    <a:lnTo>
                      <a:pt x="138" y="180"/>
                    </a:lnTo>
                    <a:lnTo>
                      <a:pt x="156" y="168"/>
                    </a:lnTo>
                    <a:lnTo>
                      <a:pt x="168" y="162"/>
                    </a:lnTo>
                    <a:lnTo>
                      <a:pt x="180" y="156"/>
                    </a:lnTo>
                    <a:lnTo>
                      <a:pt x="204" y="150"/>
                    </a:lnTo>
                    <a:lnTo>
                      <a:pt x="216" y="144"/>
                    </a:lnTo>
                    <a:lnTo>
                      <a:pt x="228" y="138"/>
                    </a:lnTo>
                    <a:lnTo>
                      <a:pt x="252" y="132"/>
                    </a:lnTo>
                    <a:lnTo>
                      <a:pt x="270" y="126"/>
                    </a:lnTo>
                    <a:lnTo>
                      <a:pt x="282" y="120"/>
                    </a:lnTo>
                    <a:lnTo>
                      <a:pt x="312" y="114"/>
                    </a:lnTo>
                    <a:lnTo>
                      <a:pt x="324" y="108"/>
                    </a:lnTo>
                    <a:lnTo>
                      <a:pt x="342" y="102"/>
                    </a:lnTo>
                    <a:lnTo>
                      <a:pt x="371" y="96"/>
                    </a:lnTo>
                    <a:lnTo>
                      <a:pt x="383" y="90"/>
                    </a:lnTo>
                    <a:lnTo>
                      <a:pt x="401" y="90"/>
                    </a:lnTo>
                    <a:lnTo>
                      <a:pt x="431" y="78"/>
                    </a:lnTo>
                    <a:lnTo>
                      <a:pt x="449" y="78"/>
                    </a:lnTo>
                    <a:lnTo>
                      <a:pt x="467" y="72"/>
                    </a:lnTo>
                    <a:lnTo>
                      <a:pt x="503" y="66"/>
                    </a:lnTo>
                    <a:lnTo>
                      <a:pt x="521" y="60"/>
                    </a:lnTo>
                    <a:lnTo>
                      <a:pt x="539" y="60"/>
                    </a:lnTo>
                    <a:lnTo>
                      <a:pt x="575" y="54"/>
                    </a:lnTo>
                    <a:lnTo>
                      <a:pt x="593" y="48"/>
                    </a:lnTo>
                    <a:lnTo>
                      <a:pt x="611" y="48"/>
                    </a:lnTo>
                    <a:lnTo>
                      <a:pt x="653" y="42"/>
                    </a:lnTo>
                    <a:lnTo>
                      <a:pt x="671" y="36"/>
                    </a:lnTo>
                    <a:lnTo>
                      <a:pt x="689" y="36"/>
                    </a:lnTo>
                    <a:lnTo>
                      <a:pt x="731" y="30"/>
                    </a:lnTo>
                    <a:lnTo>
                      <a:pt x="749" y="30"/>
                    </a:lnTo>
                    <a:lnTo>
                      <a:pt x="773" y="24"/>
                    </a:lnTo>
                    <a:lnTo>
                      <a:pt x="809" y="18"/>
                    </a:lnTo>
                    <a:lnTo>
                      <a:pt x="833" y="18"/>
                    </a:lnTo>
                    <a:lnTo>
                      <a:pt x="851" y="18"/>
                    </a:lnTo>
                    <a:lnTo>
                      <a:pt x="893" y="12"/>
                    </a:lnTo>
                    <a:lnTo>
                      <a:pt x="917" y="12"/>
                    </a:lnTo>
                    <a:lnTo>
                      <a:pt x="941" y="12"/>
                    </a:lnTo>
                    <a:lnTo>
                      <a:pt x="983" y="6"/>
                    </a:lnTo>
                    <a:lnTo>
                      <a:pt x="1001" y="6"/>
                    </a:lnTo>
                    <a:lnTo>
                      <a:pt x="1025" y="6"/>
                    </a:lnTo>
                    <a:lnTo>
                      <a:pt x="1067" y="0"/>
                    </a:lnTo>
                    <a:lnTo>
                      <a:pt x="1091" y="0"/>
                    </a:lnTo>
                    <a:lnTo>
                      <a:pt x="1109" y="0"/>
                    </a:lnTo>
                    <a:lnTo>
                      <a:pt x="1157" y="0"/>
                    </a:lnTo>
                    <a:lnTo>
                      <a:pt x="1175" y="0"/>
                    </a:lnTo>
                    <a:lnTo>
                      <a:pt x="1265" y="330"/>
                    </a:lnTo>
                    <a:lnTo>
                      <a:pt x="1265" y="0"/>
                    </a:lnTo>
                    <a:close/>
                  </a:path>
                </a:pathLst>
              </a:custGeom>
              <a:solidFill>
                <a:srgbClr val="cc99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4876920" y="1447920"/>
              <a:ext cx="4038480" cy="5257800"/>
            </a:xfrm>
            <a:custGeom>
              <a:avLst/>
              <a:gdLst>
                <a:gd name="textAreaLeft" fmla="*/ 196920 w 4038480"/>
                <a:gd name="textAreaRight" fmla="*/ 3841560 w 4038480"/>
                <a:gd name="textAreaTop" fmla="*/ 196920 h 5257800"/>
                <a:gd name="textAreaBottom" fmla="*/ 5060880 h 5257800"/>
              </a:gdLst>
              <a:ahLst/>
              <a:rect l="textAreaLeft" t="textAreaTop" r="textAreaRight" b="textAreaBottom"/>
              <a:pathLst>
                <a:path w="21600" h="28121">
                  <a:moveTo>
                    <a:pt x="3600" y="0"/>
                  </a:moveTo>
                  <a:arcTo wR="3600" hR="3600" stAng="16200000" swAng="-5400000"/>
                  <a:lnTo>
                    <a:pt x="0" y="24521"/>
                  </a:lnTo>
                  <a:arcTo wR="3600" hR="3600" stAng="10800000" swAng="-5400000"/>
                  <a:lnTo>
                    <a:pt x="18000" y="281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0080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174600" indent="-174600">
                <a:lnSpc>
                  <a:spcPct val="120000"/>
                </a:lnSpc>
                <a:spcBef>
                  <a:spcPts val="499"/>
                </a:spcBef>
                <a:buClr>
                  <a:srgbClr val="ff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Century Gothic"/>
                </a:rPr>
                <a:t>Real Estate Cadastre development is not possible without financial support</a:t>
              </a:r>
              <a:r>
                <a:rPr b="1" i="1" lang="sr-Latn-CS" sz="2000" spc="-1" strike="noStrike">
                  <a:solidFill>
                    <a:srgbClr val="ffffff"/>
                  </a:solidFill>
                  <a:latin typeface="Century Gothic"/>
                </a:rPr>
                <a:t>,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Century Gothic"/>
                </a:rPr>
                <a:t> in other words without</a:t>
              </a:r>
              <a:r>
                <a:rPr b="1" i="1" lang="sr-Latn-CS" sz="2000" spc="-1" strike="noStrike">
                  <a:solidFill>
                    <a:srgbClr val="ffffff"/>
                  </a:solidFill>
                  <a:latin typeface="Century Gothic"/>
                </a:rPr>
                <a:t> </a:t>
              </a:r>
              <a:br>
                <a:rPr sz="2000"/>
              </a:br>
              <a:r>
                <a:rPr b="1" i="1" lang="sr-Latn-CS" sz="2000" spc="-1" strike="noStrike" u="sng">
                  <a:solidFill>
                    <a:srgbClr val="ffffff"/>
                  </a:solidFill>
                  <a:uFillTx/>
                  <a:latin typeface="Century Gothic"/>
                </a:rPr>
                <a:t>DIRE</a:t>
              </a:r>
              <a:r>
                <a:rPr b="1" i="1" lang="en-US" sz="2000" spc="-1" strike="noStrike" u="sng">
                  <a:solidFill>
                    <a:srgbClr val="ffffff"/>
                  </a:solidFill>
                  <a:uFillTx/>
                  <a:latin typeface="Century Gothic"/>
                </a:rPr>
                <a:t>CT</a:t>
              </a:r>
              <a:r>
                <a:rPr b="1" i="1" lang="sr-Latn-CS" sz="2000" spc="-1" strike="noStrike" u="sng">
                  <a:solidFill>
                    <a:srgbClr val="ffffff"/>
                  </a:solidFill>
                  <a:uFillTx/>
                  <a:latin typeface="Century Gothic"/>
                </a:rPr>
                <a:t> </a:t>
              </a:r>
              <a:r>
                <a:rPr b="1" i="1" lang="en-US" sz="2000" spc="-1" strike="noStrike" u="sng">
                  <a:solidFill>
                    <a:srgbClr val="ffffff"/>
                  </a:solidFill>
                  <a:uFillTx/>
                  <a:latin typeface="Century Gothic"/>
                </a:rPr>
                <a:t>INTERNATIONAL INVEST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20000"/>
                </a:lnSpc>
                <a:spcBef>
                  <a:spcPts val="1250"/>
                </a:spcBef>
                <a:buClr>
                  <a:srgbClr val="ff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Century Gothic"/>
                </a:rPr>
                <a:t>In next phases, the National Geodetic Office could invest from own resources for</a:t>
              </a:r>
              <a:r>
                <a:rPr b="1" i="1" lang="sr-Latn-CS" sz="2000" spc="-1" strike="noStrike">
                  <a:solidFill>
                    <a:srgbClr val="ffffff"/>
                  </a:solidFill>
                  <a:latin typeface="Century Gothic"/>
                </a:rPr>
                <a:t> 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Century Gothic"/>
                </a:rPr>
                <a:t>designing and maintaining of real estate cadast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2280" y="3962520"/>
              <a:ext cx="4496040" cy="2743200"/>
            </a:xfrm>
            <a:prstGeom prst="roundRect">
              <a:avLst>
                <a:gd name="adj" fmla="val 16667"/>
              </a:avLst>
            </a:prstGeom>
            <a:solidFill>
              <a:srgbClr val="800080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1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Century Gothic"/>
                </a:rPr>
                <a:t>Currently in Republic of Serbia, there is</a:t>
              </a:r>
              <a:br>
                <a:rPr sz="2400"/>
              </a:br>
              <a:r>
                <a:rPr b="1" i="1" lang="en-US" sz="2400" spc="-1" strike="noStrike" u="sng">
                  <a:solidFill>
                    <a:srgbClr val="ffffff"/>
                  </a:solidFill>
                  <a:uFillTx/>
                  <a:latin typeface="Century Gothic"/>
                </a:rPr>
                <a:t>o   n   l   y</a:t>
              </a:r>
              <a:r>
                <a:rPr b="1" i="1" lang="sr-Latn-CS" sz="2400" spc="-1" strike="noStrike" u="sng">
                  <a:solidFill>
                    <a:srgbClr val="ffffff"/>
                  </a:solidFill>
                  <a:uFillTx/>
                  <a:latin typeface="Century Gothic"/>
                </a:rPr>
                <a:t>   </a:t>
              </a:r>
              <a:r>
                <a:rPr b="1" i="1" lang="sr-Latn-CS" sz="2400" spc="-1" strike="noStrike">
                  <a:solidFill>
                    <a:srgbClr val="ffffff"/>
                  </a:solidFill>
                  <a:latin typeface="Century Gothic"/>
                </a:rPr>
                <a:t> </a:t>
              </a:r>
              <a:br>
                <a:rPr sz="2400"/>
              </a:br>
              <a:r>
                <a:rPr b="1" i="1" lang="sr-Latn-CS" sz="3200" spc="-1" strike="noStrike">
                  <a:solidFill>
                    <a:srgbClr val="ff99cc"/>
                  </a:solidFill>
                  <a:latin typeface="Century Gothic"/>
                </a:rPr>
                <a:t>1</a:t>
              </a:r>
              <a:r>
                <a:rPr b="1" i="1" lang="sr-Latn-CS" sz="3200" spc="-1" strike="noStrike">
                  <a:solidFill>
                    <a:srgbClr val="ff99cc"/>
                  </a:solidFill>
                  <a:latin typeface="Arial"/>
                </a:rPr>
                <a:t>%</a:t>
              </a:r>
              <a:r>
                <a:rPr b="1" i="1" lang="sr-Latn-CS" sz="2400" spc="-1" strike="noStrike">
                  <a:solidFill>
                    <a:srgbClr val="ff99cc"/>
                  </a:solidFill>
                  <a:latin typeface="Century Gothic"/>
                </a:rPr>
                <a:t> </a:t>
              </a:r>
              <a:r>
                <a:rPr b="1" i="1" lang="en-US" sz="3000" spc="-1" strike="noStrike">
                  <a:solidFill>
                    <a:srgbClr val="ff99cc"/>
                  </a:solidFill>
                  <a:latin typeface="Century Gothic"/>
                </a:rPr>
                <a:t>of </a:t>
              </a:r>
              <a:r>
                <a:rPr b="1" i="1" lang="sr-Latn-CS" sz="3000" spc="-1" strike="noStrike">
                  <a:solidFill>
                    <a:srgbClr val="ff99cc"/>
                  </a:solidFill>
                  <a:latin typeface="Century Gothic"/>
                </a:rPr>
                <a:t>digital</a:t>
              </a:r>
              <a:r>
                <a:rPr b="1" i="1" lang="en-US" sz="3000" spc="-1" strike="noStrike">
                  <a:solidFill>
                    <a:srgbClr val="ff99cc"/>
                  </a:solidFill>
                  <a:latin typeface="Century Gothic"/>
                </a:rPr>
                <a:t> cadastral plan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12800" y="228600"/>
              <a:ext cx="7718400" cy="1116720"/>
            </a:xfrm>
            <a:prstGeom prst="roundRect">
              <a:avLst>
                <a:gd name="adj" fmla="val 16667"/>
              </a:avLst>
            </a:prstGeom>
            <a:solidFill>
              <a:srgbClr val="80008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 u="sng">
                  <a:solidFill>
                    <a:srgbClr val="ffffff"/>
                  </a:solidFill>
                  <a:uFillTx/>
                  <a:latin typeface="Century Gothic"/>
                </a:rPr>
                <a:t>Real Estate Cadastre</a:t>
              </a:r>
              <a:br>
                <a:rPr sz="3200"/>
              </a:br>
              <a:r>
                <a:rPr b="1" i="1" lang="en-US" sz="2800" spc="-1" strike="noStrike">
                  <a:solidFill>
                    <a:srgbClr val="ffffcc"/>
                  </a:solidFill>
                  <a:latin typeface="Century Gothic"/>
                </a:rPr>
                <a:t>Digital Cadastre Plans Design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62120" y="1600200"/>
              <a:ext cx="761760" cy="762120"/>
            </a:xfrm>
            <a:custGeom>
              <a:avLst/>
              <a:gdLst>
                <a:gd name="textAreaLeft" fmla="*/ 37080 w 761760"/>
                <a:gd name="textAreaRight" fmla="*/ 724680 w 761760"/>
                <a:gd name="textAreaTop" fmla="*/ 37080 h 762120"/>
                <a:gd name="textAreaBottom" fmla="*/ 725040 h 762120"/>
              </a:gdLst>
              <a:ahLst/>
              <a:rect l="textAreaLeft" t="textAreaTop" r="textAreaRight" b="textAreaBottom"/>
              <a:pathLst>
                <a:path w="21600" h="21610">
                  <a:moveTo>
                    <a:pt x="3600" y="0"/>
                  </a:moveTo>
                  <a:arcTo wR="3600" hR="3600" stAng="16200000" swAng="-5400000"/>
                  <a:lnTo>
                    <a:pt x="0" y="18010"/>
                  </a:lnTo>
                  <a:arcTo wR="3600" hR="3600" stAng="10800000" swAng="-5400000"/>
                  <a:lnTo>
                    <a:pt x="18000" y="216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008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ff99cc"/>
                  </a:solidFill>
                  <a:latin typeface="Century Gothic"/>
                </a:rPr>
                <a:t>1</a:t>
              </a:r>
              <a:r>
                <a:rPr b="1" lang="sr-Latn-CS" sz="4000" spc="-1" strike="noStrike">
                  <a:solidFill>
                    <a:srgbClr val="ff99cc"/>
                  </a:solidFill>
                  <a:latin typeface="Arial"/>
                </a:rPr>
                <a:t>%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354560" y="0"/>
            <a:ext cx="4789440" cy="6858000"/>
          </a:xfrm>
          <a:custGeom>
            <a:avLst/>
            <a:gdLst/>
            <a:ahLst/>
            <a:rect l="l" t="t" r="r" b="b"/>
            <a:pathLst>
              <a:path w="2704" h="3879">
                <a:moveTo>
                  <a:pt x="883" y="43"/>
                </a:moveTo>
                <a:lnTo>
                  <a:pt x="903" y="55"/>
                </a:lnTo>
                <a:lnTo>
                  <a:pt x="921" y="72"/>
                </a:lnTo>
                <a:lnTo>
                  <a:pt x="940" y="90"/>
                </a:lnTo>
                <a:lnTo>
                  <a:pt x="961" y="115"/>
                </a:lnTo>
                <a:lnTo>
                  <a:pt x="967" y="141"/>
                </a:lnTo>
                <a:lnTo>
                  <a:pt x="972" y="169"/>
                </a:lnTo>
                <a:lnTo>
                  <a:pt x="990" y="193"/>
                </a:lnTo>
                <a:lnTo>
                  <a:pt x="1014" y="213"/>
                </a:lnTo>
                <a:lnTo>
                  <a:pt x="1033" y="202"/>
                </a:lnTo>
                <a:lnTo>
                  <a:pt x="1057" y="196"/>
                </a:lnTo>
                <a:lnTo>
                  <a:pt x="1059" y="225"/>
                </a:lnTo>
                <a:lnTo>
                  <a:pt x="1063" y="252"/>
                </a:lnTo>
                <a:lnTo>
                  <a:pt x="1077" y="268"/>
                </a:lnTo>
                <a:lnTo>
                  <a:pt x="1098" y="258"/>
                </a:lnTo>
                <a:lnTo>
                  <a:pt x="1116" y="252"/>
                </a:lnTo>
                <a:lnTo>
                  <a:pt x="1119" y="273"/>
                </a:lnTo>
                <a:lnTo>
                  <a:pt x="1108" y="288"/>
                </a:lnTo>
                <a:lnTo>
                  <a:pt x="1120" y="304"/>
                </a:lnTo>
                <a:lnTo>
                  <a:pt x="1140" y="297"/>
                </a:lnTo>
                <a:lnTo>
                  <a:pt x="1156" y="307"/>
                </a:lnTo>
                <a:lnTo>
                  <a:pt x="1168" y="321"/>
                </a:lnTo>
                <a:lnTo>
                  <a:pt x="1159" y="343"/>
                </a:lnTo>
                <a:lnTo>
                  <a:pt x="1171" y="354"/>
                </a:lnTo>
                <a:lnTo>
                  <a:pt x="1191" y="361"/>
                </a:lnTo>
                <a:lnTo>
                  <a:pt x="1191" y="396"/>
                </a:lnTo>
                <a:lnTo>
                  <a:pt x="1215" y="403"/>
                </a:lnTo>
                <a:lnTo>
                  <a:pt x="1245" y="397"/>
                </a:lnTo>
                <a:lnTo>
                  <a:pt x="1243" y="372"/>
                </a:lnTo>
                <a:lnTo>
                  <a:pt x="1258" y="367"/>
                </a:lnTo>
                <a:lnTo>
                  <a:pt x="1275" y="375"/>
                </a:lnTo>
                <a:lnTo>
                  <a:pt x="1267" y="397"/>
                </a:lnTo>
                <a:lnTo>
                  <a:pt x="1257" y="412"/>
                </a:lnTo>
                <a:lnTo>
                  <a:pt x="1254" y="435"/>
                </a:lnTo>
                <a:lnTo>
                  <a:pt x="1255" y="477"/>
                </a:lnTo>
                <a:lnTo>
                  <a:pt x="1245" y="502"/>
                </a:lnTo>
                <a:lnTo>
                  <a:pt x="1234" y="522"/>
                </a:lnTo>
                <a:lnTo>
                  <a:pt x="1233" y="547"/>
                </a:lnTo>
                <a:lnTo>
                  <a:pt x="1261" y="550"/>
                </a:lnTo>
                <a:lnTo>
                  <a:pt x="1261" y="571"/>
                </a:lnTo>
                <a:lnTo>
                  <a:pt x="1272" y="589"/>
                </a:lnTo>
                <a:lnTo>
                  <a:pt x="1252" y="607"/>
                </a:lnTo>
                <a:lnTo>
                  <a:pt x="1233" y="622"/>
                </a:lnTo>
                <a:lnTo>
                  <a:pt x="1233" y="643"/>
                </a:lnTo>
                <a:lnTo>
                  <a:pt x="1267" y="642"/>
                </a:lnTo>
                <a:lnTo>
                  <a:pt x="1294" y="654"/>
                </a:lnTo>
                <a:lnTo>
                  <a:pt x="1296" y="676"/>
                </a:lnTo>
                <a:lnTo>
                  <a:pt x="1314" y="696"/>
                </a:lnTo>
                <a:lnTo>
                  <a:pt x="1332" y="708"/>
                </a:lnTo>
                <a:lnTo>
                  <a:pt x="1356" y="739"/>
                </a:lnTo>
                <a:lnTo>
                  <a:pt x="1372" y="757"/>
                </a:lnTo>
                <a:lnTo>
                  <a:pt x="1390" y="775"/>
                </a:lnTo>
                <a:lnTo>
                  <a:pt x="1411" y="771"/>
                </a:lnTo>
                <a:lnTo>
                  <a:pt x="1423" y="759"/>
                </a:lnTo>
                <a:lnTo>
                  <a:pt x="1428" y="781"/>
                </a:lnTo>
                <a:lnTo>
                  <a:pt x="1441" y="799"/>
                </a:lnTo>
                <a:lnTo>
                  <a:pt x="1455" y="793"/>
                </a:lnTo>
                <a:lnTo>
                  <a:pt x="1480" y="787"/>
                </a:lnTo>
                <a:lnTo>
                  <a:pt x="1492" y="772"/>
                </a:lnTo>
                <a:lnTo>
                  <a:pt x="1504" y="801"/>
                </a:lnTo>
                <a:lnTo>
                  <a:pt x="1516" y="822"/>
                </a:lnTo>
                <a:lnTo>
                  <a:pt x="1528" y="844"/>
                </a:lnTo>
                <a:lnTo>
                  <a:pt x="1551" y="856"/>
                </a:lnTo>
                <a:lnTo>
                  <a:pt x="1578" y="849"/>
                </a:lnTo>
                <a:lnTo>
                  <a:pt x="1605" y="861"/>
                </a:lnTo>
                <a:lnTo>
                  <a:pt x="1615" y="870"/>
                </a:lnTo>
                <a:lnTo>
                  <a:pt x="1644" y="859"/>
                </a:lnTo>
                <a:lnTo>
                  <a:pt x="1656" y="877"/>
                </a:lnTo>
                <a:lnTo>
                  <a:pt x="1677" y="883"/>
                </a:lnTo>
                <a:lnTo>
                  <a:pt x="1699" y="898"/>
                </a:lnTo>
                <a:lnTo>
                  <a:pt x="1720" y="915"/>
                </a:lnTo>
                <a:lnTo>
                  <a:pt x="1731" y="933"/>
                </a:lnTo>
                <a:lnTo>
                  <a:pt x="1716" y="942"/>
                </a:lnTo>
                <a:lnTo>
                  <a:pt x="1695" y="949"/>
                </a:lnTo>
                <a:lnTo>
                  <a:pt x="1678" y="961"/>
                </a:lnTo>
                <a:lnTo>
                  <a:pt x="1693" y="982"/>
                </a:lnTo>
                <a:lnTo>
                  <a:pt x="1684" y="1006"/>
                </a:lnTo>
                <a:lnTo>
                  <a:pt x="1653" y="1012"/>
                </a:lnTo>
                <a:lnTo>
                  <a:pt x="1627" y="1012"/>
                </a:lnTo>
                <a:lnTo>
                  <a:pt x="1600" y="1032"/>
                </a:lnTo>
                <a:lnTo>
                  <a:pt x="1594" y="1057"/>
                </a:lnTo>
                <a:lnTo>
                  <a:pt x="1612" y="1077"/>
                </a:lnTo>
                <a:lnTo>
                  <a:pt x="1639" y="1074"/>
                </a:lnTo>
                <a:lnTo>
                  <a:pt x="1660" y="1096"/>
                </a:lnTo>
                <a:lnTo>
                  <a:pt x="1687" y="1101"/>
                </a:lnTo>
                <a:lnTo>
                  <a:pt x="1708" y="1114"/>
                </a:lnTo>
                <a:lnTo>
                  <a:pt x="1734" y="1123"/>
                </a:lnTo>
                <a:lnTo>
                  <a:pt x="1746" y="1140"/>
                </a:lnTo>
                <a:lnTo>
                  <a:pt x="1740" y="1162"/>
                </a:lnTo>
                <a:lnTo>
                  <a:pt x="1717" y="1167"/>
                </a:lnTo>
                <a:lnTo>
                  <a:pt x="1696" y="1174"/>
                </a:lnTo>
                <a:lnTo>
                  <a:pt x="1668" y="1171"/>
                </a:lnTo>
                <a:lnTo>
                  <a:pt x="1636" y="1176"/>
                </a:lnTo>
                <a:lnTo>
                  <a:pt x="1611" y="1183"/>
                </a:lnTo>
                <a:lnTo>
                  <a:pt x="1609" y="1209"/>
                </a:lnTo>
                <a:lnTo>
                  <a:pt x="1617" y="1236"/>
                </a:lnTo>
                <a:lnTo>
                  <a:pt x="1614" y="1260"/>
                </a:lnTo>
                <a:lnTo>
                  <a:pt x="1620" y="1282"/>
                </a:lnTo>
                <a:lnTo>
                  <a:pt x="1641" y="1281"/>
                </a:lnTo>
                <a:lnTo>
                  <a:pt x="1657" y="1266"/>
                </a:lnTo>
                <a:lnTo>
                  <a:pt x="1678" y="1266"/>
                </a:lnTo>
                <a:lnTo>
                  <a:pt x="1707" y="1264"/>
                </a:lnTo>
                <a:lnTo>
                  <a:pt x="1732" y="1266"/>
                </a:lnTo>
                <a:lnTo>
                  <a:pt x="1756" y="1282"/>
                </a:lnTo>
                <a:lnTo>
                  <a:pt x="1770" y="1305"/>
                </a:lnTo>
                <a:lnTo>
                  <a:pt x="1776" y="1323"/>
                </a:lnTo>
                <a:lnTo>
                  <a:pt x="1768" y="1342"/>
                </a:lnTo>
                <a:lnTo>
                  <a:pt x="1783" y="1371"/>
                </a:lnTo>
                <a:lnTo>
                  <a:pt x="1816" y="1365"/>
                </a:lnTo>
                <a:lnTo>
                  <a:pt x="1842" y="1366"/>
                </a:lnTo>
                <a:lnTo>
                  <a:pt x="1875" y="1366"/>
                </a:lnTo>
                <a:lnTo>
                  <a:pt x="1902" y="1368"/>
                </a:lnTo>
                <a:lnTo>
                  <a:pt x="1930" y="1372"/>
                </a:lnTo>
                <a:lnTo>
                  <a:pt x="1953" y="1377"/>
                </a:lnTo>
                <a:lnTo>
                  <a:pt x="1987" y="1383"/>
                </a:lnTo>
                <a:lnTo>
                  <a:pt x="2008" y="1381"/>
                </a:lnTo>
                <a:lnTo>
                  <a:pt x="2023" y="1395"/>
                </a:lnTo>
                <a:lnTo>
                  <a:pt x="2035" y="1413"/>
                </a:lnTo>
                <a:lnTo>
                  <a:pt x="2041" y="1429"/>
                </a:lnTo>
                <a:lnTo>
                  <a:pt x="2041" y="1450"/>
                </a:lnTo>
                <a:lnTo>
                  <a:pt x="2047" y="1468"/>
                </a:lnTo>
                <a:lnTo>
                  <a:pt x="2064" y="1483"/>
                </a:lnTo>
                <a:lnTo>
                  <a:pt x="2073" y="1506"/>
                </a:lnTo>
                <a:lnTo>
                  <a:pt x="2080" y="1522"/>
                </a:lnTo>
                <a:lnTo>
                  <a:pt x="2095" y="1533"/>
                </a:lnTo>
                <a:lnTo>
                  <a:pt x="2116" y="1542"/>
                </a:lnTo>
                <a:lnTo>
                  <a:pt x="2139" y="1531"/>
                </a:lnTo>
                <a:lnTo>
                  <a:pt x="2149" y="1509"/>
                </a:lnTo>
                <a:lnTo>
                  <a:pt x="2172" y="1480"/>
                </a:lnTo>
                <a:lnTo>
                  <a:pt x="2181" y="1449"/>
                </a:lnTo>
                <a:lnTo>
                  <a:pt x="2193" y="1417"/>
                </a:lnTo>
                <a:lnTo>
                  <a:pt x="2202" y="1395"/>
                </a:lnTo>
                <a:lnTo>
                  <a:pt x="2215" y="1378"/>
                </a:lnTo>
                <a:lnTo>
                  <a:pt x="2223" y="1360"/>
                </a:lnTo>
                <a:lnTo>
                  <a:pt x="2244" y="1353"/>
                </a:lnTo>
                <a:lnTo>
                  <a:pt x="2268" y="1350"/>
                </a:lnTo>
                <a:lnTo>
                  <a:pt x="2287" y="1332"/>
                </a:lnTo>
                <a:lnTo>
                  <a:pt x="2304" y="1317"/>
                </a:lnTo>
                <a:lnTo>
                  <a:pt x="2323" y="1314"/>
                </a:lnTo>
                <a:lnTo>
                  <a:pt x="2346" y="1326"/>
                </a:lnTo>
                <a:lnTo>
                  <a:pt x="2359" y="1342"/>
                </a:lnTo>
                <a:lnTo>
                  <a:pt x="2370" y="1359"/>
                </a:lnTo>
                <a:lnTo>
                  <a:pt x="2394" y="1372"/>
                </a:lnTo>
                <a:lnTo>
                  <a:pt x="2416" y="1395"/>
                </a:lnTo>
                <a:lnTo>
                  <a:pt x="2436" y="1404"/>
                </a:lnTo>
                <a:lnTo>
                  <a:pt x="2455" y="1398"/>
                </a:lnTo>
                <a:lnTo>
                  <a:pt x="2482" y="1407"/>
                </a:lnTo>
                <a:lnTo>
                  <a:pt x="2497" y="1416"/>
                </a:lnTo>
                <a:lnTo>
                  <a:pt x="2514" y="1429"/>
                </a:lnTo>
                <a:lnTo>
                  <a:pt x="2524" y="1453"/>
                </a:lnTo>
                <a:lnTo>
                  <a:pt x="2521" y="1476"/>
                </a:lnTo>
                <a:lnTo>
                  <a:pt x="2505" y="1489"/>
                </a:lnTo>
                <a:lnTo>
                  <a:pt x="2473" y="1488"/>
                </a:lnTo>
                <a:lnTo>
                  <a:pt x="2452" y="1473"/>
                </a:lnTo>
                <a:lnTo>
                  <a:pt x="2431" y="1461"/>
                </a:lnTo>
                <a:lnTo>
                  <a:pt x="2407" y="1462"/>
                </a:lnTo>
                <a:lnTo>
                  <a:pt x="2391" y="1474"/>
                </a:lnTo>
                <a:lnTo>
                  <a:pt x="2395" y="1497"/>
                </a:lnTo>
                <a:lnTo>
                  <a:pt x="2386" y="1519"/>
                </a:lnTo>
                <a:lnTo>
                  <a:pt x="2367" y="1530"/>
                </a:lnTo>
                <a:lnTo>
                  <a:pt x="2343" y="1525"/>
                </a:lnTo>
                <a:lnTo>
                  <a:pt x="2322" y="1536"/>
                </a:lnTo>
                <a:lnTo>
                  <a:pt x="2338" y="1557"/>
                </a:lnTo>
                <a:lnTo>
                  <a:pt x="2355" y="1570"/>
                </a:lnTo>
                <a:lnTo>
                  <a:pt x="2352" y="1599"/>
                </a:lnTo>
                <a:lnTo>
                  <a:pt x="2367" y="1617"/>
                </a:lnTo>
                <a:lnTo>
                  <a:pt x="2367" y="1644"/>
                </a:lnTo>
                <a:lnTo>
                  <a:pt x="2386" y="1654"/>
                </a:lnTo>
                <a:lnTo>
                  <a:pt x="2400" y="1677"/>
                </a:lnTo>
                <a:lnTo>
                  <a:pt x="2419" y="1686"/>
                </a:lnTo>
                <a:lnTo>
                  <a:pt x="2445" y="1689"/>
                </a:lnTo>
                <a:lnTo>
                  <a:pt x="2470" y="1693"/>
                </a:lnTo>
                <a:lnTo>
                  <a:pt x="2479" y="1714"/>
                </a:lnTo>
                <a:lnTo>
                  <a:pt x="2473" y="1749"/>
                </a:lnTo>
                <a:lnTo>
                  <a:pt x="2454" y="1756"/>
                </a:lnTo>
                <a:lnTo>
                  <a:pt x="2448" y="1771"/>
                </a:lnTo>
                <a:lnTo>
                  <a:pt x="2460" y="1779"/>
                </a:lnTo>
                <a:lnTo>
                  <a:pt x="2437" y="1792"/>
                </a:lnTo>
                <a:lnTo>
                  <a:pt x="2431" y="1818"/>
                </a:lnTo>
                <a:lnTo>
                  <a:pt x="2436" y="1837"/>
                </a:lnTo>
                <a:lnTo>
                  <a:pt x="2437" y="1860"/>
                </a:lnTo>
                <a:lnTo>
                  <a:pt x="2440" y="1882"/>
                </a:lnTo>
                <a:lnTo>
                  <a:pt x="2416" y="1893"/>
                </a:lnTo>
                <a:lnTo>
                  <a:pt x="2391" y="1894"/>
                </a:lnTo>
                <a:lnTo>
                  <a:pt x="2373" y="1891"/>
                </a:lnTo>
                <a:lnTo>
                  <a:pt x="2352" y="1890"/>
                </a:lnTo>
                <a:lnTo>
                  <a:pt x="2343" y="1908"/>
                </a:lnTo>
                <a:lnTo>
                  <a:pt x="2326" y="1927"/>
                </a:lnTo>
                <a:lnTo>
                  <a:pt x="2307" y="1933"/>
                </a:lnTo>
                <a:lnTo>
                  <a:pt x="2289" y="1947"/>
                </a:lnTo>
                <a:lnTo>
                  <a:pt x="2269" y="1951"/>
                </a:lnTo>
                <a:lnTo>
                  <a:pt x="2260" y="1971"/>
                </a:lnTo>
                <a:lnTo>
                  <a:pt x="2262" y="1993"/>
                </a:lnTo>
                <a:lnTo>
                  <a:pt x="2256" y="2008"/>
                </a:lnTo>
                <a:lnTo>
                  <a:pt x="2259" y="2029"/>
                </a:lnTo>
                <a:lnTo>
                  <a:pt x="2268" y="2044"/>
                </a:lnTo>
                <a:lnTo>
                  <a:pt x="2283" y="2059"/>
                </a:lnTo>
                <a:lnTo>
                  <a:pt x="2274" y="2083"/>
                </a:lnTo>
                <a:lnTo>
                  <a:pt x="2263" y="2101"/>
                </a:lnTo>
                <a:lnTo>
                  <a:pt x="2274" y="2119"/>
                </a:lnTo>
                <a:lnTo>
                  <a:pt x="2283" y="2130"/>
                </a:lnTo>
                <a:lnTo>
                  <a:pt x="2298" y="2146"/>
                </a:lnTo>
                <a:lnTo>
                  <a:pt x="2295" y="2167"/>
                </a:lnTo>
                <a:lnTo>
                  <a:pt x="2296" y="2193"/>
                </a:lnTo>
                <a:lnTo>
                  <a:pt x="2310" y="2211"/>
                </a:lnTo>
                <a:lnTo>
                  <a:pt x="2326" y="2223"/>
                </a:lnTo>
                <a:lnTo>
                  <a:pt x="2347" y="2236"/>
                </a:lnTo>
                <a:lnTo>
                  <a:pt x="2361" y="2253"/>
                </a:lnTo>
                <a:lnTo>
                  <a:pt x="2355" y="2278"/>
                </a:lnTo>
                <a:lnTo>
                  <a:pt x="2358" y="2302"/>
                </a:lnTo>
                <a:lnTo>
                  <a:pt x="2356" y="2326"/>
                </a:lnTo>
                <a:lnTo>
                  <a:pt x="2371" y="2340"/>
                </a:lnTo>
                <a:lnTo>
                  <a:pt x="2368" y="2362"/>
                </a:lnTo>
                <a:lnTo>
                  <a:pt x="2380" y="2394"/>
                </a:lnTo>
                <a:lnTo>
                  <a:pt x="2401" y="2412"/>
                </a:lnTo>
                <a:lnTo>
                  <a:pt x="2422" y="2415"/>
                </a:lnTo>
                <a:lnTo>
                  <a:pt x="2428" y="2434"/>
                </a:lnTo>
                <a:lnTo>
                  <a:pt x="2440" y="2445"/>
                </a:lnTo>
                <a:lnTo>
                  <a:pt x="2455" y="2437"/>
                </a:lnTo>
                <a:lnTo>
                  <a:pt x="2473" y="2436"/>
                </a:lnTo>
                <a:lnTo>
                  <a:pt x="2476" y="2457"/>
                </a:lnTo>
                <a:lnTo>
                  <a:pt x="2487" y="2473"/>
                </a:lnTo>
                <a:lnTo>
                  <a:pt x="2512" y="2472"/>
                </a:lnTo>
                <a:lnTo>
                  <a:pt x="2532" y="2479"/>
                </a:lnTo>
                <a:lnTo>
                  <a:pt x="2542" y="2502"/>
                </a:lnTo>
                <a:lnTo>
                  <a:pt x="2571" y="2517"/>
                </a:lnTo>
                <a:lnTo>
                  <a:pt x="2590" y="2527"/>
                </a:lnTo>
                <a:lnTo>
                  <a:pt x="2590" y="2550"/>
                </a:lnTo>
                <a:lnTo>
                  <a:pt x="2592" y="2574"/>
                </a:lnTo>
                <a:lnTo>
                  <a:pt x="2610" y="2575"/>
                </a:lnTo>
                <a:lnTo>
                  <a:pt x="2611" y="2596"/>
                </a:lnTo>
                <a:lnTo>
                  <a:pt x="2628" y="2613"/>
                </a:lnTo>
                <a:lnTo>
                  <a:pt x="2644" y="2629"/>
                </a:lnTo>
                <a:lnTo>
                  <a:pt x="2670" y="2631"/>
                </a:lnTo>
                <a:lnTo>
                  <a:pt x="2695" y="2635"/>
                </a:lnTo>
                <a:lnTo>
                  <a:pt x="2704" y="2646"/>
                </a:lnTo>
                <a:lnTo>
                  <a:pt x="2700" y="2671"/>
                </a:lnTo>
                <a:lnTo>
                  <a:pt x="2704" y="2698"/>
                </a:lnTo>
                <a:lnTo>
                  <a:pt x="2689" y="2718"/>
                </a:lnTo>
                <a:lnTo>
                  <a:pt x="2664" y="2733"/>
                </a:lnTo>
                <a:lnTo>
                  <a:pt x="2638" y="2757"/>
                </a:lnTo>
                <a:lnTo>
                  <a:pt x="2631" y="2784"/>
                </a:lnTo>
                <a:lnTo>
                  <a:pt x="2617" y="2803"/>
                </a:lnTo>
                <a:lnTo>
                  <a:pt x="2586" y="2820"/>
                </a:lnTo>
                <a:lnTo>
                  <a:pt x="2563" y="2832"/>
                </a:lnTo>
                <a:lnTo>
                  <a:pt x="2557" y="2862"/>
                </a:lnTo>
                <a:lnTo>
                  <a:pt x="2559" y="2892"/>
                </a:lnTo>
                <a:lnTo>
                  <a:pt x="2550" y="2913"/>
                </a:lnTo>
                <a:lnTo>
                  <a:pt x="2533" y="2920"/>
                </a:lnTo>
                <a:lnTo>
                  <a:pt x="2515" y="2923"/>
                </a:lnTo>
                <a:lnTo>
                  <a:pt x="2497" y="2935"/>
                </a:lnTo>
                <a:lnTo>
                  <a:pt x="2479" y="2922"/>
                </a:lnTo>
                <a:lnTo>
                  <a:pt x="2460" y="2917"/>
                </a:lnTo>
                <a:lnTo>
                  <a:pt x="2442" y="2914"/>
                </a:lnTo>
                <a:lnTo>
                  <a:pt x="2424" y="2916"/>
                </a:lnTo>
                <a:lnTo>
                  <a:pt x="2422" y="2932"/>
                </a:lnTo>
                <a:lnTo>
                  <a:pt x="2407" y="2932"/>
                </a:lnTo>
                <a:lnTo>
                  <a:pt x="2392" y="2928"/>
                </a:lnTo>
                <a:lnTo>
                  <a:pt x="2386" y="2946"/>
                </a:lnTo>
                <a:lnTo>
                  <a:pt x="2373" y="2961"/>
                </a:lnTo>
                <a:lnTo>
                  <a:pt x="2352" y="2964"/>
                </a:lnTo>
                <a:lnTo>
                  <a:pt x="2335" y="2976"/>
                </a:lnTo>
                <a:lnTo>
                  <a:pt x="2338" y="2997"/>
                </a:lnTo>
                <a:lnTo>
                  <a:pt x="2355" y="3009"/>
                </a:lnTo>
                <a:lnTo>
                  <a:pt x="2364" y="3028"/>
                </a:lnTo>
                <a:lnTo>
                  <a:pt x="2379" y="3040"/>
                </a:lnTo>
                <a:lnTo>
                  <a:pt x="2376" y="3058"/>
                </a:lnTo>
                <a:lnTo>
                  <a:pt x="2367" y="3067"/>
                </a:lnTo>
                <a:lnTo>
                  <a:pt x="2359" y="3084"/>
                </a:lnTo>
                <a:lnTo>
                  <a:pt x="2362" y="3106"/>
                </a:lnTo>
                <a:lnTo>
                  <a:pt x="2347" y="3120"/>
                </a:lnTo>
                <a:lnTo>
                  <a:pt x="2359" y="3138"/>
                </a:lnTo>
                <a:lnTo>
                  <a:pt x="2344" y="3153"/>
                </a:lnTo>
                <a:lnTo>
                  <a:pt x="2347" y="3172"/>
                </a:lnTo>
                <a:lnTo>
                  <a:pt x="2337" y="3196"/>
                </a:lnTo>
                <a:lnTo>
                  <a:pt x="2361" y="3193"/>
                </a:lnTo>
                <a:lnTo>
                  <a:pt x="2376" y="3207"/>
                </a:lnTo>
                <a:lnTo>
                  <a:pt x="2376" y="3232"/>
                </a:lnTo>
                <a:lnTo>
                  <a:pt x="2394" y="3228"/>
                </a:lnTo>
                <a:lnTo>
                  <a:pt x="2412" y="3238"/>
                </a:lnTo>
                <a:lnTo>
                  <a:pt x="2421" y="3258"/>
                </a:lnTo>
                <a:lnTo>
                  <a:pt x="2416" y="3282"/>
                </a:lnTo>
                <a:lnTo>
                  <a:pt x="2406" y="3303"/>
                </a:lnTo>
                <a:lnTo>
                  <a:pt x="2410" y="3322"/>
                </a:lnTo>
                <a:lnTo>
                  <a:pt x="2397" y="3333"/>
                </a:lnTo>
                <a:lnTo>
                  <a:pt x="2382" y="3351"/>
                </a:lnTo>
                <a:lnTo>
                  <a:pt x="2379" y="3363"/>
                </a:lnTo>
                <a:lnTo>
                  <a:pt x="2361" y="3366"/>
                </a:lnTo>
                <a:lnTo>
                  <a:pt x="2364" y="3382"/>
                </a:lnTo>
                <a:lnTo>
                  <a:pt x="2353" y="3396"/>
                </a:lnTo>
                <a:lnTo>
                  <a:pt x="2350" y="3412"/>
                </a:lnTo>
                <a:lnTo>
                  <a:pt x="2326" y="3420"/>
                </a:lnTo>
                <a:lnTo>
                  <a:pt x="2299" y="3423"/>
                </a:lnTo>
                <a:lnTo>
                  <a:pt x="2269" y="3417"/>
                </a:lnTo>
                <a:lnTo>
                  <a:pt x="2251" y="3403"/>
                </a:lnTo>
                <a:lnTo>
                  <a:pt x="2254" y="3385"/>
                </a:lnTo>
                <a:lnTo>
                  <a:pt x="2245" y="3366"/>
                </a:lnTo>
                <a:lnTo>
                  <a:pt x="2224" y="3375"/>
                </a:lnTo>
                <a:lnTo>
                  <a:pt x="2208" y="3394"/>
                </a:lnTo>
                <a:lnTo>
                  <a:pt x="2188" y="3400"/>
                </a:lnTo>
                <a:lnTo>
                  <a:pt x="2164" y="3400"/>
                </a:lnTo>
                <a:lnTo>
                  <a:pt x="2157" y="3418"/>
                </a:lnTo>
                <a:lnTo>
                  <a:pt x="2142" y="3430"/>
                </a:lnTo>
                <a:lnTo>
                  <a:pt x="2121" y="3430"/>
                </a:lnTo>
                <a:lnTo>
                  <a:pt x="2098" y="3435"/>
                </a:lnTo>
                <a:lnTo>
                  <a:pt x="2076" y="3438"/>
                </a:lnTo>
                <a:lnTo>
                  <a:pt x="2056" y="3429"/>
                </a:lnTo>
                <a:lnTo>
                  <a:pt x="2031" y="3408"/>
                </a:lnTo>
                <a:lnTo>
                  <a:pt x="2010" y="3396"/>
                </a:lnTo>
                <a:lnTo>
                  <a:pt x="1992" y="3414"/>
                </a:lnTo>
                <a:lnTo>
                  <a:pt x="1990" y="3438"/>
                </a:lnTo>
                <a:lnTo>
                  <a:pt x="1962" y="3432"/>
                </a:lnTo>
                <a:lnTo>
                  <a:pt x="1933" y="3414"/>
                </a:lnTo>
                <a:lnTo>
                  <a:pt x="1924" y="3438"/>
                </a:lnTo>
                <a:lnTo>
                  <a:pt x="1909" y="3459"/>
                </a:lnTo>
                <a:lnTo>
                  <a:pt x="1884" y="3468"/>
                </a:lnTo>
                <a:lnTo>
                  <a:pt x="1855" y="3472"/>
                </a:lnTo>
                <a:lnTo>
                  <a:pt x="1846" y="3493"/>
                </a:lnTo>
                <a:lnTo>
                  <a:pt x="1825" y="3480"/>
                </a:lnTo>
                <a:lnTo>
                  <a:pt x="1803" y="3475"/>
                </a:lnTo>
                <a:lnTo>
                  <a:pt x="1777" y="3474"/>
                </a:lnTo>
                <a:lnTo>
                  <a:pt x="1759" y="3471"/>
                </a:lnTo>
                <a:lnTo>
                  <a:pt x="1741" y="3478"/>
                </a:lnTo>
                <a:lnTo>
                  <a:pt x="1726" y="3490"/>
                </a:lnTo>
                <a:lnTo>
                  <a:pt x="1711" y="3480"/>
                </a:lnTo>
                <a:lnTo>
                  <a:pt x="1714" y="3462"/>
                </a:lnTo>
                <a:lnTo>
                  <a:pt x="1693" y="3456"/>
                </a:lnTo>
                <a:lnTo>
                  <a:pt x="1675" y="3457"/>
                </a:lnTo>
                <a:lnTo>
                  <a:pt x="1663" y="3471"/>
                </a:lnTo>
                <a:lnTo>
                  <a:pt x="1663" y="3486"/>
                </a:lnTo>
                <a:lnTo>
                  <a:pt x="1662" y="3505"/>
                </a:lnTo>
                <a:lnTo>
                  <a:pt x="1653" y="3489"/>
                </a:lnTo>
                <a:lnTo>
                  <a:pt x="1632" y="3484"/>
                </a:lnTo>
                <a:lnTo>
                  <a:pt x="1618" y="3501"/>
                </a:lnTo>
                <a:lnTo>
                  <a:pt x="1596" y="3523"/>
                </a:lnTo>
                <a:lnTo>
                  <a:pt x="1584" y="3549"/>
                </a:lnTo>
                <a:lnTo>
                  <a:pt x="1581" y="3571"/>
                </a:lnTo>
                <a:lnTo>
                  <a:pt x="1578" y="3589"/>
                </a:lnTo>
                <a:lnTo>
                  <a:pt x="1591" y="3606"/>
                </a:lnTo>
                <a:lnTo>
                  <a:pt x="1570" y="3613"/>
                </a:lnTo>
                <a:lnTo>
                  <a:pt x="1551" y="3624"/>
                </a:lnTo>
                <a:lnTo>
                  <a:pt x="1525" y="3625"/>
                </a:lnTo>
                <a:lnTo>
                  <a:pt x="1513" y="3601"/>
                </a:lnTo>
                <a:lnTo>
                  <a:pt x="1512" y="3582"/>
                </a:lnTo>
                <a:lnTo>
                  <a:pt x="1501" y="3564"/>
                </a:lnTo>
                <a:lnTo>
                  <a:pt x="1486" y="3546"/>
                </a:lnTo>
                <a:lnTo>
                  <a:pt x="1468" y="3528"/>
                </a:lnTo>
                <a:lnTo>
                  <a:pt x="1441" y="3520"/>
                </a:lnTo>
                <a:lnTo>
                  <a:pt x="1423" y="3535"/>
                </a:lnTo>
                <a:lnTo>
                  <a:pt x="1398" y="3550"/>
                </a:lnTo>
                <a:lnTo>
                  <a:pt x="1386" y="3571"/>
                </a:lnTo>
                <a:lnTo>
                  <a:pt x="1363" y="3570"/>
                </a:lnTo>
                <a:lnTo>
                  <a:pt x="1344" y="3589"/>
                </a:lnTo>
                <a:lnTo>
                  <a:pt x="1318" y="3589"/>
                </a:lnTo>
                <a:lnTo>
                  <a:pt x="1302" y="3601"/>
                </a:lnTo>
                <a:lnTo>
                  <a:pt x="1288" y="3621"/>
                </a:lnTo>
                <a:lnTo>
                  <a:pt x="1267" y="3613"/>
                </a:lnTo>
                <a:lnTo>
                  <a:pt x="1255" y="3627"/>
                </a:lnTo>
                <a:lnTo>
                  <a:pt x="1228" y="3622"/>
                </a:lnTo>
                <a:lnTo>
                  <a:pt x="1222" y="3646"/>
                </a:lnTo>
                <a:lnTo>
                  <a:pt x="1204" y="3651"/>
                </a:lnTo>
                <a:lnTo>
                  <a:pt x="1210" y="3667"/>
                </a:lnTo>
                <a:lnTo>
                  <a:pt x="1200" y="3679"/>
                </a:lnTo>
                <a:lnTo>
                  <a:pt x="1197" y="3705"/>
                </a:lnTo>
                <a:lnTo>
                  <a:pt x="1198" y="3724"/>
                </a:lnTo>
                <a:lnTo>
                  <a:pt x="1210" y="3739"/>
                </a:lnTo>
                <a:lnTo>
                  <a:pt x="1200" y="3754"/>
                </a:lnTo>
                <a:lnTo>
                  <a:pt x="1216" y="3771"/>
                </a:lnTo>
                <a:lnTo>
                  <a:pt x="1206" y="3775"/>
                </a:lnTo>
                <a:lnTo>
                  <a:pt x="1200" y="3795"/>
                </a:lnTo>
                <a:lnTo>
                  <a:pt x="1212" y="3808"/>
                </a:lnTo>
                <a:lnTo>
                  <a:pt x="1200" y="3820"/>
                </a:lnTo>
                <a:lnTo>
                  <a:pt x="1180" y="3828"/>
                </a:lnTo>
                <a:lnTo>
                  <a:pt x="1165" y="3838"/>
                </a:lnTo>
                <a:lnTo>
                  <a:pt x="1150" y="3856"/>
                </a:lnTo>
                <a:lnTo>
                  <a:pt x="1128" y="3870"/>
                </a:lnTo>
                <a:lnTo>
                  <a:pt x="1110" y="3879"/>
                </a:lnTo>
                <a:lnTo>
                  <a:pt x="1084" y="3877"/>
                </a:lnTo>
                <a:lnTo>
                  <a:pt x="1077" y="3856"/>
                </a:lnTo>
                <a:lnTo>
                  <a:pt x="1081" y="3841"/>
                </a:lnTo>
                <a:lnTo>
                  <a:pt x="1074" y="3826"/>
                </a:lnTo>
                <a:lnTo>
                  <a:pt x="1083" y="3813"/>
                </a:lnTo>
                <a:lnTo>
                  <a:pt x="1101" y="3810"/>
                </a:lnTo>
                <a:lnTo>
                  <a:pt x="1089" y="3792"/>
                </a:lnTo>
                <a:lnTo>
                  <a:pt x="1095" y="3766"/>
                </a:lnTo>
                <a:lnTo>
                  <a:pt x="1111" y="3759"/>
                </a:lnTo>
                <a:lnTo>
                  <a:pt x="1120" y="3744"/>
                </a:lnTo>
                <a:lnTo>
                  <a:pt x="1116" y="3718"/>
                </a:lnTo>
                <a:lnTo>
                  <a:pt x="1104" y="3702"/>
                </a:lnTo>
                <a:lnTo>
                  <a:pt x="1105" y="3673"/>
                </a:lnTo>
                <a:lnTo>
                  <a:pt x="1090" y="3642"/>
                </a:lnTo>
                <a:lnTo>
                  <a:pt x="1077" y="3624"/>
                </a:lnTo>
                <a:lnTo>
                  <a:pt x="1080" y="3604"/>
                </a:lnTo>
                <a:lnTo>
                  <a:pt x="1078" y="3583"/>
                </a:lnTo>
                <a:lnTo>
                  <a:pt x="1065" y="3561"/>
                </a:lnTo>
                <a:lnTo>
                  <a:pt x="1050" y="3531"/>
                </a:lnTo>
                <a:lnTo>
                  <a:pt x="1050" y="3502"/>
                </a:lnTo>
                <a:lnTo>
                  <a:pt x="1038" y="3493"/>
                </a:lnTo>
                <a:lnTo>
                  <a:pt x="1033" y="3477"/>
                </a:lnTo>
                <a:lnTo>
                  <a:pt x="1018" y="3460"/>
                </a:lnTo>
                <a:lnTo>
                  <a:pt x="999" y="3448"/>
                </a:lnTo>
                <a:lnTo>
                  <a:pt x="975" y="3447"/>
                </a:lnTo>
                <a:lnTo>
                  <a:pt x="960" y="3426"/>
                </a:lnTo>
                <a:lnTo>
                  <a:pt x="934" y="3423"/>
                </a:lnTo>
                <a:lnTo>
                  <a:pt x="925" y="3403"/>
                </a:lnTo>
                <a:lnTo>
                  <a:pt x="901" y="3414"/>
                </a:lnTo>
                <a:lnTo>
                  <a:pt x="885" y="3414"/>
                </a:lnTo>
                <a:lnTo>
                  <a:pt x="865" y="3412"/>
                </a:lnTo>
                <a:lnTo>
                  <a:pt x="862" y="3391"/>
                </a:lnTo>
                <a:lnTo>
                  <a:pt x="864" y="3373"/>
                </a:lnTo>
                <a:lnTo>
                  <a:pt x="858" y="3352"/>
                </a:lnTo>
                <a:lnTo>
                  <a:pt x="844" y="3337"/>
                </a:lnTo>
                <a:lnTo>
                  <a:pt x="853" y="3327"/>
                </a:lnTo>
                <a:lnTo>
                  <a:pt x="835" y="3295"/>
                </a:lnTo>
                <a:lnTo>
                  <a:pt x="834" y="3268"/>
                </a:lnTo>
                <a:lnTo>
                  <a:pt x="814" y="3258"/>
                </a:lnTo>
                <a:lnTo>
                  <a:pt x="817" y="3235"/>
                </a:lnTo>
                <a:lnTo>
                  <a:pt x="790" y="3226"/>
                </a:lnTo>
                <a:lnTo>
                  <a:pt x="769" y="3232"/>
                </a:lnTo>
                <a:lnTo>
                  <a:pt x="769" y="3214"/>
                </a:lnTo>
                <a:lnTo>
                  <a:pt x="753" y="3193"/>
                </a:lnTo>
                <a:lnTo>
                  <a:pt x="762" y="3171"/>
                </a:lnTo>
                <a:lnTo>
                  <a:pt x="753" y="3154"/>
                </a:lnTo>
                <a:lnTo>
                  <a:pt x="762" y="3135"/>
                </a:lnTo>
                <a:lnTo>
                  <a:pt x="778" y="3112"/>
                </a:lnTo>
                <a:lnTo>
                  <a:pt x="766" y="3097"/>
                </a:lnTo>
                <a:lnTo>
                  <a:pt x="748" y="3084"/>
                </a:lnTo>
                <a:lnTo>
                  <a:pt x="736" y="3075"/>
                </a:lnTo>
                <a:lnTo>
                  <a:pt x="718" y="3043"/>
                </a:lnTo>
                <a:lnTo>
                  <a:pt x="724" y="3025"/>
                </a:lnTo>
                <a:lnTo>
                  <a:pt x="744" y="3007"/>
                </a:lnTo>
                <a:lnTo>
                  <a:pt x="765" y="3018"/>
                </a:lnTo>
                <a:lnTo>
                  <a:pt x="786" y="3030"/>
                </a:lnTo>
                <a:lnTo>
                  <a:pt x="811" y="3030"/>
                </a:lnTo>
                <a:lnTo>
                  <a:pt x="826" y="3042"/>
                </a:lnTo>
                <a:lnTo>
                  <a:pt x="855" y="3030"/>
                </a:lnTo>
                <a:lnTo>
                  <a:pt x="880" y="3022"/>
                </a:lnTo>
                <a:lnTo>
                  <a:pt x="871" y="2989"/>
                </a:lnTo>
                <a:lnTo>
                  <a:pt x="891" y="2976"/>
                </a:lnTo>
                <a:lnTo>
                  <a:pt x="901" y="2962"/>
                </a:lnTo>
                <a:lnTo>
                  <a:pt x="930" y="2962"/>
                </a:lnTo>
                <a:lnTo>
                  <a:pt x="945" y="2959"/>
                </a:lnTo>
                <a:lnTo>
                  <a:pt x="934" y="2938"/>
                </a:lnTo>
                <a:lnTo>
                  <a:pt x="940" y="2916"/>
                </a:lnTo>
                <a:lnTo>
                  <a:pt x="924" y="2896"/>
                </a:lnTo>
                <a:lnTo>
                  <a:pt x="901" y="2887"/>
                </a:lnTo>
                <a:lnTo>
                  <a:pt x="877" y="2881"/>
                </a:lnTo>
                <a:lnTo>
                  <a:pt x="852" y="2866"/>
                </a:lnTo>
                <a:lnTo>
                  <a:pt x="826" y="2850"/>
                </a:lnTo>
                <a:lnTo>
                  <a:pt x="802" y="2823"/>
                </a:lnTo>
                <a:lnTo>
                  <a:pt x="781" y="2844"/>
                </a:lnTo>
                <a:lnTo>
                  <a:pt x="756" y="2815"/>
                </a:lnTo>
                <a:lnTo>
                  <a:pt x="739" y="2790"/>
                </a:lnTo>
                <a:lnTo>
                  <a:pt x="717" y="2782"/>
                </a:lnTo>
                <a:lnTo>
                  <a:pt x="694" y="2760"/>
                </a:lnTo>
                <a:lnTo>
                  <a:pt x="696" y="2740"/>
                </a:lnTo>
                <a:lnTo>
                  <a:pt x="681" y="2710"/>
                </a:lnTo>
                <a:lnTo>
                  <a:pt x="663" y="2724"/>
                </a:lnTo>
                <a:lnTo>
                  <a:pt x="646" y="2742"/>
                </a:lnTo>
                <a:lnTo>
                  <a:pt x="637" y="2731"/>
                </a:lnTo>
                <a:lnTo>
                  <a:pt x="625" y="2710"/>
                </a:lnTo>
                <a:lnTo>
                  <a:pt x="610" y="2722"/>
                </a:lnTo>
                <a:lnTo>
                  <a:pt x="592" y="2724"/>
                </a:lnTo>
                <a:lnTo>
                  <a:pt x="586" y="2698"/>
                </a:lnTo>
                <a:lnTo>
                  <a:pt x="558" y="2697"/>
                </a:lnTo>
                <a:lnTo>
                  <a:pt x="556" y="2671"/>
                </a:lnTo>
                <a:lnTo>
                  <a:pt x="531" y="2671"/>
                </a:lnTo>
                <a:lnTo>
                  <a:pt x="513" y="2655"/>
                </a:lnTo>
                <a:lnTo>
                  <a:pt x="490" y="2652"/>
                </a:lnTo>
                <a:lnTo>
                  <a:pt x="477" y="2646"/>
                </a:lnTo>
                <a:lnTo>
                  <a:pt x="457" y="2632"/>
                </a:lnTo>
                <a:lnTo>
                  <a:pt x="454" y="2604"/>
                </a:lnTo>
                <a:lnTo>
                  <a:pt x="433" y="2599"/>
                </a:lnTo>
                <a:lnTo>
                  <a:pt x="405" y="2596"/>
                </a:lnTo>
                <a:lnTo>
                  <a:pt x="396" y="2577"/>
                </a:lnTo>
                <a:lnTo>
                  <a:pt x="399" y="2553"/>
                </a:lnTo>
                <a:lnTo>
                  <a:pt x="393" y="2526"/>
                </a:lnTo>
                <a:lnTo>
                  <a:pt x="370" y="2524"/>
                </a:lnTo>
                <a:lnTo>
                  <a:pt x="351" y="2509"/>
                </a:lnTo>
                <a:lnTo>
                  <a:pt x="345" y="2487"/>
                </a:lnTo>
                <a:lnTo>
                  <a:pt x="345" y="2466"/>
                </a:lnTo>
                <a:lnTo>
                  <a:pt x="330" y="2458"/>
                </a:lnTo>
                <a:lnTo>
                  <a:pt x="304" y="2452"/>
                </a:lnTo>
                <a:lnTo>
                  <a:pt x="286" y="2436"/>
                </a:lnTo>
                <a:lnTo>
                  <a:pt x="264" y="2430"/>
                </a:lnTo>
                <a:lnTo>
                  <a:pt x="258" y="2415"/>
                </a:lnTo>
                <a:lnTo>
                  <a:pt x="231" y="2409"/>
                </a:lnTo>
                <a:lnTo>
                  <a:pt x="205" y="2388"/>
                </a:lnTo>
                <a:lnTo>
                  <a:pt x="193" y="2364"/>
                </a:lnTo>
                <a:lnTo>
                  <a:pt x="198" y="2344"/>
                </a:lnTo>
                <a:lnTo>
                  <a:pt x="219" y="2340"/>
                </a:lnTo>
                <a:lnTo>
                  <a:pt x="214" y="2320"/>
                </a:lnTo>
                <a:lnTo>
                  <a:pt x="217" y="2305"/>
                </a:lnTo>
                <a:lnTo>
                  <a:pt x="214" y="2292"/>
                </a:lnTo>
                <a:lnTo>
                  <a:pt x="219" y="2278"/>
                </a:lnTo>
                <a:lnTo>
                  <a:pt x="235" y="2275"/>
                </a:lnTo>
                <a:lnTo>
                  <a:pt x="250" y="2278"/>
                </a:lnTo>
                <a:lnTo>
                  <a:pt x="265" y="2289"/>
                </a:lnTo>
                <a:lnTo>
                  <a:pt x="283" y="2281"/>
                </a:lnTo>
                <a:lnTo>
                  <a:pt x="297" y="2266"/>
                </a:lnTo>
                <a:lnTo>
                  <a:pt x="306" y="2280"/>
                </a:lnTo>
                <a:lnTo>
                  <a:pt x="304" y="2298"/>
                </a:lnTo>
                <a:lnTo>
                  <a:pt x="319" y="2307"/>
                </a:lnTo>
                <a:lnTo>
                  <a:pt x="340" y="2295"/>
                </a:lnTo>
                <a:lnTo>
                  <a:pt x="363" y="2301"/>
                </a:lnTo>
                <a:lnTo>
                  <a:pt x="384" y="2301"/>
                </a:lnTo>
                <a:lnTo>
                  <a:pt x="388" y="2283"/>
                </a:lnTo>
                <a:lnTo>
                  <a:pt x="376" y="2272"/>
                </a:lnTo>
                <a:lnTo>
                  <a:pt x="373" y="2253"/>
                </a:lnTo>
                <a:lnTo>
                  <a:pt x="384" y="2235"/>
                </a:lnTo>
                <a:lnTo>
                  <a:pt x="396" y="2235"/>
                </a:lnTo>
                <a:lnTo>
                  <a:pt x="408" y="2232"/>
                </a:lnTo>
                <a:lnTo>
                  <a:pt x="406" y="2215"/>
                </a:lnTo>
                <a:lnTo>
                  <a:pt x="400" y="2194"/>
                </a:lnTo>
                <a:lnTo>
                  <a:pt x="381" y="2176"/>
                </a:lnTo>
                <a:lnTo>
                  <a:pt x="372" y="2152"/>
                </a:lnTo>
                <a:lnTo>
                  <a:pt x="348" y="2131"/>
                </a:lnTo>
                <a:lnTo>
                  <a:pt x="340" y="2107"/>
                </a:lnTo>
                <a:lnTo>
                  <a:pt x="318" y="2106"/>
                </a:lnTo>
                <a:lnTo>
                  <a:pt x="304" y="2079"/>
                </a:lnTo>
                <a:lnTo>
                  <a:pt x="283" y="2059"/>
                </a:lnTo>
                <a:lnTo>
                  <a:pt x="273" y="2032"/>
                </a:lnTo>
                <a:lnTo>
                  <a:pt x="256" y="2007"/>
                </a:lnTo>
                <a:lnTo>
                  <a:pt x="240" y="1990"/>
                </a:lnTo>
                <a:lnTo>
                  <a:pt x="226" y="1966"/>
                </a:lnTo>
                <a:lnTo>
                  <a:pt x="217" y="1950"/>
                </a:lnTo>
                <a:lnTo>
                  <a:pt x="210" y="1932"/>
                </a:lnTo>
                <a:lnTo>
                  <a:pt x="216" y="1909"/>
                </a:lnTo>
                <a:lnTo>
                  <a:pt x="240" y="1920"/>
                </a:lnTo>
                <a:lnTo>
                  <a:pt x="264" y="1923"/>
                </a:lnTo>
                <a:lnTo>
                  <a:pt x="283" y="1936"/>
                </a:lnTo>
                <a:lnTo>
                  <a:pt x="303" y="1953"/>
                </a:lnTo>
                <a:lnTo>
                  <a:pt x="328" y="1962"/>
                </a:lnTo>
                <a:lnTo>
                  <a:pt x="358" y="1963"/>
                </a:lnTo>
                <a:lnTo>
                  <a:pt x="390" y="1965"/>
                </a:lnTo>
                <a:lnTo>
                  <a:pt x="414" y="1962"/>
                </a:lnTo>
                <a:lnTo>
                  <a:pt x="436" y="1947"/>
                </a:lnTo>
                <a:lnTo>
                  <a:pt x="433" y="1929"/>
                </a:lnTo>
                <a:lnTo>
                  <a:pt x="459" y="1923"/>
                </a:lnTo>
                <a:lnTo>
                  <a:pt x="474" y="1906"/>
                </a:lnTo>
                <a:lnTo>
                  <a:pt x="471" y="1884"/>
                </a:lnTo>
                <a:lnTo>
                  <a:pt x="456" y="1873"/>
                </a:lnTo>
                <a:lnTo>
                  <a:pt x="448" y="1884"/>
                </a:lnTo>
                <a:lnTo>
                  <a:pt x="433" y="1887"/>
                </a:lnTo>
                <a:lnTo>
                  <a:pt x="420" y="1869"/>
                </a:lnTo>
                <a:lnTo>
                  <a:pt x="397" y="1857"/>
                </a:lnTo>
                <a:lnTo>
                  <a:pt x="382" y="1837"/>
                </a:lnTo>
                <a:lnTo>
                  <a:pt x="372" y="1816"/>
                </a:lnTo>
                <a:lnTo>
                  <a:pt x="376" y="1798"/>
                </a:lnTo>
                <a:lnTo>
                  <a:pt x="349" y="1813"/>
                </a:lnTo>
                <a:lnTo>
                  <a:pt x="339" y="1800"/>
                </a:lnTo>
                <a:lnTo>
                  <a:pt x="328" y="1776"/>
                </a:lnTo>
                <a:lnTo>
                  <a:pt x="301" y="1759"/>
                </a:lnTo>
                <a:lnTo>
                  <a:pt x="291" y="1740"/>
                </a:lnTo>
                <a:lnTo>
                  <a:pt x="298" y="1720"/>
                </a:lnTo>
                <a:lnTo>
                  <a:pt x="285" y="1708"/>
                </a:lnTo>
                <a:lnTo>
                  <a:pt x="282" y="1687"/>
                </a:lnTo>
                <a:lnTo>
                  <a:pt x="264" y="1689"/>
                </a:lnTo>
                <a:lnTo>
                  <a:pt x="249" y="1681"/>
                </a:lnTo>
                <a:lnTo>
                  <a:pt x="234" y="1698"/>
                </a:lnTo>
                <a:lnTo>
                  <a:pt x="216" y="1687"/>
                </a:lnTo>
                <a:lnTo>
                  <a:pt x="205" y="1666"/>
                </a:lnTo>
                <a:lnTo>
                  <a:pt x="186" y="1677"/>
                </a:lnTo>
                <a:lnTo>
                  <a:pt x="174" y="1663"/>
                </a:lnTo>
                <a:lnTo>
                  <a:pt x="160" y="1651"/>
                </a:lnTo>
                <a:lnTo>
                  <a:pt x="159" y="1632"/>
                </a:lnTo>
                <a:lnTo>
                  <a:pt x="153" y="1620"/>
                </a:lnTo>
                <a:lnTo>
                  <a:pt x="144" y="1603"/>
                </a:lnTo>
                <a:lnTo>
                  <a:pt x="136" y="1579"/>
                </a:lnTo>
                <a:lnTo>
                  <a:pt x="159" y="1567"/>
                </a:lnTo>
                <a:lnTo>
                  <a:pt x="174" y="1552"/>
                </a:lnTo>
                <a:lnTo>
                  <a:pt x="162" y="1519"/>
                </a:lnTo>
                <a:lnTo>
                  <a:pt x="165" y="1500"/>
                </a:lnTo>
                <a:lnTo>
                  <a:pt x="160" y="1480"/>
                </a:lnTo>
                <a:lnTo>
                  <a:pt x="168" y="1462"/>
                </a:lnTo>
                <a:lnTo>
                  <a:pt x="195" y="1462"/>
                </a:lnTo>
                <a:lnTo>
                  <a:pt x="202" y="1435"/>
                </a:lnTo>
                <a:lnTo>
                  <a:pt x="201" y="1411"/>
                </a:lnTo>
                <a:lnTo>
                  <a:pt x="219" y="1393"/>
                </a:lnTo>
                <a:lnTo>
                  <a:pt x="219" y="1377"/>
                </a:lnTo>
                <a:lnTo>
                  <a:pt x="250" y="1363"/>
                </a:lnTo>
                <a:lnTo>
                  <a:pt x="246" y="1342"/>
                </a:lnTo>
                <a:lnTo>
                  <a:pt x="265" y="1330"/>
                </a:lnTo>
                <a:lnTo>
                  <a:pt x="285" y="1302"/>
                </a:lnTo>
                <a:lnTo>
                  <a:pt x="280" y="1276"/>
                </a:lnTo>
                <a:lnTo>
                  <a:pt x="294" y="1270"/>
                </a:lnTo>
                <a:lnTo>
                  <a:pt x="292" y="1254"/>
                </a:lnTo>
                <a:lnTo>
                  <a:pt x="276" y="1231"/>
                </a:lnTo>
                <a:lnTo>
                  <a:pt x="289" y="1213"/>
                </a:lnTo>
                <a:lnTo>
                  <a:pt x="295" y="1198"/>
                </a:lnTo>
                <a:lnTo>
                  <a:pt x="321" y="1194"/>
                </a:lnTo>
                <a:lnTo>
                  <a:pt x="310" y="1174"/>
                </a:lnTo>
                <a:lnTo>
                  <a:pt x="325" y="1158"/>
                </a:lnTo>
                <a:lnTo>
                  <a:pt x="309" y="1138"/>
                </a:lnTo>
                <a:lnTo>
                  <a:pt x="279" y="1119"/>
                </a:lnTo>
                <a:lnTo>
                  <a:pt x="249" y="1120"/>
                </a:lnTo>
                <a:lnTo>
                  <a:pt x="228" y="1137"/>
                </a:lnTo>
                <a:lnTo>
                  <a:pt x="217" y="1123"/>
                </a:lnTo>
                <a:lnTo>
                  <a:pt x="202" y="1104"/>
                </a:lnTo>
                <a:lnTo>
                  <a:pt x="189" y="1119"/>
                </a:lnTo>
                <a:lnTo>
                  <a:pt x="169" y="1129"/>
                </a:lnTo>
                <a:lnTo>
                  <a:pt x="142" y="1140"/>
                </a:lnTo>
                <a:lnTo>
                  <a:pt x="124" y="1158"/>
                </a:lnTo>
                <a:lnTo>
                  <a:pt x="94" y="1167"/>
                </a:lnTo>
                <a:lnTo>
                  <a:pt x="148" y="1141"/>
                </a:lnTo>
                <a:lnTo>
                  <a:pt x="199" y="1110"/>
                </a:lnTo>
                <a:lnTo>
                  <a:pt x="180" y="1125"/>
                </a:lnTo>
                <a:lnTo>
                  <a:pt x="157" y="1137"/>
                </a:lnTo>
                <a:lnTo>
                  <a:pt x="141" y="1147"/>
                </a:lnTo>
                <a:lnTo>
                  <a:pt x="133" y="1152"/>
                </a:lnTo>
                <a:lnTo>
                  <a:pt x="114" y="1161"/>
                </a:lnTo>
                <a:lnTo>
                  <a:pt x="105" y="1162"/>
                </a:lnTo>
                <a:lnTo>
                  <a:pt x="91" y="1159"/>
                </a:lnTo>
                <a:lnTo>
                  <a:pt x="90" y="1153"/>
                </a:lnTo>
                <a:lnTo>
                  <a:pt x="87" y="1143"/>
                </a:lnTo>
                <a:lnTo>
                  <a:pt x="81" y="1129"/>
                </a:lnTo>
                <a:lnTo>
                  <a:pt x="76" y="1114"/>
                </a:lnTo>
                <a:lnTo>
                  <a:pt x="91" y="1110"/>
                </a:lnTo>
                <a:lnTo>
                  <a:pt x="109" y="1108"/>
                </a:lnTo>
                <a:lnTo>
                  <a:pt x="121" y="1113"/>
                </a:lnTo>
                <a:lnTo>
                  <a:pt x="142" y="1119"/>
                </a:lnTo>
                <a:lnTo>
                  <a:pt x="142" y="1108"/>
                </a:lnTo>
                <a:lnTo>
                  <a:pt x="162" y="1098"/>
                </a:lnTo>
                <a:lnTo>
                  <a:pt x="187" y="1092"/>
                </a:lnTo>
                <a:lnTo>
                  <a:pt x="184" y="1071"/>
                </a:lnTo>
                <a:lnTo>
                  <a:pt x="171" y="1053"/>
                </a:lnTo>
                <a:lnTo>
                  <a:pt x="151" y="1063"/>
                </a:lnTo>
                <a:lnTo>
                  <a:pt x="127" y="1057"/>
                </a:lnTo>
                <a:lnTo>
                  <a:pt x="147" y="1044"/>
                </a:lnTo>
                <a:lnTo>
                  <a:pt x="157" y="1026"/>
                </a:lnTo>
                <a:lnTo>
                  <a:pt x="159" y="1002"/>
                </a:lnTo>
                <a:lnTo>
                  <a:pt x="159" y="970"/>
                </a:lnTo>
                <a:lnTo>
                  <a:pt x="150" y="948"/>
                </a:lnTo>
                <a:lnTo>
                  <a:pt x="142" y="931"/>
                </a:lnTo>
                <a:lnTo>
                  <a:pt x="145" y="912"/>
                </a:lnTo>
                <a:lnTo>
                  <a:pt x="175" y="919"/>
                </a:lnTo>
                <a:lnTo>
                  <a:pt x="196" y="910"/>
                </a:lnTo>
                <a:lnTo>
                  <a:pt x="205" y="895"/>
                </a:lnTo>
                <a:lnTo>
                  <a:pt x="204" y="874"/>
                </a:lnTo>
                <a:lnTo>
                  <a:pt x="207" y="858"/>
                </a:lnTo>
                <a:lnTo>
                  <a:pt x="226" y="874"/>
                </a:lnTo>
                <a:lnTo>
                  <a:pt x="244" y="886"/>
                </a:lnTo>
                <a:lnTo>
                  <a:pt x="268" y="892"/>
                </a:lnTo>
                <a:lnTo>
                  <a:pt x="274" y="874"/>
                </a:lnTo>
                <a:lnTo>
                  <a:pt x="282" y="853"/>
                </a:lnTo>
                <a:lnTo>
                  <a:pt x="304" y="859"/>
                </a:lnTo>
                <a:lnTo>
                  <a:pt x="307" y="883"/>
                </a:lnTo>
                <a:lnTo>
                  <a:pt x="321" y="900"/>
                </a:lnTo>
                <a:lnTo>
                  <a:pt x="345" y="898"/>
                </a:lnTo>
                <a:lnTo>
                  <a:pt x="370" y="895"/>
                </a:lnTo>
                <a:lnTo>
                  <a:pt x="381" y="874"/>
                </a:lnTo>
                <a:lnTo>
                  <a:pt x="376" y="855"/>
                </a:lnTo>
                <a:lnTo>
                  <a:pt x="358" y="838"/>
                </a:lnTo>
                <a:lnTo>
                  <a:pt x="331" y="840"/>
                </a:lnTo>
                <a:lnTo>
                  <a:pt x="303" y="838"/>
                </a:lnTo>
                <a:lnTo>
                  <a:pt x="273" y="835"/>
                </a:lnTo>
                <a:lnTo>
                  <a:pt x="250" y="823"/>
                </a:lnTo>
                <a:lnTo>
                  <a:pt x="229" y="810"/>
                </a:lnTo>
                <a:lnTo>
                  <a:pt x="204" y="802"/>
                </a:lnTo>
                <a:lnTo>
                  <a:pt x="192" y="795"/>
                </a:lnTo>
                <a:lnTo>
                  <a:pt x="171" y="783"/>
                </a:lnTo>
                <a:lnTo>
                  <a:pt x="159" y="762"/>
                </a:lnTo>
                <a:lnTo>
                  <a:pt x="147" y="735"/>
                </a:lnTo>
                <a:lnTo>
                  <a:pt x="117" y="729"/>
                </a:lnTo>
                <a:lnTo>
                  <a:pt x="96" y="723"/>
                </a:lnTo>
                <a:lnTo>
                  <a:pt x="79" y="702"/>
                </a:lnTo>
                <a:lnTo>
                  <a:pt x="84" y="678"/>
                </a:lnTo>
                <a:lnTo>
                  <a:pt x="111" y="678"/>
                </a:lnTo>
                <a:lnTo>
                  <a:pt x="120" y="663"/>
                </a:lnTo>
                <a:lnTo>
                  <a:pt x="97" y="649"/>
                </a:lnTo>
                <a:lnTo>
                  <a:pt x="99" y="621"/>
                </a:lnTo>
                <a:lnTo>
                  <a:pt x="105" y="600"/>
                </a:lnTo>
                <a:lnTo>
                  <a:pt x="132" y="609"/>
                </a:lnTo>
                <a:lnTo>
                  <a:pt x="151" y="607"/>
                </a:lnTo>
                <a:lnTo>
                  <a:pt x="168" y="595"/>
                </a:lnTo>
                <a:lnTo>
                  <a:pt x="165" y="571"/>
                </a:lnTo>
                <a:lnTo>
                  <a:pt x="142" y="567"/>
                </a:lnTo>
                <a:lnTo>
                  <a:pt x="127" y="552"/>
                </a:lnTo>
                <a:lnTo>
                  <a:pt x="94" y="561"/>
                </a:lnTo>
                <a:lnTo>
                  <a:pt x="60" y="562"/>
                </a:lnTo>
                <a:lnTo>
                  <a:pt x="34" y="550"/>
                </a:lnTo>
                <a:lnTo>
                  <a:pt x="21" y="532"/>
                </a:lnTo>
                <a:lnTo>
                  <a:pt x="24" y="514"/>
                </a:lnTo>
                <a:lnTo>
                  <a:pt x="22" y="496"/>
                </a:lnTo>
                <a:lnTo>
                  <a:pt x="39" y="486"/>
                </a:lnTo>
                <a:lnTo>
                  <a:pt x="49" y="471"/>
                </a:lnTo>
                <a:lnTo>
                  <a:pt x="67" y="456"/>
                </a:lnTo>
                <a:lnTo>
                  <a:pt x="87" y="447"/>
                </a:lnTo>
                <a:lnTo>
                  <a:pt x="85" y="430"/>
                </a:lnTo>
                <a:lnTo>
                  <a:pt x="67" y="432"/>
                </a:lnTo>
                <a:lnTo>
                  <a:pt x="45" y="424"/>
                </a:lnTo>
                <a:lnTo>
                  <a:pt x="33" y="405"/>
                </a:lnTo>
                <a:lnTo>
                  <a:pt x="37" y="385"/>
                </a:lnTo>
                <a:lnTo>
                  <a:pt x="42" y="360"/>
                </a:lnTo>
                <a:lnTo>
                  <a:pt x="24" y="334"/>
                </a:lnTo>
                <a:lnTo>
                  <a:pt x="12" y="313"/>
                </a:lnTo>
                <a:lnTo>
                  <a:pt x="12" y="297"/>
                </a:lnTo>
                <a:lnTo>
                  <a:pt x="25" y="282"/>
                </a:lnTo>
                <a:lnTo>
                  <a:pt x="18" y="265"/>
                </a:lnTo>
                <a:lnTo>
                  <a:pt x="1" y="258"/>
                </a:lnTo>
                <a:lnTo>
                  <a:pt x="0" y="243"/>
                </a:lnTo>
                <a:lnTo>
                  <a:pt x="19" y="234"/>
                </a:lnTo>
                <a:lnTo>
                  <a:pt x="37" y="228"/>
                </a:lnTo>
                <a:lnTo>
                  <a:pt x="40" y="211"/>
                </a:lnTo>
                <a:lnTo>
                  <a:pt x="58" y="210"/>
                </a:lnTo>
                <a:lnTo>
                  <a:pt x="81" y="217"/>
                </a:lnTo>
                <a:lnTo>
                  <a:pt x="108" y="220"/>
                </a:lnTo>
                <a:lnTo>
                  <a:pt x="112" y="204"/>
                </a:lnTo>
                <a:lnTo>
                  <a:pt x="118" y="186"/>
                </a:lnTo>
                <a:lnTo>
                  <a:pt x="138" y="189"/>
                </a:lnTo>
                <a:lnTo>
                  <a:pt x="163" y="190"/>
                </a:lnTo>
                <a:lnTo>
                  <a:pt x="162" y="172"/>
                </a:lnTo>
                <a:lnTo>
                  <a:pt x="157" y="153"/>
                </a:lnTo>
                <a:lnTo>
                  <a:pt x="168" y="135"/>
                </a:lnTo>
                <a:lnTo>
                  <a:pt x="186" y="121"/>
                </a:lnTo>
                <a:lnTo>
                  <a:pt x="204" y="121"/>
                </a:lnTo>
                <a:lnTo>
                  <a:pt x="201" y="139"/>
                </a:lnTo>
                <a:lnTo>
                  <a:pt x="201" y="159"/>
                </a:lnTo>
                <a:lnTo>
                  <a:pt x="223" y="168"/>
                </a:lnTo>
                <a:lnTo>
                  <a:pt x="244" y="157"/>
                </a:lnTo>
                <a:lnTo>
                  <a:pt x="267" y="159"/>
                </a:lnTo>
                <a:lnTo>
                  <a:pt x="291" y="162"/>
                </a:lnTo>
                <a:lnTo>
                  <a:pt x="294" y="144"/>
                </a:lnTo>
                <a:lnTo>
                  <a:pt x="310" y="136"/>
                </a:lnTo>
                <a:lnTo>
                  <a:pt x="325" y="120"/>
                </a:lnTo>
                <a:lnTo>
                  <a:pt x="345" y="120"/>
                </a:lnTo>
                <a:lnTo>
                  <a:pt x="367" y="126"/>
                </a:lnTo>
                <a:lnTo>
                  <a:pt x="381" y="109"/>
                </a:lnTo>
                <a:lnTo>
                  <a:pt x="394" y="94"/>
                </a:lnTo>
                <a:lnTo>
                  <a:pt x="412" y="97"/>
                </a:lnTo>
                <a:lnTo>
                  <a:pt x="412" y="79"/>
                </a:lnTo>
                <a:lnTo>
                  <a:pt x="424" y="66"/>
                </a:lnTo>
                <a:lnTo>
                  <a:pt x="447" y="66"/>
                </a:lnTo>
                <a:lnTo>
                  <a:pt x="454" y="51"/>
                </a:lnTo>
                <a:lnTo>
                  <a:pt x="441" y="43"/>
                </a:lnTo>
                <a:lnTo>
                  <a:pt x="441" y="27"/>
                </a:lnTo>
                <a:lnTo>
                  <a:pt x="463" y="28"/>
                </a:lnTo>
                <a:lnTo>
                  <a:pt x="471" y="13"/>
                </a:lnTo>
                <a:lnTo>
                  <a:pt x="486" y="1"/>
                </a:lnTo>
                <a:lnTo>
                  <a:pt x="501" y="9"/>
                </a:lnTo>
                <a:lnTo>
                  <a:pt x="525" y="7"/>
                </a:lnTo>
                <a:lnTo>
                  <a:pt x="550" y="0"/>
                </a:lnTo>
                <a:lnTo>
                  <a:pt x="570" y="7"/>
                </a:lnTo>
                <a:lnTo>
                  <a:pt x="586" y="21"/>
                </a:lnTo>
                <a:lnTo>
                  <a:pt x="606" y="36"/>
                </a:lnTo>
                <a:lnTo>
                  <a:pt x="622" y="51"/>
                </a:lnTo>
                <a:lnTo>
                  <a:pt x="639" y="57"/>
                </a:lnTo>
                <a:lnTo>
                  <a:pt x="649" y="45"/>
                </a:lnTo>
                <a:lnTo>
                  <a:pt x="661" y="30"/>
                </a:lnTo>
                <a:lnTo>
                  <a:pt x="685" y="34"/>
                </a:lnTo>
                <a:lnTo>
                  <a:pt x="702" y="19"/>
                </a:lnTo>
                <a:lnTo>
                  <a:pt x="732" y="13"/>
                </a:lnTo>
                <a:lnTo>
                  <a:pt x="760" y="13"/>
                </a:lnTo>
                <a:lnTo>
                  <a:pt x="774" y="34"/>
                </a:lnTo>
                <a:lnTo>
                  <a:pt x="780" y="51"/>
                </a:lnTo>
                <a:lnTo>
                  <a:pt x="798" y="31"/>
                </a:lnTo>
                <a:lnTo>
                  <a:pt x="817" y="13"/>
                </a:lnTo>
                <a:lnTo>
                  <a:pt x="826" y="31"/>
                </a:lnTo>
                <a:lnTo>
                  <a:pt x="837" y="48"/>
                </a:lnTo>
                <a:lnTo>
                  <a:pt x="856" y="48"/>
                </a:lnTo>
                <a:lnTo>
                  <a:pt x="867" y="31"/>
                </a:lnTo>
                <a:lnTo>
                  <a:pt x="882" y="42"/>
                </a:lnTo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1778040"/>
            <a:ext cx="2575080" cy="1049760"/>
          </a:xfrm>
          <a:prstGeom prst="roundRect">
            <a:avLst>
              <a:gd name="adj" fmla="val 16667"/>
            </a:avLst>
          </a:prstGeom>
          <a:solidFill>
            <a:srgbClr val="333333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ffcc"/>
                </a:solidFill>
                <a:latin typeface="Century Gothic"/>
              </a:rPr>
              <a:t>Registered around</a:t>
            </a:r>
            <a:r>
              <a:rPr b="1" i="1" lang="sl-SI" sz="2000" spc="-1" strike="noStrike">
                <a:solidFill>
                  <a:srgbClr val="003300"/>
                </a:solidFill>
                <a:latin typeface="Century Gothic"/>
              </a:rPr>
              <a:t> </a:t>
            </a:r>
            <a:br>
              <a:rPr sz="2000"/>
            </a:br>
            <a:r>
              <a:rPr b="1" i="1" lang="sl-SI" sz="3600" spc="-1" strike="noStrike">
                <a:solidFill>
                  <a:srgbClr val="ff9900"/>
                </a:solidFill>
                <a:latin typeface="Century Gothic"/>
              </a:rPr>
              <a:t>120</a:t>
            </a:r>
            <a:r>
              <a:rPr b="1" i="1" lang="sl-SI" sz="2000" spc="-1" strike="noStrike">
                <a:solidFill>
                  <a:srgbClr val="ff9900"/>
                </a:solidFill>
                <a:latin typeface="Century Gothic"/>
              </a:rPr>
              <a:t> </a:t>
            </a:r>
            <a:r>
              <a:rPr b="1" i="1" lang="sl-SI" sz="2000" spc="-1" strike="noStrike">
                <a:solidFill>
                  <a:srgbClr val="ccffcc"/>
                </a:solidFill>
                <a:latin typeface="Century Gothic"/>
              </a:rPr>
              <a:t>obje</a:t>
            </a:r>
            <a:r>
              <a:rPr b="1" i="1" lang="en-US" sz="2000" spc="-1" strike="noStrike">
                <a:solidFill>
                  <a:srgbClr val="ccffcc"/>
                </a:solidFill>
                <a:latin typeface="Century Gothic"/>
              </a:rPr>
              <a:t>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75280" y="5029200"/>
            <a:ext cx="2482920" cy="1049760"/>
          </a:xfrm>
          <a:prstGeom prst="roundRect">
            <a:avLst>
              <a:gd name="adj" fmla="val 16667"/>
            </a:avLst>
          </a:prstGeom>
          <a:solidFill>
            <a:srgbClr val="333333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Century Gothic"/>
              </a:rPr>
              <a:t>Submitted around</a:t>
            </a:r>
            <a:r>
              <a:rPr b="1" i="1" lang="sl-SI" sz="2000" spc="-1" strike="noStrike">
                <a:solidFill>
                  <a:srgbClr val="003300"/>
                </a:solidFill>
                <a:latin typeface="Century Gothic"/>
              </a:rPr>
              <a:t> </a:t>
            </a:r>
            <a:r>
              <a:rPr b="1" i="1" lang="sl-SI" sz="3600" spc="-1" strike="noStrike">
                <a:solidFill>
                  <a:srgbClr val="66ff66"/>
                </a:solidFill>
                <a:latin typeface="Century Gothic"/>
              </a:rPr>
              <a:t>400</a:t>
            </a:r>
            <a:r>
              <a:rPr b="1" i="1" lang="sl-SI" sz="2000" spc="-1" strike="noStrike">
                <a:solidFill>
                  <a:srgbClr val="003300"/>
                </a:solidFill>
                <a:latin typeface="Century Gothic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Century Gothic"/>
              </a:rPr>
              <a:t>requ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150840"/>
            <a:ext cx="7010280" cy="1049400"/>
          </a:xfrm>
          <a:prstGeom prst="roundRect">
            <a:avLst>
              <a:gd name="adj" fmla="val 16667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Real Estate Cadas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Century Gothic"/>
              </a:rPr>
              <a:t>Registration of Small and Medium Enterpri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1371600"/>
            <a:ext cx="4572000" cy="5257800"/>
          </a:xfrm>
          <a:custGeom>
            <a:avLst/>
            <a:gdLst>
              <a:gd name="textAreaLeft" fmla="*/ 179280 w 4572000"/>
              <a:gd name="textAreaRight" fmla="*/ 4392720 w 4572000"/>
              <a:gd name="textAreaTop" fmla="*/ 179280 h 5257800"/>
              <a:gd name="textAreaBottom" fmla="*/ 5078520 h 5257800"/>
            </a:gdLst>
            <a:ahLst/>
            <a:rect l="textAreaLeft" t="textAreaTop" r="textAreaRight" b="textAreaBottom"/>
            <a:pathLst>
              <a:path w="21600" h="24840">
                <a:moveTo>
                  <a:pt x="2897" y="0"/>
                </a:moveTo>
                <a:arcTo wR="2897" hR="2897" stAng="16200000" swAng="-5400000"/>
                <a:lnTo>
                  <a:pt x="0" y="21943"/>
                </a:lnTo>
                <a:arcTo wR="2897" hR="2897" stAng="10800000" swAng="-5400000"/>
                <a:lnTo>
                  <a:pt x="18703" y="24840"/>
                </a:lnTo>
                <a:arcTo wR="2897" hR="2897" stAng="5400000" swAng="-5400000"/>
                <a:lnTo>
                  <a:pt x="21600" y="2897"/>
                </a:lnTo>
                <a:arcTo wR="2897" hR="2897" stAng="0" swAng="-5400000"/>
                <a:close/>
              </a:path>
            </a:pathLst>
          </a:custGeom>
          <a:solidFill>
            <a:srgbClr val="333333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Century Gothic"/>
              </a:rPr>
              <a:t>Submitted around</a:t>
            </a:r>
            <a:r>
              <a:rPr b="1" i="1" lang="sr-Latn-CS" sz="2400" spc="-1" strike="noStrike">
                <a:solidFill>
                  <a:srgbClr val="ffff00"/>
                </a:solidFill>
                <a:latin typeface="Century Gothic"/>
              </a:rPr>
              <a:t> </a:t>
            </a:r>
            <a:br>
              <a:rPr sz="2400"/>
            </a:br>
            <a:r>
              <a:rPr b="1" i="1" lang="sr-Latn-CS" sz="2400" spc="-1" strike="noStrike">
                <a:solidFill>
                  <a:srgbClr val="66ff33"/>
                </a:solidFill>
                <a:latin typeface="Century Gothic"/>
              </a:rPr>
              <a:t>400 </a:t>
            </a:r>
            <a:r>
              <a:rPr b="1" i="1" lang="en-US" sz="2400" spc="-1" strike="noStrike">
                <a:solidFill>
                  <a:srgbClr val="66ff33"/>
                </a:solidFill>
                <a:latin typeface="Century Gothic"/>
              </a:rPr>
              <a:t>requests</a:t>
            </a:r>
            <a:r>
              <a:rPr b="1" i="1" lang="sr-Latn-CS" sz="2400" spc="-1" strike="noStrike">
                <a:solidFill>
                  <a:srgbClr val="ffff00"/>
                </a:solidFill>
                <a:latin typeface="Century Gothic"/>
              </a:rPr>
              <a:t> </a:t>
            </a:r>
            <a:r>
              <a:rPr b="1" i="1" lang="en-US" sz="2400" spc="-1" strike="noStrike">
                <a:solidFill>
                  <a:srgbClr val="ffffcc"/>
                </a:solidFill>
                <a:latin typeface="Century Gothic"/>
              </a:rPr>
              <a:t>for registration in real estate cadastre</a:t>
            </a:r>
            <a:r>
              <a:rPr b="1" i="1" lang="en-US" sz="2400" spc="-1" strike="noStrike">
                <a:solidFill>
                  <a:srgbClr val="ff6600"/>
                </a:solidFill>
                <a:latin typeface="Century Gothic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Century Gothic"/>
              </a:rPr>
              <a:t>Registered around </a:t>
            </a:r>
            <a:r>
              <a:rPr b="1" i="1" lang="sr-Latn-CS" sz="2400" spc="-1" strike="noStrike">
                <a:solidFill>
                  <a:srgbClr val="ffffcc"/>
                </a:solidFill>
                <a:latin typeface="Century Gothic"/>
              </a:rPr>
              <a:t> </a:t>
            </a:r>
            <a:br>
              <a:rPr sz="2400"/>
            </a:br>
            <a:r>
              <a:rPr b="1" i="1" lang="sr-Latn-CS" sz="2400" spc="-1" strike="noStrike">
                <a:solidFill>
                  <a:srgbClr val="ff9900"/>
                </a:solidFill>
                <a:latin typeface="Century Gothic"/>
              </a:rPr>
              <a:t>120 obje</a:t>
            </a:r>
            <a:r>
              <a:rPr b="1" i="1" lang="en-US" sz="2400" spc="-1" strike="noStrike">
                <a:solidFill>
                  <a:srgbClr val="ff9900"/>
                </a:solidFill>
                <a:latin typeface="Century Gothic"/>
              </a:rPr>
              <a:t>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137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entury Gothic"/>
              </a:rPr>
              <a:t>The registration of around</a:t>
            </a:r>
            <a:r>
              <a:rPr b="1" i="1" lang="sr-Latn-CS" sz="2400" spc="-1" strike="noStrike">
                <a:solidFill>
                  <a:srgbClr val="66ff33"/>
                </a:solidFill>
                <a:latin typeface="Century Gothic"/>
              </a:rPr>
              <a:t> </a:t>
            </a:r>
            <a:br>
              <a:rPr sz="2400"/>
            </a:br>
            <a:r>
              <a:rPr b="1" i="1" lang="sr-Latn-CS" sz="2400" spc="-1" strike="noStrike">
                <a:solidFill>
                  <a:srgbClr val="66ff33"/>
                </a:solidFill>
                <a:latin typeface="Century Gothic"/>
              </a:rPr>
              <a:t>50 obje</a:t>
            </a:r>
            <a:r>
              <a:rPr b="1" i="1" lang="en-US" sz="2400" spc="-1" strike="noStrike">
                <a:solidFill>
                  <a:srgbClr val="66ff33"/>
                </a:solidFill>
                <a:latin typeface="Century Gothic"/>
              </a:rPr>
              <a:t>c</a:t>
            </a:r>
            <a:r>
              <a:rPr b="1" i="1" lang="sr-Latn-CS" sz="2400" spc="-1" strike="noStrike">
                <a:solidFill>
                  <a:srgbClr val="66ff33"/>
                </a:solidFill>
                <a:latin typeface="Century Gothic"/>
              </a:rPr>
              <a:t>t</a:t>
            </a:r>
            <a:r>
              <a:rPr b="1" i="1" lang="en-US" sz="2400" spc="-1" strike="noStrike">
                <a:solidFill>
                  <a:srgbClr val="66ff33"/>
                </a:solidFill>
                <a:latin typeface="Century Gothic"/>
              </a:rPr>
              <a:t>s</a:t>
            </a:r>
            <a:r>
              <a:rPr b="1" i="1" lang="sr-Latn-CS" sz="2400" spc="-1" strike="noStrike">
                <a:solidFill>
                  <a:srgbClr val="66ff33"/>
                </a:solidFill>
                <a:latin typeface="Century Gothic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Century Gothic"/>
              </a:rPr>
              <a:t>weekly 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Century Gothic"/>
              </a:rPr>
              <a:t>is planned in cooperation with </a:t>
            </a:r>
            <a:r>
              <a:rPr b="1" i="1" lang="en-US" sz="2400" spc="-1" strike="noStrike">
                <a:solidFill>
                  <a:srgbClr val="ff9900"/>
                </a:solidFill>
                <a:latin typeface="Century Gothic"/>
              </a:rPr>
              <a:t>local authorities</a:t>
            </a:r>
            <a:r>
              <a:rPr b="1" i="1" lang="en-US" sz="2400" spc="-1" strike="noStrike">
                <a:solidFill>
                  <a:srgbClr val="ffff00"/>
                </a:solidFill>
                <a:latin typeface="Century Gothic"/>
              </a:rPr>
              <a:t> for 3 months ahead</a:t>
            </a:r>
            <a:r>
              <a:rPr b="1" i="1" lang="en-US" sz="2200" spc="-1" strike="noStrike">
                <a:solidFill>
                  <a:srgbClr val="ffff00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r">
              <a:lnSpc>
                <a:spcPct val="9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Century Gothic"/>
              </a:rPr>
              <a:t>* Data from 01/10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29200" y="3467160"/>
            <a:ext cx="95400" cy="723960"/>
          </a:xfrm>
          <a:custGeom>
            <a:avLst/>
            <a:gdLst/>
            <a:ahLst/>
            <a:rect l="l" t="t" r="r" b="b"/>
            <a:pathLst>
              <a:path w="60" h="456">
                <a:moveTo>
                  <a:pt x="60" y="102"/>
                </a:moveTo>
                <a:lnTo>
                  <a:pt x="54" y="96"/>
                </a:lnTo>
                <a:lnTo>
                  <a:pt x="48" y="96"/>
                </a:lnTo>
                <a:lnTo>
                  <a:pt x="36" y="84"/>
                </a:lnTo>
                <a:lnTo>
                  <a:pt x="30" y="78"/>
                </a:lnTo>
                <a:lnTo>
                  <a:pt x="24" y="72"/>
                </a:lnTo>
                <a:lnTo>
                  <a:pt x="24" y="66"/>
                </a:lnTo>
                <a:lnTo>
                  <a:pt x="18" y="60"/>
                </a:lnTo>
                <a:lnTo>
                  <a:pt x="12" y="48"/>
                </a:lnTo>
                <a:lnTo>
                  <a:pt x="6" y="42"/>
                </a:lnTo>
                <a:lnTo>
                  <a:pt x="6" y="36"/>
                </a:lnTo>
                <a:lnTo>
                  <a:pt x="6" y="30"/>
                </a:lnTo>
                <a:lnTo>
                  <a:pt x="0" y="24"/>
                </a:lnTo>
                <a:lnTo>
                  <a:pt x="0" y="12"/>
                </a:lnTo>
                <a:lnTo>
                  <a:pt x="0" y="6"/>
                </a:lnTo>
                <a:lnTo>
                  <a:pt x="0" y="0"/>
                </a:lnTo>
                <a:lnTo>
                  <a:pt x="0" y="354"/>
                </a:lnTo>
                <a:lnTo>
                  <a:pt x="0" y="360"/>
                </a:lnTo>
                <a:lnTo>
                  <a:pt x="0" y="366"/>
                </a:lnTo>
                <a:lnTo>
                  <a:pt x="0" y="378"/>
                </a:lnTo>
                <a:lnTo>
                  <a:pt x="6" y="384"/>
                </a:lnTo>
                <a:lnTo>
                  <a:pt x="6" y="390"/>
                </a:lnTo>
                <a:lnTo>
                  <a:pt x="6" y="396"/>
                </a:lnTo>
                <a:lnTo>
                  <a:pt x="12" y="402"/>
                </a:lnTo>
                <a:lnTo>
                  <a:pt x="18" y="414"/>
                </a:lnTo>
                <a:lnTo>
                  <a:pt x="24" y="420"/>
                </a:lnTo>
                <a:lnTo>
                  <a:pt x="24" y="426"/>
                </a:lnTo>
                <a:lnTo>
                  <a:pt x="30" y="432"/>
                </a:lnTo>
                <a:lnTo>
                  <a:pt x="36" y="438"/>
                </a:lnTo>
                <a:lnTo>
                  <a:pt x="48" y="450"/>
                </a:lnTo>
                <a:lnTo>
                  <a:pt x="54" y="450"/>
                </a:lnTo>
                <a:lnTo>
                  <a:pt x="60" y="456"/>
                </a:lnTo>
                <a:lnTo>
                  <a:pt x="60" y="102"/>
                </a:lnTo>
                <a:close/>
              </a:path>
            </a:pathLst>
          </a:custGeom>
          <a:solidFill>
            <a:srgbClr val="b400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24600" y="3467160"/>
            <a:ext cx="1941480" cy="723960"/>
          </a:xfrm>
          <a:custGeom>
            <a:avLst/>
            <a:gdLst/>
            <a:ahLst/>
            <a:rect l="l" t="t" r="r" b="b"/>
            <a:pathLst>
              <a:path w="1223" h="456">
                <a:moveTo>
                  <a:pt x="1223" y="0"/>
                </a:moveTo>
                <a:lnTo>
                  <a:pt x="0" y="102"/>
                </a:lnTo>
                <a:lnTo>
                  <a:pt x="0" y="456"/>
                </a:lnTo>
                <a:lnTo>
                  <a:pt x="1223" y="354"/>
                </a:lnTo>
                <a:lnTo>
                  <a:pt x="1223" y="0"/>
                </a:lnTo>
                <a:close/>
              </a:path>
            </a:pathLst>
          </a:custGeom>
          <a:solidFill>
            <a:srgbClr val="b400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2971800"/>
            <a:ext cx="2036880" cy="685800"/>
          </a:xfrm>
          <a:custGeom>
            <a:avLst/>
            <a:gdLst/>
            <a:ahLst/>
            <a:rect l="l" t="t" r="r" b="b"/>
            <a:pathLst>
              <a:path w="1283" h="432">
                <a:moveTo>
                  <a:pt x="60" y="432"/>
                </a:moveTo>
                <a:lnTo>
                  <a:pt x="54" y="426"/>
                </a:lnTo>
                <a:lnTo>
                  <a:pt x="42" y="420"/>
                </a:lnTo>
                <a:lnTo>
                  <a:pt x="36" y="414"/>
                </a:lnTo>
                <a:lnTo>
                  <a:pt x="30" y="408"/>
                </a:lnTo>
                <a:lnTo>
                  <a:pt x="24" y="396"/>
                </a:lnTo>
                <a:lnTo>
                  <a:pt x="18" y="390"/>
                </a:lnTo>
                <a:lnTo>
                  <a:pt x="12" y="384"/>
                </a:lnTo>
                <a:lnTo>
                  <a:pt x="6" y="372"/>
                </a:lnTo>
                <a:lnTo>
                  <a:pt x="6" y="366"/>
                </a:lnTo>
                <a:lnTo>
                  <a:pt x="6" y="360"/>
                </a:lnTo>
                <a:lnTo>
                  <a:pt x="0" y="348"/>
                </a:lnTo>
                <a:lnTo>
                  <a:pt x="0" y="342"/>
                </a:lnTo>
                <a:lnTo>
                  <a:pt x="0" y="336"/>
                </a:lnTo>
                <a:lnTo>
                  <a:pt x="0" y="324"/>
                </a:lnTo>
                <a:lnTo>
                  <a:pt x="0" y="318"/>
                </a:lnTo>
                <a:lnTo>
                  <a:pt x="0" y="312"/>
                </a:lnTo>
                <a:lnTo>
                  <a:pt x="6" y="300"/>
                </a:lnTo>
                <a:lnTo>
                  <a:pt x="6" y="294"/>
                </a:lnTo>
                <a:lnTo>
                  <a:pt x="6" y="288"/>
                </a:lnTo>
                <a:lnTo>
                  <a:pt x="12" y="282"/>
                </a:lnTo>
                <a:lnTo>
                  <a:pt x="18" y="276"/>
                </a:lnTo>
                <a:lnTo>
                  <a:pt x="24" y="270"/>
                </a:lnTo>
                <a:lnTo>
                  <a:pt x="30" y="258"/>
                </a:lnTo>
                <a:lnTo>
                  <a:pt x="36" y="252"/>
                </a:lnTo>
                <a:lnTo>
                  <a:pt x="42" y="246"/>
                </a:lnTo>
                <a:lnTo>
                  <a:pt x="54" y="234"/>
                </a:lnTo>
                <a:lnTo>
                  <a:pt x="60" y="228"/>
                </a:lnTo>
                <a:lnTo>
                  <a:pt x="66" y="222"/>
                </a:lnTo>
                <a:lnTo>
                  <a:pt x="84" y="210"/>
                </a:lnTo>
                <a:lnTo>
                  <a:pt x="90" y="204"/>
                </a:lnTo>
                <a:lnTo>
                  <a:pt x="102" y="204"/>
                </a:lnTo>
                <a:lnTo>
                  <a:pt x="120" y="192"/>
                </a:lnTo>
                <a:lnTo>
                  <a:pt x="126" y="186"/>
                </a:lnTo>
                <a:lnTo>
                  <a:pt x="138" y="180"/>
                </a:lnTo>
                <a:lnTo>
                  <a:pt x="162" y="168"/>
                </a:lnTo>
                <a:lnTo>
                  <a:pt x="168" y="162"/>
                </a:lnTo>
                <a:lnTo>
                  <a:pt x="180" y="162"/>
                </a:lnTo>
                <a:lnTo>
                  <a:pt x="204" y="150"/>
                </a:lnTo>
                <a:lnTo>
                  <a:pt x="216" y="144"/>
                </a:lnTo>
                <a:lnTo>
                  <a:pt x="234" y="138"/>
                </a:lnTo>
                <a:lnTo>
                  <a:pt x="258" y="132"/>
                </a:lnTo>
                <a:lnTo>
                  <a:pt x="270" y="126"/>
                </a:lnTo>
                <a:lnTo>
                  <a:pt x="288" y="120"/>
                </a:lnTo>
                <a:lnTo>
                  <a:pt x="312" y="114"/>
                </a:lnTo>
                <a:lnTo>
                  <a:pt x="330" y="108"/>
                </a:lnTo>
                <a:lnTo>
                  <a:pt x="342" y="102"/>
                </a:lnTo>
                <a:lnTo>
                  <a:pt x="377" y="96"/>
                </a:lnTo>
                <a:lnTo>
                  <a:pt x="389" y="90"/>
                </a:lnTo>
                <a:lnTo>
                  <a:pt x="407" y="90"/>
                </a:lnTo>
                <a:lnTo>
                  <a:pt x="443" y="78"/>
                </a:lnTo>
                <a:lnTo>
                  <a:pt x="455" y="78"/>
                </a:lnTo>
                <a:lnTo>
                  <a:pt x="473" y="72"/>
                </a:lnTo>
                <a:lnTo>
                  <a:pt x="509" y="66"/>
                </a:lnTo>
                <a:lnTo>
                  <a:pt x="527" y="60"/>
                </a:lnTo>
                <a:lnTo>
                  <a:pt x="545" y="60"/>
                </a:lnTo>
                <a:lnTo>
                  <a:pt x="581" y="54"/>
                </a:lnTo>
                <a:lnTo>
                  <a:pt x="605" y="48"/>
                </a:lnTo>
                <a:lnTo>
                  <a:pt x="623" y="48"/>
                </a:lnTo>
                <a:lnTo>
                  <a:pt x="659" y="42"/>
                </a:lnTo>
                <a:lnTo>
                  <a:pt x="683" y="36"/>
                </a:lnTo>
                <a:lnTo>
                  <a:pt x="701" y="36"/>
                </a:lnTo>
                <a:lnTo>
                  <a:pt x="743" y="30"/>
                </a:lnTo>
                <a:lnTo>
                  <a:pt x="761" y="30"/>
                </a:lnTo>
                <a:lnTo>
                  <a:pt x="779" y="24"/>
                </a:lnTo>
                <a:lnTo>
                  <a:pt x="821" y="18"/>
                </a:lnTo>
                <a:lnTo>
                  <a:pt x="845" y="18"/>
                </a:lnTo>
                <a:lnTo>
                  <a:pt x="863" y="18"/>
                </a:lnTo>
                <a:lnTo>
                  <a:pt x="911" y="12"/>
                </a:lnTo>
                <a:lnTo>
                  <a:pt x="929" y="12"/>
                </a:lnTo>
                <a:lnTo>
                  <a:pt x="953" y="12"/>
                </a:lnTo>
                <a:lnTo>
                  <a:pt x="995" y="6"/>
                </a:lnTo>
                <a:lnTo>
                  <a:pt x="1019" y="6"/>
                </a:lnTo>
                <a:lnTo>
                  <a:pt x="1037" y="6"/>
                </a:lnTo>
                <a:lnTo>
                  <a:pt x="1085" y="0"/>
                </a:lnTo>
                <a:lnTo>
                  <a:pt x="1103" y="0"/>
                </a:lnTo>
                <a:lnTo>
                  <a:pt x="1127" y="0"/>
                </a:lnTo>
                <a:lnTo>
                  <a:pt x="1175" y="0"/>
                </a:lnTo>
                <a:lnTo>
                  <a:pt x="1193" y="0"/>
                </a:lnTo>
                <a:lnTo>
                  <a:pt x="1217" y="0"/>
                </a:lnTo>
                <a:lnTo>
                  <a:pt x="1265" y="0"/>
                </a:lnTo>
                <a:lnTo>
                  <a:pt x="1283" y="0"/>
                </a:lnTo>
                <a:lnTo>
                  <a:pt x="1283" y="330"/>
                </a:lnTo>
                <a:lnTo>
                  <a:pt x="60" y="432"/>
                </a:lnTo>
                <a:close/>
              </a:path>
            </a:pathLst>
          </a:custGeom>
          <a:solidFill>
            <a:srgbClr val="ff66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79960" y="3657600"/>
            <a:ext cx="3987720" cy="1095480"/>
          </a:xfrm>
          <a:custGeom>
            <a:avLst/>
            <a:gdLst/>
            <a:ahLst/>
            <a:rect l="l" t="t" r="r" b="b"/>
            <a:pathLst>
              <a:path w="2512" h="690">
                <a:moveTo>
                  <a:pt x="2512" y="0"/>
                </a:moveTo>
                <a:lnTo>
                  <a:pt x="2512" y="6"/>
                </a:lnTo>
                <a:lnTo>
                  <a:pt x="2506" y="18"/>
                </a:lnTo>
                <a:lnTo>
                  <a:pt x="2506" y="24"/>
                </a:lnTo>
                <a:lnTo>
                  <a:pt x="2506" y="30"/>
                </a:lnTo>
                <a:lnTo>
                  <a:pt x="2500" y="42"/>
                </a:lnTo>
                <a:lnTo>
                  <a:pt x="2500" y="48"/>
                </a:lnTo>
                <a:lnTo>
                  <a:pt x="2494" y="54"/>
                </a:lnTo>
                <a:lnTo>
                  <a:pt x="2488" y="66"/>
                </a:lnTo>
                <a:lnTo>
                  <a:pt x="2482" y="72"/>
                </a:lnTo>
                <a:lnTo>
                  <a:pt x="2476" y="78"/>
                </a:lnTo>
                <a:lnTo>
                  <a:pt x="2470" y="84"/>
                </a:lnTo>
                <a:lnTo>
                  <a:pt x="2458" y="96"/>
                </a:lnTo>
                <a:lnTo>
                  <a:pt x="2452" y="96"/>
                </a:lnTo>
                <a:lnTo>
                  <a:pt x="2446" y="102"/>
                </a:lnTo>
                <a:lnTo>
                  <a:pt x="2434" y="114"/>
                </a:lnTo>
                <a:lnTo>
                  <a:pt x="2428" y="120"/>
                </a:lnTo>
                <a:lnTo>
                  <a:pt x="2416" y="126"/>
                </a:lnTo>
                <a:lnTo>
                  <a:pt x="2398" y="138"/>
                </a:lnTo>
                <a:lnTo>
                  <a:pt x="2392" y="144"/>
                </a:lnTo>
                <a:lnTo>
                  <a:pt x="2380" y="150"/>
                </a:lnTo>
                <a:lnTo>
                  <a:pt x="2362" y="156"/>
                </a:lnTo>
                <a:lnTo>
                  <a:pt x="2350" y="162"/>
                </a:lnTo>
                <a:lnTo>
                  <a:pt x="2338" y="168"/>
                </a:lnTo>
                <a:lnTo>
                  <a:pt x="2314" y="180"/>
                </a:lnTo>
                <a:lnTo>
                  <a:pt x="2302" y="180"/>
                </a:lnTo>
                <a:lnTo>
                  <a:pt x="2290" y="186"/>
                </a:lnTo>
                <a:lnTo>
                  <a:pt x="2266" y="198"/>
                </a:lnTo>
                <a:lnTo>
                  <a:pt x="2254" y="204"/>
                </a:lnTo>
                <a:lnTo>
                  <a:pt x="2236" y="204"/>
                </a:lnTo>
                <a:lnTo>
                  <a:pt x="2212" y="216"/>
                </a:lnTo>
                <a:lnTo>
                  <a:pt x="2194" y="222"/>
                </a:lnTo>
                <a:lnTo>
                  <a:pt x="2182" y="222"/>
                </a:lnTo>
                <a:lnTo>
                  <a:pt x="2164" y="228"/>
                </a:lnTo>
                <a:lnTo>
                  <a:pt x="2134" y="234"/>
                </a:lnTo>
                <a:lnTo>
                  <a:pt x="2116" y="240"/>
                </a:lnTo>
                <a:lnTo>
                  <a:pt x="2104" y="246"/>
                </a:lnTo>
                <a:lnTo>
                  <a:pt x="2068" y="252"/>
                </a:lnTo>
                <a:lnTo>
                  <a:pt x="2050" y="258"/>
                </a:lnTo>
                <a:lnTo>
                  <a:pt x="2032" y="258"/>
                </a:lnTo>
                <a:lnTo>
                  <a:pt x="1996" y="270"/>
                </a:lnTo>
                <a:lnTo>
                  <a:pt x="1978" y="270"/>
                </a:lnTo>
                <a:lnTo>
                  <a:pt x="1960" y="276"/>
                </a:lnTo>
                <a:lnTo>
                  <a:pt x="1924" y="282"/>
                </a:lnTo>
                <a:lnTo>
                  <a:pt x="1906" y="282"/>
                </a:lnTo>
                <a:lnTo>
                  <a:pt x="1888" y="288"/>
                </a:lnTo>
                <a:lnTo>
                  <a:pt x="1846" y="294"/>
                </a:lnTo>
                <a:lnTo>
                  <a:pt x="1828" y="294"/>
                </a:lnTo>
                <a:lnTo>
                  <a:pt x="1810" y="300"/>
                </a:lnTo>
                <a:lnTo>
                  <a:pt x="1768" y="306"/>
                </a:lnTo>
                <a:lnTo>
                  <a:pt x="1744" y="306"/>
                </a:lnTo>
                <a:lnTo>
                  <a:pt x="1726" y="306"/>
                </a:lnTo>
                <a:lnTo>
                  <a:pt x="1708" y="312"/>
                </a:lnTo>
                <a:lnTo>
                  <a:pt x="1666" y="312"/>
                </a:lnTo>
                <a:lnTo>
                  <a:pt x="1642" y="318"/>
                </a:lnTo>
                <a:lnTo>
                  <a:pt x="1624" y="318"/>
                </a:lnTo>
                <a:lnTo>
                  <a:pt x="1577" y="324"/>
                </a:lnTo>
                <a:lnTo>
                  <a:pt x="1559" y="324"/>
                </a:lnTo>
                <a:lnTo>
                  <a:pt x="1535" y="324"/>
                </a:lnTo>
                <a:lnTo>
                  <a:pt x="1493" y="330"/>
                </a:lnTo>
                <a:lnTo>
                  <a:pt x="1469" y="330"/>
                </a:lnTo>
                <a:lnTo>
                  <a:pt x="1445" y="330"/>
                </a:lnTo>
                <a:lnTo>
                  <a:pt x="1403" y="330"/>
                </a:lnTo>
                <a:lnTo>
                  <a:pt x="1379" y="330"/>
                </a:lnTo>
                <a:lnTo>
                  <a:pt x="1361" y="330"/>
                </a:lnTo>
                <a:lnTo>
                  <a:pt x="1313" y="336"/>
                </a:lnTo>
                <a:lnTo>
                  <a:pt x="1289" y="336"/>
                </a:lnTo>
                <a:lnTo>
                  <a:pt x="1271" y="336"/>
                </a:lnTo>
                <a:lnTo>
                  <a:pt x="1223" y="336"/>
                </a:lnTo>
                <a:lnTo>
                  <a:pt x="1205" y="336"/>
                </a:lnTo>
                <a:lnTo>
                  <a:pt x="1181" y="336"/>
                </a:lnTo>
                <a:lnTo>
                  <a:pt x="1133" y="336"/>
                </a:lnTo>
                <a:lnTo>
                  <a:pt x="1115" y="336"/>
                </a:lnTo>
                <a:lnTo>
                  <a:pt x="1091" y="330"/>
                </a:lnTo>
                <a:lnTo>
                  <a:pt x="1067" y="330"/>
                </a:lnTo>
                <a:lnTo>
                  <a:pt x="1025" y="330"/>
                </a:lnTo>
                <a:lnTo>
                  <a:pt x="1001" y="330"/>
                </a:lnTo>
                <a:lnTo>
                  <a:pt x="977" y="330"/>
                </a:lnTo>
                <a:lnTo>
                  <a:pt x="935" y="324"/>
                </a:lnTo>
                <a:lnTo>
                  <a:pt x="911" y="324"/>
                </a:lnTo>
                <a:lnTo>
                  <a:pt x="893" y="324"/>
                </a:lnTo>
                <a:lnTo>
                  <a:pt x="851" y="318"/>
                </a:lnTo>
                <a:lnTo>
                  <a:pt x="827" y="318"/>
                </a:lnTo>
                <a:lnTo>
                  <a:pt x="803" y="318"/>
                </a:lnTo>
                <a:lnTo>
                  <a:pt x="761" y="312"/>
                </a:lnTo>
                <a:lnTo>
                  <a:pt x="743" y="312"/>
                </a:lnTo>
                <a:lnTo>
                  <a:pt x="719" y="306"/>
                </a:lnTo>
                <a:lnTo>
                  <a:pt x="683" y="306"/>
                </a:lnTo>
                <a:lnTo>
                  <a:pt x="659" y="300"/>
                </a:lnTo>
                <a:lnTo>
                  <a:pt x="641" y="300"/>
                </a:lnTo>
                <a:lnTo>
                  <a:pt x="599" y="294"/>
                </a:lnTo>
                <a:lnTo>
                  <a:pt x="581" y="288"/>
                </a:lnTo>
                <a:lnTo>
                  <a:pt x="563" y="288"/>
                </a:lnTo>
                <a:lnTo>
                  <a:pt x="545" y="282"/>
                </a:lnTo>
                <a:lnTo>
                  <a:pt x="503" y="276"/>
                </a:lnTo>
                <a:lnTo>
                  <a:pt x="485" y="276"/>
                </a:lnTo>
                <a:lnTo>
                  <a:pt x="467" y="270"/>
                </a:lnTo>
                <a:lnTo>
                  <a:pt x="431" y="264"/>
                </a:lnTo>
                <a:lnTo>
                  <a:pt x="413" y="258"/>
                </a:lnTo>
                <a:lnTo>
                  <a:pt x="395" y="258"/>
                </a:lnTo>
                <a:lnTo>
                  <a:pt x="365" y="246"/>
                </a:lnTo>
                <a:lnTo>
                  <a:pt x="347" y="246"/>
                </a:lnTo>
                <a:lnTo>
                  <a:pt x="329" y="240"/>
                </a:lnTo>
                <a:lnTo>
                  <a:pt x="300" y="234"/>
                </a:lnTo>
                <a:lnTo>
                  <a:pt x="282" y="228"/>
                </a:lnTo>
                <a:lnTo>
                  <a:pt x="270" y="222"/>
                </a:lnTo>
                <a:lnTo>
                  <a:pt x="240" y="216"/>
                </a:lnTo>
                <a:lnTo>
                  <a:pt x="228" y="210"/>
                </a:lnTo>
                <a:lnTo>
                  <a:pt x="210" y="204"/>
                </a:lnTo>
                <a:lnTo>
                  <a:pt x="186" y="198"/>
                </a:lnTo>
                <a:lnTo>
                  <a:pt x="174" y="192"/>
                </a:lnTo>
                <a:lnTo>
                  <a:pt x="156" y="186"/>
                </a:lnTo>
                <a:lnTo>
                  <a:pt x="132" y="180"/>
                </a:lnTo>
                <a:lnTo>
                  <a:pt x="120" y="174"/>
                </a:lnTo>
                <a:lnTo>
                  <a:pt x="108" y="168"/>
                </a:lnTo>
                <a:lnTo>
                  <a:pt x="102" y="162"/>
                </a:lnTo>
                <a:lnTo>
                  <a:pt x="78" y="150"/>
                </a:lnTo>
                <a:lnTo>
                  <a:pt x="66" y="150"/>
                </a:lnTo>
                <a:lnTo>
                  <a:pt x="60" y="144"/>
                </a:lnTo>
                <a:lnTo>
                  <a:pt x="42" y="132"/>
                </a:lnTo>
                <a:lnTo>
                  <a:pt x="30" y="126"/>
                </a:lnTo>
                <a:lnTo>
                  <a:pt x="24" y="120"/>
                </a:lnTo>
                <a:lnTo>
                  <a:pt x="6" y="108"/>
                </a:lnTo>
                <a:lnTo>
                  <a:pt x="0" y="102"/>
                </a:lnTo>
                <a:lnTo>
                  <a:pt x="0" y="456"/>
                </a:lnTo>
                <a:lnTo>
                  <a:pt x="6" y="462"/>
                </a:lnTo>
                <a:lnTo>
                  <a:pt x="24" y="474"/>
                </a:lnTo>
                <a:lnTo>
                  <a:pt x="30" y="480"/>
                </a:lnTo>
                <a:lnTo>
                  <a:pt x="42" y="486"/>
                </a:lnTo>
                <a:lnTo>
                  <a:pt x="60" y="498"/>
                </a:lnTo>
                <a:lnTo>
                  <a:pt x="66" y="504"/>
                </a:lnTo>
                <a:lnTo>
                  <a:pt x="78" y="504"/>
                </a:lnTo>
                <a:lnTo>
                  <a:pt x="102" y="516"/>
                </a:lnTo>
                <a:lnTo>
                  <a:pt x="108" y="522"/>
                </a:lnTo>
                <a:lnTo>
                  <a:pt x="120" y="528"/>
                </a:lnTo>
                <a:lnTo>
                  <a:pt x="132" y="534"/>
                </a:lnTo>
                <a:lnTo>
                  <a:pt x="156" y="540"/>
                </a:lnTo>
                <a:lnTo>
                  <a:pt x="174" y="546"/>
                </a:lnTo>
                <a:lnTo>
                  <a:pt x="186" y="552"/>
                </a:lnTo>
                <a:lnTo>
                  <a:pt x="210" y="558"/>
                </a:lnTo>
                <a:lnTo>
                  <a:pt x="228" y="564"/>
                </a:lnTo>
                <a:lnTo>
                  <a:pt x="240" y="570"/>
                </a:lnTo>
                <a:lnTo>
                  <a:pt x="270" y="576"/>
                </a:lnTo>
                <a:lnTo>
                  <a:pt x="282" y="582"/>
                </a:lnTo>
                <a:lnTo>
                  <a:pt x="300" y="588"/>
                </a:lnTo>
                <a:lnTo>
                  <a:pt x="329" y="594"/>
                </a:lnTo>
                <a:lnTo>
                  <a:pt x="347" y="600"/>
                </a:lnTo>
                <a:lnTo>
                  <a:pt x="365" y="600"/>
                </a:lnTo>
                <a:lnTo>
                  <a:pt x="395" y="612"/>
                </a:lnTo>
                <a:lnTo>
                  <a:pt x="413" y="612"/>
                </a:lnTo>
                <a:lnTo>
                  <a:pt x="431" y="618"/>
                </a:lnTo>
                <a:lnTo>
                  <a:pt x="467" y="624"/>
                </a:lnTo>
                <a:lnTo>
                  <a:pt x="485" y="630"/>
                </a:lnTo>
                <a:lnTo>
                  <a:pt x="503" y="630"/>
                </a:lnTo>
                <a:lnTo>
                  <a:pt x="545" y="636"/>
                </a:lnTo>
                <a:lnTo>
                  <a:pt x="563" y="642"/>
                </a:lnTo>
                <a:lnTo>
                  <a:pt x="581" y="642"/>
                </a:lnTo>
                <a:lnTo>
                  <a:pt x="599" y="648"/>
                </a:lnTo>
                <a:lnTo>
                  <a:pt x="641" y="654"/>
                </a:lnTo>
                <a:lnTo>
                  <a:pt x="659" y="654"/>
                </a:lnTo>
                <a:lnTo>
                  <a:pt x="683" y="660"/>
                </a:lnTo>
                <a:lnTo>
                  <a:pt x="719" y="660"/>
                </a:lnTo>
                <a:lnTo>
                  <a:pt x="743" y="666"/>
                </a:lnTo>
                <a:lnTo>
                  <a:pt x="761" y="666"/>
                </a:lnTo>
                <a:lnTo>
                  <a:pt x="803" y="672"/>
                </a:lnTo>
                <a:lnTo>
                  <a:pt x="827" y="672"/>
                </a:lnTo>
                <a:lnTo>
                  <a:pt x="851" y="672"/>
                </a:lnTo>
                <a:lnTo>
                  <a:pt x="893" y="678"/>
                </a:lnTo>
                <a:lnTo>
                  <a:pt x="911" y="678"/>
                </a:lnTo>
                <a:lnTo>
                  <a:pt x="935" y="678"/>
                </a:lnTo>
                <a:lnTo>
                  <a:pt x="977" y="684"/>
                </a:lnTo>
                <a:lnTo>
                  <a:pt x="1001" y="684"/>
                </a:lnTo>
                <a:lnTo>
                  <a:pt x="1025" y="684"/>
                </a:lnTo>
                <a:lnTo>
                  <a:pt x="1067" y="684"/>
                </a:lnTo>
                <a:lnTo>
                  <a:pt x="1091" y="684"/>
                </a:lnTo>
                <a:lnTo>
                  <a:pt x="1115" y="690"/>
                </a:lnTo>
                <a:lnTo>
                  <a:pt x="1133" y="690"/>
                </a:lnTo>
                <a:lnTo>
                  <a:pt x="1181" y="690"/>
                </a:lnTo>
                <a:lnTo>
                  <a:pt x="1205" y="690"/>
                </a:lnTo>
                <a:lnTo>
                  <a:pt x="1223" y="690"/>
                </a:lnTo>
                <a:lnTo>
                  <a:pt x="1271" y="690"/>
                </a:lnTo>
                <a:lnTo>
                  <a:pt x="1289" y="690"/>
                </a:lnTo>
                <a:lnTo>
                  <a:pt x="1313" y="690"/>
                </a:lnTo>
                <a:lnTo>
                  <a:pt x="1361" y="684"/>
                </a:lnTo>
                <a:lnTo>
                  <a:pt x="1379" y="684"/>
                </a:lnTo>
                <a:lnTo>
                  <a:pt x="1403" y="684"/>
                </a:lnTo>
                <a:lnTo>
                  <a:pt x="1445" y="684"/>
                </a:lnTo>
                <a:lnTo>
                  <a:pt x="1469" y="684"/>
                </a:lnTo>
                <a:lnTo>
                  <a:pt x="1493" y="684"/>
                </a:lnTo>
                <a:lnTo>
                  <a:pt x="1535" y="678"/>
                </a:lnTo>
                <a:lnTo>
                  <a:pt x="1559" y="678"/>
                </a:lnTo>
                <a:lnTo>
                  <a:pt x="1577" y="678"/>
                </a:lnTo>
                <a:lnTo>
                  <a:pt x="1624" y="672"/>
                </a:lnTo>
                <a:lnTo>
                  <a:pt x="1642" y="672"/>
                </a:lnTo>
                <a:lnTo>
                  <a:pt x="1666" y="666"/>
                </a:lnTo>
                <a:lnTo>
                  <a:pt x="1708" y="666"/>
                </a:lnTo>
                <a:lnTo>
                  <a:pt x="1726" y="660"/>
                </a:lnTo>
                <a:lnTo>
                  <a:pt x="1744" y="660"/>
                </a:lnTo>
                <a:lnTo>
                  <a:pt x="1768" y="660"/>
                </a:lnTo>
                <a:lnTo>
                  <a:pt x="1810" y="654"/>
                </a:lnTo>
                <a:lnTo>
                  <a:pt x="1828" y="648"/>
                </a:lnTo>
                <a:lnTo>
                  <a:pt x="1846" y="648"/>
                </a:lnTo>
                <a:lnTo>
                  <a:pt x="1888" y="642"/>
                </a:lnTo>
                <a:lnTo>
                  <a:pt x="1906" y="636"/>
                </a:lnTo>
                <a:lnTo>
                  <a:pt x="1924" y="636"/>
                </a:lnTo>
                <a:lnTo>
                  <a:pt x="1960" y="630"/>
                </a:lnTo>
                <a:lnTo>
                  <a:pt x="1978" y="624"/>
                </a:lnTo>
                <a:lnTo>
                  <a:pt x="1996" y="624"/>
                </a:lnTo>
                <a:lnTo>
                  <a:pt x="2032" y="612"/>
                </a:lnTo>
                <a:lnTo>
                  <a:pt x="2050" y="612"/>
                </a:lnTo>
                <a:lnTo>
                  <a:pt x="2068" y="606"/>
                </a:lnTo>
                <a:lnTo>
                  <a:pt x="2104" y="600"/>
                </a:lnTo>
                <a:lnTo>
                  <a:pt x="2116" y="594"/>
                </a:lnTo>
                <a:lnTo>
                  <a:pt x="2134" y="588"/>
                </a:lnTo>
                <a:lnTo>
                  <a:pt x="2164" y="582"/>
                </a:lnTo>
                <a:lnTo>
                  <a:pt x="2182" y="576"/>
                </a:lnTo>
                <a:lnTo>
                  <a:pt x="2194" y="576"/>
                </a:lnTo>
                <a:lnTo>
                  <a:pt x="2212" y="570"/>
                </a:lnTo>
                <a:lnTo>
                  <a:pt x="2236" y="558"/>
                </a:lnTo>
                <a:lnTo>
                  <a:pt x="2254" y="558"/>
                </a:lnTo>
                <a:lnTo>
                  <a:pt x="2266" y="552"/>
                </a:lnTo>
                <a:lnTo>
                  <a:pt x="2290" y="540"/>
                </a:lnTo>
                <a:lnTo>
                  <a:pt x="2302" y="534"/>
                </a:lnTo>
                <a:lnTo>
                  <a:pt x="2314" y="534"/>
                </a:lnTo>
                <a:lnTo>
                  <a:pt x="2338" y="522"/>
                </a:lnTo>
                <a:lnTo>
                  <a:pt x="2350" y="516"/>
                </a:lnTo>
                <a:lnTo>
                  <a:pt x="2362" y="510"/>
                </a:lnTo>
                <a:lnTo>
                  <a:pt x="2380" y="504"/>
                </a:lnTo>
                <a:lnTo>
                  <a:pt x="2392" y="498"/>
                </a:lnTo>
                <a:lnTo>
                  <a:pt x="2398" y="492"/>
                </a:lnTo>
                <a:lnTo>
                  <a:pt x="2416" y="480"/>
                </a:lnTo>
                <a:lnTo>
                  <a:pt x="2428" y="474"/>
                </a:lnTo>
                <a:lnTo>
                  <a:pt x="2434" y="468"/>
                </a:lnTo>
                <a:lnTo>
                  <a:pt x="2446" y="456"/>
                </a:lnTo>
                <a:lnTo>
                  <a:pt x="2452" y="450"/>
                </a:lnTo>
                <a:lnTo>
                  <a:pt x="2458" y="450"/>
                </a:lnTo>
                <a:lnTo>
                  <a:pt x="2470" y="438"/>
                </a:lnTo>
                <a:lnTo>
                  <a:pt x="2476" y="432"/>
                </a:lnTo>
                <a:lnTo>
                  <a:pt x="2482" y="426"/>
                </a:lnTo>
                <a:lnTo>
                  <a:pt x="2488" y="420"/>
                </a:lnTo>
                <a:lnTo>
                  <a:pt x="2494" y="408"/>
                </a:lnTo>
                <a:lnTo>
                  <a:pt x="2500" y="402"/>
                </a:lnTo>
                <a:lnTo>
                  <a:pt x="2500" y="396"/>
                </a:lnTo>
                <a:lnTo>
                  <a:pt x="2506" y="384"/>
                </a:lnTo>
                <a:lnTo>
                  <a:pt x="2506" y="378"/>
                </a:lnTo>
                <a:lnTo>
                  <a:pt x="2506" y="372"/>
                </a:lnTo>
                <a:lnTo>
                  <a:pt x="2512" y="360"/>
                </a:lnTo>
                <a:lnTo>
                  <a:pt x="2512" y="354"/>
                </a:lnTo>
                <a:lnTo>
                  <a:pt x="2512" y="0"/>
                </a:lnTo>
                <a:close/>
              </a:path>
            </a:pathLst>
          </a:custGeom>
          <a:solidFill>
            <a:srgbClr val="0010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79960" y="3133800"/>
            <a:ext cx="3987720" cy="1057320"/>
          </a:xfrm>
          <a:custGeom>
            <a:avLst/>
            <a:gdLst/>
            <a:ahLst/>
            <a:rect l="l" t="t" r="r" b="b"/>
            <a:pathLst>
              <a:path w="2512" h="666">
                <a:moveTo>
                  <a:pt x="1223" y="0"/>
                </a:moveTo>
                <a:lnTo>
                  <a:pt x="1247" y="0"/>
                </a:lnTo>
                <a:lnTo>
                  <a:pt x="1289" y="0"/>
                </a:lnTo>
                <a:lnTo>
                  <a:pt x="1313" y="0"/>
                </a:lnTo>
                <a:lnTo>
                  <a:pt x="1337" y="0"/>
                </a:lnTo>
                <a:lnTo>
                  <a:pt x="1379" y="0"/>
                </a:lnTo>
                <a:lnTo>
                  <a:pt x="1403" y="0"/>
                </a:lnTo>
                <a:lnTo>
                  <a:pt x="1427" y="0"/>
                </a:lnTo>
                <a:lnTo>
                  <a:pt x="1469" y="6"/>
                </a:lnTo>
                <a:lnTo>
                  <a:pt x="1493" y="6"/>
                </a:lnTo>
                <a:lnTo>
                  <a:pt x="1517" y="6"/>
                </a:lnTo>
                <a:lnTo>
                  <a:pt x="1559" y="12"/>
                </a:lnTo>
                <a:lnTo>
                  <a:pt x="1577" y="12"/>
                </a:lnTo>
                <a:lnTo>
                  <a:pt x="1600" y="12"/>
                </a:lnTo>
                <a:lnTo>
                  <a:pt x="1642" y="18"/>
                </a:lnTo>
                <a:lnTo>
                  <a:pt x="1666" y="18"/>
                </a:lnTo>
                <a:lnTo>
                  <a:pt x="1684" y="18"/>
                </a:lnTo>
                <a:lnTo>
                  <a:pt x="1726" y="24"/>
                </a:lnTo>
                <a:lnTo>
                  <a:pt x="1744" y="30"/>
                </a:lnTo>
                <a:lnTo>
                  <a:pt x="1768" y="30"/>
                </a:lnTo>
                <a:lnTo>
                  <a:pt x="1810" y="36"/>
                </a:lnTo>
                <a:lnTo>
                  <a:pt x="1828" y="36"/>
                </a:lnTo>
                <a:lnTo>
                  <a:pt x="1846" y="42"/>
                </a:lnTo>
                <a:lnTo>
                  <a:pt x="1888" y="48"/>
                </a:lnTo>
                <a:lnTo>
                  <a:pt x="1906" y="48"/>
                </a:lnTo>
                <a:lnTo>
                  <a:pt x="1924" y="54"/>
                </a:lnTo>
                <a:lnTo>
                  <a:pt x="1960" y="60"/>
                </a:lnTo>
                <a:lnTo>
                  <a:pt x="1978" y="60"/>
                </a:lnTo>
                <a:lnTo>
                  <a:pt x="1996" y="66"/>
                </a:lnTo>
                <a:lnTo>
                  <a:pt x="2032" y="72"/>
                </a:lnTo>
                <a:lnTo>
                  <a:pt x="2050" y="78"/>
                </a:lnTo>
                <a:lnTo>
                  <a:pt x="2068" y="78"/>
                </a:lnTo>
                <a:lnTo>
                  <a:pt x="2104" y="90"/>
                </a:lnTo>
                <a:lnTo>
                  <a:pt x="2116" y="90"/>
                </a:lnTo>
                <a:lnTo>
                  <a:pt x="2134" y="96"/>
                </a:lnTo>
                <a:lnTo>
                  <a:pt x="2164" y="102"/>
                </a:lnTo>
                <a:lnTo>
                  <a:pt x="2182" y="108"/>
                </a:lnTo>
                <a:lnTo>
                  <a:pt x="2194" y="114"/>
                </a:lnTo>
                <a:lnTo>
                  <a:pt x="2224" y="120"/>
                </a:lnTo>
                <a:lnTo>
                  <a:pt x="2236" y="126"/>
                </a:lnTo>
                <a:lnTo>
                  <a:pt x="2254" y="132"/>
                </a:lnTo>
                <a:lnTo>
                  <a:pt x="2278" y="138"/>
                </a:lnTo>
                <a:lnTo>
                  <a:pt x="2290" y="144"/>
                </a:lnTo>
                <a:lnTo>
                  <a:pt x="2302" y="150"/>
                </a:lnTo>
                <a:lnTo>
                  <a:pt x="2326" y="162"/>
                </a:lnTo>
                <a:lnTo>
                  <a:pt x="2338" y="162"/>
                </a:lnTo>
                <a:lnTo>
                  <a:pt x="2350" y="168"/>
                </a:lnTo>
                <a:lnTo>
                  <a:pt x="2368" y="180"/>
                </a:lnTo>
                <a:lnTo>
                  <a:pt x="2380" y="186"/>
                </a:lnTo>
                <a:lnTo>
                  <a:pt x="2392" y="192"/>
                </a:lnTo>
                <a:lnTo>
                  <a:pt x="2410" y="204"/>
                </a:lnTo>
                <a:lnTo>
                  <a:pt x="2416" y="204"/>
                </a:lnTo>
                <a:lnTo>
                  <a:pt x="2428" y="210"/>
                </a:lnTo>
                <a:lnTo>
                  <a:pt x="2440" y="222"/>
                </a:lnTo>
                <a:lnTo>
                  <a:pt x="2446" y="228"/>
                </a:lnTo>
                <a:lnTo>
                  <a:pt x="2452" y="234"/>
                </a:lnTo>
                <a:lnTo>
                  <a:pt x="2464" y="246"/>
                </a:lnTo>
                <a:lnTo>
                  <a:pt x="2470" y="252"/>
                </a:lnTo>
                <a:lnTo>
                  <a:pt x="2476" y="258"/>
                </a:lnTo>
                <a:lnTo>
                  <a:pt x="2488" y="270"/>
                </a:lnTo>
                <a:lnTo>
                  <a:pt x="2488" y="276"/>
                </a:lnTo>
                <a:lnTo>
                  <a:pt x="2494" y="282"/>
                </a:lnTo>
                <a:lnTo>
                  <a:pt x="2500" y="288"/>
                </a:lnTo>
                <a:lnTo>
                  <a:pt x="2506" y="294"/>
                </a:lnTo>
                <a:lnTo>
                  <a:pt x="2506" y="300"/>
                </a:lnTo>
                <a:lnTo>
                  <a:pt x="2506" y="312"/>
                </a:lnTo>
                <a:lnTo>
                  <a:pt x="2512" y="318"/>
                </a:lnTo>
                <a:lnTo>
                  <a:pt x="2512" y="324"/>
                </a:lnTo>
                <a:lnTo>
                  <a:pt x="2512" y="336"/>
                </a:lnTo>
                <a:lnTo>
                  <a:pt x="2512" y="342"/>
                </a:lnTo>
                <a:lnTo>
                  <a:pt x="2506" y="348"/>
                </a:lnTo>
                <a:lnTo>
                  <a:pt x="2506" y="360"/>
                </a:lnTo>
                <a:lnTo>
                  <a:pt x="2506" y="366"/>
                </a:lnTo>
                <a:lnTo>
                  <a:pt x="2500" y="372"/>
                </a:lnTo>
                <a:lnTo>
                  <a:pt x="2494" y="384"/>
                </a:lnTo>
                <a:lnTo>
                  <a:pt x="2488" y="390"/>
                </a:lnTo>
                <a:lnTo>
                  <a:pt x="2488" y="396"/>
                </a:lnTo>
                <a:lnTo>
                  <a:pt x="2476" y="408"/>
                </a:lnTo>
                <a:lnTo>
                  <a:pt x="2470" y="414"/>
                </a:lnTo>
                <a:lnTo>
                  <a:pt x="2464" y="420"/>
                </a:lnTo>
                <a:lnTo>
                  <a:pt x="2452" y="426"/>
                </a:lnTo>
                <a:lnTo>
                  <a:pt x="2446" y="432"/>
                </a:lnTo>
                <a:lnTo>
                  <a:pt x="2440" y="438"/>
                </a:lnTo>
                <a:lnTo>
                  <a:pt x="2428" y="450"/>
                </a:lnTo>
                <a:lnTo>
                  <a:pt x="2416" y="456"/>
                </a:lnTo>
                <a:lnTo>
                  <a:pt x="2410" y="462"/>
                </a:lnTo>
                <a:lnTo>
                  <a:pt x="2392" y="474"/>
                </a:lnTo>
                <a:lnTo>
                  <a:pt x="2380" y="480"/>
                </a:lnTo>
                <a:lnTo>
                  <a:pt x="2368" y="480"/>
                </a:lnTo>
                <a:lnTo>
                  <a:pt x="2350" y="492"/>
                </a:lnTo>
                <a:lnTo>
                  <a:pt x="2338" y="498"/>
                </a:lnTo>
                <a:lnTo>
                  <a:pt x="2326" y="504"/>
                </a:lnTo>
                <a:lnTo>
                  <a:pt x="2302" y="510"/>
                </a:lnTo>
                <a:lnTo>
                  <a:pt x="2290" y="516"/>
                </a:lnTo>
                <a:lnTo>
                  <a:pt x="2278" y="522"/>
                </a:lnTo>
                <a:lnTo>
                  <a:pt x="2254" y="534"/>
                </a:lnTo>
                <a:lnTo>
                  <a:pt x="2236" y="534"/>
                </a:lnTo>
                <a:lnTo>
                  <a:pt x="2224" y="540"/>
                </a:lnTo>
                <a:lnTo>
                  <a:pt x="2194" y="552"/>
                </a:lnTo>
                <a:lnTo>
                  <a:pt x="2182" y="552"/>
                </a:lnTo>
                <a:lnTo>
                  <a:pt x="2164" y="558"/>
                </a:lnTo>
                <a:lnTo>
                  <a:pt x="2134" y="564"/>
                </a:lnTo>
                <a:lnTo>
                  <a:pt x="2116" y="570"/>
                </a:lnTo>
                <a:lnTo>
                  <a:pt x="2104" y="576"/>
                </a:lnTo>
                <a:lnTo>
                  <a:pt x="2068" y="582"/>
                </a:lnTo>
                <a:lnTo>
                  <a:pt x="2050" y="588"/>
                </a:lnTo>
                <a:lnTo>
                  <a:pt x="2032" y="588"/>
                </a:lnTo>
                <a:lnTo>
                  <a:pt x="1996" y="600"/>
                </a:lnTo>
                <a:lnTo>
                  <a:pt x="1978" y="600"/>
                </a:lnTo>
                <a:lnTo>
                  <a:pt x="1960" y="606"/>
                </a:lnTo>
                <a:lnTo>
                  <a:pt x="1924" y="612"/>
                </a:lnTo>
                <a:lnTo>
                  <a:pt x="1906" y="612"/>
                </a:lnTo>
                <a:lnTo>
                  <a:pt x="1888" y="618"/>
                </a:lnTo>
                <a:lnTo>
                  <a:pt x="1846" y="624"/>
                </a:lnTo>
                <a:lnTo>
                  <a:pt x="1828" y="624"/>
                </a:lnTo>
                <a:lnTo>
                  <a:pt x="1810" y="630"/>
                </a:lnTo>
                <a:lnTo>
                  <a:pt x="1768" y="636"/>
                </a:lnTo>
                <a:lnTo>
                  <a:pt x="1744" y="636"/>
                </a:lnTo>
                <a:lnTo>
                  <a:pt x="1726" y="636"/>
                </a:lnTo>
                <a:lnTo>
                  <a:pt x="1684" y="642"/>
                </a:lnTo>
                <a:lnTo>
                  <a:pt x="1666" y="642"/>
                </a:lnTo>
                <a:lnTo>
                  <a:pt x="1642" y="648"/>
                </a:lnTo>
                <a:lnTo>
                  <a:pt x="1600" y="648"/>
                </a:lnTo>
                <a:lnTo>
                  <a:pt x="1577" y="654"/>
                </a:lnTo>
                <a:lnTo>
                  <a:pt x="1559" y="654"/>
                </a:lnTo>
                <a:lnTo>
                  <a:pt x="1517" y="654"/>
                </a:lnTo>
                <a:lnTo>
                  <a:pt x="1493" y="660"/>
                </a:lnTo>
                <a:lnTo>
                  <a:pt x="1469" y="660"/>
                </a:lnTo>
                <a:lnTo>
                  <a:pt x="1427" y="660"/>
                </a:lnTo>
                <a:lnTo>
                  <a:pt x="1403" y="660"/>
                </a:lnTo>
                <a:lnTo>
                  <a:pt x="1379" y="660"/>
                </a:lnTo>
                <a:lnTo>
                  <a:pt x="1337" y="666"/>
                </a:lnTo>
                <a:lnTo>
                  <a:pt x="1313" y="666"/>
                </a:lnTo>
                <a:lnTo>
                  <a:pt x="1289" y="666"/>
                </a:lnTo>
                <a:lnTo>
                  <a:pt x="1247" y="666"/>
                </a:lnTo>
                <a:lnTo>
                  <a:pt x="1223" y="666"/>
                </a:lnTo>
                <a:lnTo>
                  <a:pt x="1205" y="666"/>
                </a:lnTo>
                <a:lnTo>
                  <a:pt x="1157" y="666"/>
                </a:lnTo>
                <a:lnTo>
                  <a:pt x="1133" y="666"/>
                </a:lnTo>
                <a:lnTo>
                  <a:pt x="1115" y="666"/>
                </a:lnTo>
                <a:lnTo>
                  <a:pt x="1067" y="660"/>
                </a:lnTo>
                <a:lnTo>
                  <a:pt x="1043" y="660"/>
                </a:lnTo>
                <a:lnTo>
                  <a:pt x="1025" y="660"/>
                </a:lnTo>
                <a:lnTo>
                  <a:pt x="977" y="660"/>
                </a:lnTo>
                <a:lnTo>
                  <a:pt x="959" y="660"/>
                </a:lnTo>
                <a:lnTo>
                  <a:pt x="935" y="654"/>
                </a:lnTo>
                <a:lnTo>
                  <a:pt x="893" y="654"/>
                </a:lnTo>
                <a:lnTo>
                  <a:pt x="869" y="654"/>
                </a:lnTo>
                <a:lnTo>
                  <a:pt x="851" y="648"/>
                </a:lnTo>
                <a:lnTo>
                  <a:pt x="803" y="648"/>
                </a:lnTo>
                <a:lnTo>
                  <a:pt x="785" y="642"/>
                </a:lnTo>
                <a:lnTo>
                  <a:pt x="761" y="642"/>
                </a:lnTo>
                <a:lnTo>
                  <a:pt x="719" y="636"/>
                </a:lnTo>
                <a:lnTo>
                  <a:pt x="701" y="636"/>
                </a:lnTo>
                <a:lnTo>
                  <a:pt x="683" y="636"/>
                </a:lnTo>
                <a:lnTo>
                  <a:pt x="641" y="630"/>
                </a:lnTo>
                <a:lnTo>
                  <a:pt x="623" y="624"/>
                </a:lnTo>
                <a:lnTo>
                  <a:pt x="599" y="624"/>
                </a:lnTo>
                <a:lnTo>
                  <a:pt x="563" y="618"/>
                </a:lnTo>
                <a:lnTo>
                  <a:pt x="545" y="612"/>
                </a:lnTo>
                <a:lnTo>
                  <a:pt x="521" y="612"/>
                </a:lnTo>
                <a:lnTo>
                  <a:pt x="485" y="606"/>
                </a:lnTo>
                <a:lnTo>
                  <a:pt x="467" y="600"/>
                </a:lnTo>
                <a:lnTo>
                  <a:pt x="449" y="600"/>
                </a:lnTo>
                <a:lnTo>
                  <a:pt x="413" y="588"/>
                </a:lnTo>
                <a:lnTo>
                  <a:pt x="395" y="588"/>
                </a:lnTo>
                <a:lnTo>
                  <a:pt x="383" y="582"/>
                </a:lnTo>
                <a:lnTo>
                  <a:pt x="347" y="576"/>
                </a:lnTo>
                <a:lnTo>
                  <a:pt x="329" y="570"/>
                </a:lnTo>
                <a:lnTo>
                  <a:pt x="317" y="564"/>
                </a:lnTo>
                <a:lnTo>
                  <a:pt x="282" y="558"/>
                </a:lnTo>
                <a:lnTo>
                  <a:pt x="270" y="552"/>
                </a:lnTo>
                <a:lnTo>
                  <a:pt x="252" y="552"/>
                </a:lnTo>
                <a:lnTo>
                  <a:pt x="228" y="540"/>
                </a:lnTo>
                <a:lnTo>
                  <a:pt x="210" y="534"/>
                </a:lnTo>
                <a:lnTo>
                  <a:pt x="198" y="534"/>
                </a:lnTo>
                <a:lnTo>
                  <a:pt x="174" y="522"/>
                </a:lnTo>
                <a:lnTo>
                  <a:pt x="156" y="516"/>
                </a:lnTo>
                <a:lnTo>
                  <a:pt x="144" y="510"/>
                </a:lnTo>
                <a:lnTo>
                  <a:pt x="120" y="504"/>
                </a:lnTo>
                <a:lnTo>
                  <a:pt x="108" y="498"/>
                </a:lnTo>
                <a:lnTo>
                  <a:pt x="102" y="492"/>
                </a:lnTo>
                <a:lnTo>
                  <a:pt x="78" y="480"/>
                </a:lnTo>
                <a:lnTo>
                  <a:pt x="66" y="480"/>
                </a:lnTo>
                <a:lnTo>
                  <a:pt x="60" y="474"/>
                </a:lnTo>
                <a:lnTo>
                  <a:pt x="42" y="462"/>
                </a:lnTo>
                <a:lnTo>
                  <a:pt x="30" y="456"/>
                </a:lnTo>
                <a:lnTo>
                  <a:pt x="24" y="450"/>
                </a:lnTo>
                <a:lnTo>
                  <a:pt x="6" y="438"/>
                </a:lnTo>
                <a:lnTo>
                  <a:pt x="0" y="432"/>
                </a:lnTo>
                <a:lnTo>
                  <a:pt x="1223" y="330"/>
                </a:lnTo>
                <a:lnTo>
                  <a:pt x="1223" y="0"/>
                </a:lnTo>
                <a:close/>
              </a:path>
            </a:pathLst>
          </a:custGeom>
          <a:solidFill>
            <a:srgbClr val="003300">
              <a:alpha val="65000"/>
            </a:srgbClr>
          </a:solidFill>
          <a:ln w="93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5" name=""/>
            <p:cNvSpPr/>
            <p:nvPr/>
          </p:nvSpPr>
          <p:spPr>
            <a:xfrm>
              <a:off x="2144880" y="0"/>
              <a:ext cx="4789440" cy="6858000"/>
            </a:xfrm>
            <a:custGeom>
              <a:avLst/>
              <a:gdLst/>
              <a:ahLst/>
              <a:rect l="l" t="t" r="r" b="b"/>
              <a:pathLst>
                <a:path w="2704" h="3879">
                  <a:moveTo>
                    <a:pt x="883" y="43"/>
                  </a:moveTo>
                  <a:lnTo>
                    <a:pt x="903" y="55"/>
                  </a:lnTo>
                  <a:lnTo>
                    <a:pt x="921" y="72"/>
                  </a:lnTo>
                  <a:lnTo>
                    <a:pt x="940" y="90"/>
                  </a:lnTo>
                  <a:lnTo>
                    <a:pt x="961" y="115"/>
                  </a:lnTo>
                  <a:lnTo>
                    <a:pt x="967" y="141"/>
                  </a:lnTo>
                  <a:lnTo>
                    <a:pt x="972" y="169"/>
                  </a:lnTo>
                  <a:lnTo>
                    <a:pt x="990" y="193"/>
                  </a:lnTo>
                  <a:lnTo>
                    <a:pt x="1014" y="213"/>
                  </a:lnTo>
                  <a:lnTo>
                    <a:pt x="1033" y="202"/>
                  </a:lnTo>
                  <a:lnTo>
                    <a:pt x="1057" y="196"/>
                  </a:lnTo>
                  <a:lnTo>
                    <a:pt x="1059" y="225"/>
                  </a:lnTo>
                  <a:lnTo>
                    <a:pt x="1063" y="252"/>
                  </a:lnTo>
                  <a:lnTo>
                    <a:pt x="1077" y="268"/>
                  </a:lnTo>
                  <a:lnTo>
                    <a:pt x="1098" y="258"/>
                  </a:lnTo>
                  <a:lnTo>
                    <a:pt x="1116" y="252"/>
                  </a:lnTo>
                  <a:lnTo>
                    <a:pt x="1119" y="273"/>
                  </a:lnTo>
                  <a:lnTo>
                    <a:pt x="1108" y="288"/>
                  </a:lnTo>
                  <a:lnTo>
                    <a:pt x="1120" y="304"/>
                  </a:lnTo>
                  <a:lnTo>
                    <a:pt x="1140" y="297"/>
                  </a:lnTo>
                  <a:lnTo>
                    <a:pt x="1156" y="307"/>
                  </a:lnTo>
                  <a:lnTo>
                    <a:pt x="1168" y="321"/>
                  </a:lnTo>
                  <a:lnTo>
                    <a:pt x="1159" y="343"/>
                  </a:lnTo>
                  <a:lnTo>
                    <a:pt x="1171" y="354"/>
                  </a:lnTo>
                  <a:lnTo>
                    <a:pt x="1191" y="361"/>
                  </a:lnTo>
                  <a:lnTo>
                    <a:pt x="1191" y="396"/>
                  </a:lnTo>
                  <a:lnTo>
                    <a:pt x="1215" y="403"/>
                  </a:lnTo>
                  <a:lnTo>
                    <a:pt x="1245" y="397"/>
                  </a:lnTo>
                  <a:lnTo>
                    <a:pt x="1243" y="372"/>
                  </a:lnTo>
                  <a:lnTo>
                    <a:pt x="1258" y="367"/>
                  </a:lnTo>
                  <a:lnTo>
                    <a:pt x="1275" y="375"/>
                  </a:lnTo>
                  <a:lnTo>
                    <a:pt x="1267" y="397"/>
                  </a:lnTo>
                  <a:lnTo>
                    <a:pt x="1257" y="412"/>
                  </a:lnTo>
                  <a:lnTo>
                    <a:pt x="1254" y="435"/>
                  </a:lnTo>
                  <a:lnTo>
                    <a:pt x="1255" y="477"/>
                  </a:lnTo>
                  <a:lnTo>
                    <a:pt x="1245" y="502"/>
                  </a:lnTo>
                  <a:lnTo>
                    <a:pt x="1234" y="522"/>
                  </a:lnTo>
                  <a:lnTo>
                    <a:pt x="1233" y="547"/>
                  </a:lnTo>
                  <a:lnTo>
                    <a:pt x="1261" y="550"/>
                  </a:lnTo>
                  <a:lnTo>
                    <a:pt x="1261" y="571"/>
                  </a:lnTo>
                  <a:lnTo>
                    <a:pt x="1272" y="589"/>
                  </a:lnTo>
                  <a:lnTo>
                    <a:pt x="1252" y="607"/>
                  </a:lnTo>
                  <a:lnTo>
                    <a:pt x="1233" y="622"/>
                  </a:lnTo>
                  <a:lnTo>
                    <a:pt x="1233" y="643"/>
                  </a:lnTo>
                  <a:lnTo>
                    <a:pt x="1267" y="642"/>
                  </a:lnTo>
                  <a:lnTo>
                    <a:pt x="1294" y="654"/>
                  </a:lnTo>
                  <a:lnTo>
                    <a:pt x="1296" y="676"/>
                  </a:lnTo>
                  <a:lnTo>
                    <a:pt x="1314" y="696"/>
                  </a:lnTo>
                  <a:lnTo>
                    <a:pt x="1332" y="708"/>
                  </a:lnTo>
                  <a:lnTo>
                    <a:pt x="1356" y="739"/>
                  </a:lnTo>
                  <a:lnTo>
                    <a:pt x="1372" y="757"/>
                  </a:lnTo>
                  <a:lnTo>
                    <a:pt x="1390" y="775"/>
                  </a:lnTo>
                  <a:lnTo>
                    <a:pt x="1411" y="771"/>
                  </a:lnTo>
                  <a:lnTo>
                    <a:pt x="1423" y="759"/>
                  </a:lnTo>
                  <a:lnTo>
                    <a:pt x="1428" y="781"/>
                  </a:lnTo>
                  <a:lnTo>
                    <a:pt x="1441" y="799"/>
                  </a:lnTo>
                  <a:lnTo>
                    <a:pt x="1455" y="793"/>
                  </a:lnTo>
                  <a:lnTo>
                    <a:pt x="1480" y="787"/>
                  </a:lnTo>
                  <a:lnTo>
                    <a:pt x="1492" y="772"/>
                  </a:lnTo>
                  <a:lnTo>
                    <a:pt x="1504" y="801"/>
                  </a:lnTo>
                  <a:lnTo>
                    <a:pt x="1516" y="822"/>
                  </a:lnTo>
                  <a:lnTo>
                    <a:pt x="1528" y="844"/>
                  </a:lnTo>
                  <a:lnTo>
                    <a:pt x="1551" y="856"/>
                  </a:lnTo>
                  <a:lnTo>
                    <a:pt x="1578" y="849"/>
                  </a:lnTo>
                  <a:lnTo>
                    <a:pt x="1605" y="861"/>
                  </a:lnTo>
                  <a:lnTo>
                    <a:pt x="1615" y="870"/>
                  </a:lnTo>
                  <a:lnTo>
                    <a:pt x="1644" y="859"/>
                  </a:lnTo>
                  <a:lnTo>
                    <a:pt x="1656" y="877"/>
                  </a:lnTo>
                  <a:lnTo>
                    <a:pt x="1677" y="883"/>
                  </a:lnTo>
                  <a:lnTo>
                    <a:pt x="1699" y="898"/>
                  </a:lnTo>
                  <a:lnTo>
                    <a:pt x="1720" y="915"/>
                  </a:lnTo>
                  <a:lnTo>
                    <a:pt x="1731" y="933"/>
                  </a:lnTo>
                  <a:lnTo>
                    <a:pt x="1716" y="942"/>
                  </a:lnTo>
                  <a:lnTo>
                    <a:pt x="1695" y="949"/>
                  </a:lnTo>
                  <a:lnTo>
                    <a:pt x="1678" y="961"/>
                  </a:lnTo>
                  <a:lnTo>
                    <a:pt x="1693" y="982"/>
                  </a:lnTo>
                  <a:lnTo>
                    <a:pt x="1684" y="1006"/>
                  </a:lnTo>
                  <a:lnTo>
                    <a:pt x="1653" y="1012"/>
                  </a:lnTo>
                  <a:lnTo>
                    <a:pt x="1627" y="1012"/>
                  </a:lnTo>
                  <a:lnTo>
                    <a:pt x="1600" y="1032"/>
                  </a:lnTo>
                  <a:lnTo>
                    <a:pt x="1594" y="1057"/>
                  </a:lnTo>
                  <a:lnTo>
                    <a:pt x="1612" y="1077"/>
                  </a:lnTo>
                  <a:lnTo>
                    <a:pt x="1639" y="1074"/>
                  </a:lnTo>
                  <a:lnTo>
                    <a:pt x="1660" y="1096"/>
                  </a:lnTo>
                  <a:lnTo>
                    <a:pt x="1687" y="1101"/>
                  </a:lnTo>
                  <a:lnTo>
                    <a:pt x="1708" y="1114"/>
                  </a:lnTo>
                  <a:lnTo>
                    <a:pt x="1734" y="1123"/>
                  </a:lnTo>
                  <a:lnTo>
                    <a:pt x="1746" y="1140"/>
                  </a:lnTo>
                  <a:lnTo>
                    <a:pt x="1740" y="1162"/>
                  </a:lnTo>
                  <a:lnTo>
                    <a:pt x="1717" y="1167"/>
                  </a:lnTo>
                  <a:lnTo>
                    <a:pt x="1696" y="1174"/>
                  </a:lnTo>
                  <a:lnTo>
                    <a:pt x="1668" y="1171"/>
                  </a:lnTo>
                  <a:lnTo>
                    <a:pt x="1636" y="1176"/>
                  </a:lnTo>
                  <a:lnTo>
                    <a:pt x="1611" y="1183"/>
                  </a:lnTo>
                  <a:lnTo>
                    <a:pt x="1609" y="1209"/>
                  </a:lnTo>
                  <a:lnTo>
                    <a:pt x="1617" y="1236"/>
                  </a:lnTo>
                  <a:lnTo>
                    <a:pt x="1614" y="1260"/>
                  </a:lnTo>
                  <a:lnTo>
                    <a:pt x="1620" y="1282"/>
                  </a:lnTo>
                  <a:lnTo>
                    <a:pt x="1641" y="1281"/>
                  </a:lnTo>
                  <a:lnTo>
                    <a:pt x="1657" y="1266"/>
                  </a:lnTo>
                  <a:lnTo>
                    <a:pt x="1678" y="1266"/>
                  </a:lnTo>
                  <a:lnTo>
                    <a:pt x="1707" y="1264"/>
                  </a:lnTo>
                  <a:lnTo>
                    <a:pt x="1732" y="1266"/>
                  </a:lnTo>
                  <a:lnTo>
                    <a:pt x="1756" y="1282"/>
                  </a:lnTo>
                  <a:lnTo>
                    <a:pt x="1770" y="1305"/>
                  </a:lnTo>
                  <a:lnTo>
                    <a:pt x="1776" y="1323"/>
                  </a:lnTo>
                  <a:lnTo>
                    <a:pt x="1768" y="1342"/>
                  </a:lnTo>
                  <a:lnTo>
                    <a:pt x="1783" y="1371"/>
                  </a:lnTo>
                  <a:lnTo>
                    <a:pt x="1816" y="1365"/>
                  </a:lnTo>
                  <a:lnTo>
                    <a:pt x="1842" y="1366"/>
                  </a:lnTo>
                  <a:lnTo>
                    <a:pt x="1875" y="1366"/>
                  </a:lnTo>
                  <a:lnTo>
                    <a:pt x="1902" y="1368"/>
                  </a:lnTo>
                  <a:lnTo>
                    <a:pt x="1930" y="1372"/>
                  </a:lnTo>
                  <a:lnTo>
                    <a:pt x="1953" y="1377"/>
                  </a:lnTo>
                  <a:lnTo>
                    <a:pt x="1987" y="1383"/>
                  </a:lnTo>
                  <a:lnTo>
                    <a:pt x="2008" y="1381"/>
                  </a:lnTo>
                  <a:lnTo>
                    <a:pt x="2023" y="1395"/>
                  </a:lnTo>
                  <a:lnTo>
                    <a:pt x="2035" y="1413"/>
                  </a:lnTo>
                  <a:lnTo>
                    <a:pt x="2041" y="1429"/>
                  </a:lnTo>
                  <a:lnTo>
                    <a:pt x="2041" y="1450"/>
                  </a:lnTo>
                  <a:lnTo>
                    <a:pt x="2047" y="1468"/>
                  </a:lnTo>
                  <a:lnTo>
                    <a:pt x="2064" y="1483"/>
                  </a:lnTo>
                  <a:lnTo>
                    <a:pt x="2073" y="1506"/>
                  </a:lnTo>
                  <a:lnTo>
                    <a:pt x="2080" y="1522"/>
                  </a:lnTo>
                  <a:lnTo>
                    <a:pt x="2095" y="1533"/>
                  </a:lnTo>
                  <a:lnTo>
                    <a:pt x="2116" y="1542"/>
                  </a:lnTo>
                  <a:lnTo>
                    <a:pt x="2139" y="1531"/>
                  </a:lnTo>
                  <a:lnTo>
                    <a:pt x="2149" y="1509"/>
                  </a:lnTo>
                  <a:lnTo>
                    <a:pt x="2172" y="1480"/>
                  </a:lnTo>
                  <a:lnTo>
                    <a:pt x="2181" y="1449"/>
                  </a:lnTo>
                  <a:lnTo>
                    <a:pt x="2193" y="1417"/>
                  </a:lnTo>
                  <a:lnTo>
                    <a:pt x="2202" y="1395"/>
                  </a:lnTo>
                  <a:lnTo>
                    <a:pt x="2215" y="1378"/>
                  </a:lnTo>
                  <a:lnTo>
                    <a:pt x="2223" y="1360"/>
                  </a:lnTo>
                  <a:lnTo>
                    <a:pt x="2244" y="1353"/>
                  </a:lnTo>
                  <a:lnTo>
                    <a:pt x="2268" y="1350"/>
                  </a:lnTo>
                  <a:lnTo>
                    <a:pt x="2287" y="1332"/>
                  </a:lnTo>
                  <a:lnTo>
                    <a:pt x="2304" y="1317"/>
                  </a:lnTo>
                  <a:lnTo>
                    <a:pt x="2323" y="1314"/>
                  </a:lnTo>
                  <a:lnTo>
                    <a:pt x="2346" y="1326"/>
                  </a:lnTo>
                  <a:lnTo>
                    <a:pt x="2359" y="1342"/>
                  </a:lnTo>
                  <a:lnTo>
                    <a:pt x="2370" y="1359"/>
                  </a:lnTo>
                  <a:lnTo>
                    <a:pt x="2394" y="1372"/>
                  </a:lnTo>
                  <a:lnTo>
                    <a:pt x="2416" y="1395"/>
                  </a:lnTo>
                  <a:lnTo>
                    <a:pt x="2436" y="1404"/>
                  </a:lnTo>
                  <a:lnTo>
                    <a:pt x="2455" y="1398"/>
                  </a:lnTo>
                  <a:lnTo>
                    <a:pt x="2482" y="1407"/>
                  </a:lnTo>
                  <a:lnTo>
                    <a:pt x="2497" y="1416"/>
                  </a:lnTo>
                  <a:lnTo>
                    <a:pt x="2514" y="1429"/>
                  </a:lnTo>
                  <a:lnTo>
                    <a:pt x="2524" y="1453"/>
                  </a:lnTo>
                  <a:lnTo>
                    <a:pt x="2521" y="1476"/>
                  </a:lnTo>
                  <a:lnTo>
                    <a:pt x="2505" y="1489"/>
                  </a:lnTo>
                  <a:lnTo>
                    <a:pt x="2473" y="1488"/>
                  </a:lnTo>
                  <a:lnTo>
                    <a:pt x="2452" y="1473"/>
                  </a:lnTo>
                  <a:lnTo>
                    <a:pt x="2431" y="1461"/>
                  </a:lnTo>
                  <a:lnTo>
                    <a:pt x="2407" y="1462"/>
                  </a:lnTo>
                  <a:lnTo>
                    <a:pt x="2391" y="1474"/>
                  </a:lnTo>
                  <a:lnTo>
                    <a:pt x="2395" y="1497"/>
                  </a:lnTo>
                  <a:lnTo>
                    <a:pt x="2386" y="1519"/>
                  </a:lnTo>
                  <a:lnTo>
                    <a:pt x="2367" y="1530"/>
                  </a:lnTo>
                  <a:lnTo>
                    <a:pt x="2343" y="1525"/>
                  </a:lnTo>
                  <a:lnTo>
                    <a:pt x="2322" y="1536"/>
                  </a:lnTo>
                  <a:lnTo>
                    <a:pt x="2338" y="1557"/>
                  </a:lnTo>
                  <a:lnTo>
                    <a:pt x="2355" y="1570"/>
                  </a:lnTo>
                  <a:lnTo>
                    <a:pt x="2352" y="1599"/>
                  </a:lnTo>
                  <a:lnTo>
                    <a:pt x="2367" y="1617"/>
                  </a:lnTo>
                  <a:lnTo>
                    <a:pt x="2367" y="1644"/>
                  </a:lnTo>
                  <a:lnTo>
                    <a:pt x="2386" y="1654"/>
                  </a:lnTo>
                  <a:lnTo>
                    <a:pt x="2400" y="1677"/>
                  </a:lnTo>
                  <a:lnTo>
                    <a:pt x="2419" y="1686"/>
                  </a:lnTo>
                  <a:lnTo>
                    <a:pt x="2445" y="1689"/>
                  </a:lnTo>
                  <a:lnTo>
                    <a:pt x="2470" y="1693"/>
                  </a:lnTo>
                  <a:lnTo>
                    <a:pt x="2479" y="1714"/>
                  </a:lnTo>
                  <a:lnTo>
                    <a:pt x="2473" y="1749"/>
                  </a:lnTo>
                  <a:lnTo>
                    <a:pt x="2454" y="1756"/>
                  </a:lnTo>
                  <a:lnTo>
                    <a:pt x="2448" y="1771"/>
                  </a:lnTo>
                  <a:lnTo>
                    <a:pt x="2460" y="1779"/>
                  </a:lnTo>
                  <a:lnTo>
                    <a:pt x="2437" y="1792"/>
                  </a:lnTo>
                  <a:lnTo>
                    <a:pt x="2431" y="1818"/>
                  </a:lnTo>
                  <a:lnTo>
                    <a:pt x="2436" y="1837"/>
                  </a:lnTo>
                  <a:lnTo>
                    <a:pt x="2437" y="1860"/>
                  </a:lnTo>
                  <a:lnTo>
                    <a:pt x="2440" y="1882"/>
                  </a:lnTo>
                  <a:lnTo>
                    <a:pt x="2416" y="1893"/>
                  </a:lnTo>
                  <a:lnTo>
                    <a:pt x="2391" y="1894"/>
                  </a:lnTo>
                  <a:lnTo>
                    <a:pt x="2373" y="1891"/>
                  </a:lnTo>
                  <a:lnTo>
                    <a:pt x="2352" y="1890"/>
                  </a:lnTo>
                  <a:lnTo>
                    <a:pt x="2343" y="1908"/>
                  </a:lnTo>
                  <a:lnTo>
                    <a:pt x="2326" y="1927"/>
                  </a:lnTo>
                  <a:lnTo>
                    <a:pt x="2307" y="1933"/>
                  </a:lnTo>
                  <a:lnTo>
                    <a:pt x="2289" y="1947"/>
                  </a:lnTo>
                  <a:lnTo>
                    <a:pt x="2269" y="1951"/>
                  </a:lnTo>
                  <a:lnTo>
                    <a:pt x="2260" y="1971"/>
                  </a:lnTo>
                  <a:lnTo>
                    <a:pt x="2262" y="1993"/>
                  </a:lnTo>
                  <a:lnTo>
                    <a:pt x="2256" y="2008"/>
                  </a:lnTo>
                  <a:lnTo>
                    <a:pt x="2259" y="2029"/>
                  </a:lnTo>
                  <a:lnTo>
                    <a:pt x="2268" y="2044"/>
                  </a:lnTo>
                  <a:lnTo>
                    <a:pt x="2283" y="2059"/>
                  </a:lnTo>
                  <a:lnTo>
                    <a:pt x="2274" y="2083"/>
                  </a:lnTo>
                  <a:lnTo>
                    <a:pt x="2263" y="2101"/>
                  </a:lnTo>
                  <a:lnTo>
                    <a:pt x="2274" y="2119"/>
                  </a:lnTo>
                  <a:lnTo>
                    <a:pt x="2283" y="2130"/>
                  </a:lnTo>
                  <a:lnTo>
                    <a:pt x="2298" y="2146"/>
                  </a:lnTo>
                  <a:lnTo>
                    <a:pt x="2295" y="2167"/>
                  </a:lnTo>
                  <a:lnTo>
                    <a:pt x="2296" y="2193"/>
                  </a:lnTo>
                  <a:lnTo>
                    <a:pt x="2310" y="2211"/>
                  </a:lnTo>
                  <a:lnTo>
                    <a:pt x="2326" y="2223"/>
                  </a:lnTo>
                  <a:lnTo>
                    <a:pt x="2347" y="2236"/>
                  </a:lnTo>
                  <a:lnTo>
                    <a:pt x="2361" y="2253"/>
                  </a:lnTo>
                  <a:lnTo>
                    <a:pt x="2355" y="2278"/>
                  </a:lnTo>
                  <a:lnTo>
                    <a:pt x="2358" y="2302"/>
                  </a:lnTo>
                  <a:lnTo>
                    <a:pt x="2356" y="2326"/>
                  </a:lnTo>
                  <a:lnTo>
                    <a:pt x="2371" y="2340"/>
                  </a:lnTo>
                  <a:lnTo>
                    <a:pt x="2368" y="2362"/>
                  </a:lnTo>
                  <a:lnTo>
                    <a:pt x="2380" y="2394"/>
                  </a:lnTo>
                  <a:lnTo>
                    <a:pt x="2401" y="2412"/>
                  </a:lnTo>
                  <a:lnTo>
                    <a:pt x="2422" y="2415"/>
                  </a:lnTo>
                  <a:lnTo>
                    <a:pt x="2428" y="2434"/>
                  </a:lnTo>
                  <a:lnTo>
                    <a:pt x="2440" y="2445"/>
                  </a:lnTo>
                  <a:lnTo>
                    <a:pt x="2455" y="2437"/>
                  </a:lnTo>
                  <a:lnTo>
                    <a:pt x="2473" y="2436"/>
                  </a:lnTo>
                  <a:lnTo>
                    <a:pt x="2476" y="2457"/>
                  </a:lnTo>
                  <a:lnTo>
                    <a:pt x="2487" y="2473"/>
                  </a:lnTo>
                  <a:lnTo>
                    <a:pt x="2512" y="2472"/>
                  </a:lnTo>
                  <a:lnTo>
                    <a:pt x="2532" y="2479"/>
                  </a:lnTo>
                  <a:lnTo>
                    <a:pt x="2542" y="2502"/>
                  </a:lnTo>
                  <a:lnTo>
                    <a:pt x="2571" y="2517"/>
                  </a:lnTo>
                  <a:lnTo>
                    <a:pt x="2590" y="2527"/>
                  </a:lnTo>
                  <a:lnTo>
                    <a:pt x="2590" y="2550"/>
                  </a:lnTo>
                  <a:lnTo>
                    <a:pt x="2592" y="2574"/>
                  </a:lnTo>
                  <a:lnTo>
                    <a:pt x="2610" y="2575"/>
                  </a:lnTo>
                  <a:lnTo>
                    <a:pt x="2611" y="2596"/>
                  </a:lnTo>
                  <a:lnTo>
                    <a:pt x="2628" y="2613"/>
                  </a:lnTo>
                  <a:lnTo>
                    <a:pt x="2644" y="2629"/>
                  </a:lnTo>
                  <a:lnTo>
                    <a:pt x="2670" y="2631"/>
                  </a:lnTo>
                  <a:lnTo>
                    <a:pt x="2695" y="2635"/>
                  </a:lnTo>
                  <a:lnTo>
                    <a:pt x="2704" y="2646"/>
                  </a:lnTo>
                  <a:lnTo>
                    <a:pt x="2700" y="2671"/>
                  </a:lnTo>
                  <a:lnTo>
                    <a:pt x="2704" y="2698"/>
                  </a:lnTo>
                  <a:lnTo>
                    <a:pt x="2689" y="2718"/>
                  </a:lnTo>
                  <a:lnTo>
                    <a:pt x="2664" y="2733"/>
                  </a:lnTo>
                  <a:lnTo>
                    <a:pt x="2638" y="2757"/>
                  </a:lnTo>
                  <a:lnTo>
                    <a:pt x="2631" y="2784"/>
                  </a:lnTo>
                  <a:lnTo>
                    <a:pt x="2617" y="2803"/>
                  </a:lnTo>
                  <a:lnTo>
                    <a:pt x="2586" y="2820"/>
                  </a:lnTo>
                  <a:lnTo>
                    <a:pt x="2563" y="2832"/>
                  </a:lnTo>
                  <a:lnTo>
                    <a:pt x="2557" y="2862"/>
                  </a:lnTo>
                  <a:lnTo>
                    <a:pt x="2559" y="2892"/>
                  </a:lnTo>
                  <a:lnTo>
                    <a:pt x="2550" y="2913"/>
                  </a:lnTo>
                  <a:lnTo>
                    <a:pt x="2533" y="2920"/>
                  </a:lnTo>
                  <a:lnTo>
                    <a:pt x="2515" y="2923"/>
                  </a:lnTo>
                  <a:lnTo>
                    <a:pt x="2497" y="2935"/>
                  </a:lnTo>
                  <a:lnTo>
                    <a:pt x="2479" y="2922"/>
                  </a:lnTo>
                  <a:lnTo>
                    <a:pt x="2460" y="2917"/>
                  </a:lnTo>
                  <a:lnTo>
                    <a:pt x="2442" y="2914"/>
                  </a:lnTo>
                  <a:lnTo>
                    <a:pt x="2424" y="2916"/>
                  </a:lnTo>
                  <a:lnTo>
                    <a:pt x="2422" y="2932"/>
                  </a:lnTo>
                  <a:lnTo>
                    <a:pt x="2407" y="2932"/>
                  </a:lnTo>
                  <a:lnTo>
                    <a:pt x="2392" y="2928"/>
                  </a:lnTo>
                  <a:lnTo>
                    <a:pt x="2386" y="2946"/>
                  </a:lnTo>
                  <a:lnTo>
                    <a:pt x="2373" y="2961"/>
                  </a:lnTo>
                  <a:lnTo>
                    <a:pt x="2352" y="2964"/>
                  </a:lnTo>
                  <a:lnTo>
                    <a:pt x="2335" y="2976"/>
                  </a:lnTo>
                  <a:lnTo>
                    <a:pt x="2338" y="2997"/>
                  </a:lnTo>
                  <a:lnTo>
                    <a:pt x="2355" y="3009"/>
                  </a:lnTo>
                  <a:lnTo>
                    <a:pt x="2364" y="3028"/>
                  </a:lnTo>
                  <a:lnTo>
                    <a:pt x="2379" y="3040"/>
                  </a:lnTo>
                  <a:lnTo>
                    <a:pt x="2376" y="3058"/>
                  </a:lnTo>
                  <a:lnTo>
                    <a:pt x="2367" y="3067"/>
                  </a:lnTo>
                  <a:lnTo>
                    <a:pt x="2359" y="3084"/>
                  </a:lnTo>
                  <a:lnTo>
                    <a:pt x="2362" y="3106"/>
                  </a:lnTo>
                  <a:lnTo>
                    <a:pt x="2347" y="3120"/>
                  </a:lnTo>
                  <a:lnTo>
                    <a:pt x="2359" y="3138"/>
                  </a:lnTo>
                  <a:lnTo>
                    <a:pt x="2344" y="3153"/>
                  </a:lnTo>
                  <a:lnTo>
                    <a:pt x="2347" y="3172"/>
                  </a:lnTo>
                  <a:lnTo>
                    <a:pt x="2337" y="3196"/>
                  </a:lnTo>
                  <a:lnTo>
                    <a:pt x="2361" y="3193"/>
                  </a:lnTo>
                  <a:lnTo>
                    <a:pt x="2376" y="3207"/>
                  </a:lnTo>
                  <a:lnTo>
                    <a:pt x="2376" y="3232"/>
                  </a:lnTo>
                  <a:lnTo>
                    <a:pt x="2394" y="3228"/>
                  </a:lnTo>
                  <a:lnTo>
                    <a:pt x="2412" y="3238"/>
                  </a:lnTo>
                  <a:lnTo>
                    <a:pt x="2421" y="3258"/>
                  </a:lnTo>
                  <a:lnTo>
                    <a:pt x="2416" y="3282"/>
                  </a:lnTo>
                  <a:lnTo>
                    <a:pt x="2406" y="3303"/>
                  </a:lnTo>
                  <a:lnTo>
                    <a:pt x="2410" y="3322"/>
                  </a:lnTo>
                  <a:lnTo>
                    <a:pt x="2397" y="3333"/>
                  </a:lnTo>
                  <a:lnTo>
                    <a:pt x="2382" y="3351"/>
                  </a:lnTo>
                  <a:lnTo>
                    <a:pt x="2379" y="3363"/>
                  </a:lnTo>
                  <a:lnTo>
                    <a:pt x="2361" y="3366"/>
                  </a:lnTo>
                  <a:lnTo>
                    <a:pt x="2364" y="3382"/>
                  </a:lnTo>
                  <a:lnTo>
                    <a:pt x="2353" y="3396"/>
                  </a:lnTo>
                  <a:lnTo>
                    <a:pt x="2350" y="3412"/>
                  </a:lnTo>
                  <a:lnTo>
                    <a:pt x="2326" y="3420"/>
                  </a:lnTo>
                  <a:lnTo>
                    <a:pt x="2299" y="3423"/>
                  </a:lnTo>
                  <a:lnTo>
                    <a:pt x="2269" y="3417"/>
                  </a:lnTo>
                  <a:lnTo>
                    <a:pt x="2251" y="3403"/>
                  </a:lnTo>
                  <a:lnTo>
                    <a:pt x="2254" y="3385"/>
                  </a:lnTo>
                  <a:lnTo>
                    <a:pt x="2245" y="3366"/>
                  </a:lnTo>
                  <a:lnTo>
                    <a:pt x="2224" y="3375"/>
                  </a:lnTo>
                  <a:lnTo>
                    <a:pt x="2208" y="3394"/>
                  </a:lnTo>
                  <a:lnTo>
                    <a:pt x="2188" y="3400"/>
                  </a:lnTo>
                  <a:lnTo>
                    <a:pt x="2164" y="3400"/>
                  </a:lnTo>
                  <a:lnTo>
                    <a:pt x="2157" y="3418"/>
                  </a:lnTo>
                  <a:lnTo>
                    <a:pt x="2142" y="3430"/>
                  </a:lnTo>
                  <a:lnTo>
                    <a:pt x="2121" y="3430"/>
                  </a:lnTo>
                  <a:lnTo>
                    <a:pt x="2098" y="3435"/>
                  </a:lnTo>
                  <a:lnTo>
                    <a:pt x="2076" y="3438"/>
                  </a:lnTo>
                  <a:lnTo>
                    <a:pt x="2056" y="3429"/>
                  </a:lnTo>
                  <a:lnTo>
                    <a:pt x="2031" y="3408"/>
                  </a:lnTo>
                  <a:lnTo>
                    <a:pt x="2010" y="3396"/>
                  </a:lnTo>
                  <a:lnTo>
                    <a:pt x="1992" y="3414"/>
                  </a:lnTo>
                  <a:lnTo>
                    <a:pt x="1990" y="3438"/>
                  </a:lnTo>
                  <a:lnTo>
                    <a:pt x="1962" y="3432"/>
                  </a:lnTo>
                  <a:lnTo>
                    <a:pt x="1933" y="3414"/>
                  </a:lnTo>
                  <a:lnTo>
                    <a:pt x="1924" y="3438"/>
                  </a:lnTo>
                  <a:lnTo>
                    <a:pt x="1909" y="3459"/>
                  </a:lnTo>
                  <a:lnTo>
                    <a:pt x="1884" y="3468"/>
                  </a:lnTo>
                  <a:lnTo>
                    <a:pt x="1855" y="3472"/>
                  </a:lnTo>
                  <a:lnTo>
                    <a:pt x="1846" y="3493"/>
                  </a:lnTo>
                  <a:lnTo>
                    <a:pt x="1825" y="3480"/>
                  </a:lnTo>
                  <a:lnTo>
                    <a:pt x="1803" y="3475"/>
                  </a:lnTo>
                  <a:lnTo>
                    <a:pt x="1777" y="3474"/>
                  </a:lnTo>
                  <a:lnTo>
                    <a:pt x="1759" y="3471"/>
                  </a:lnTo>
                  <a:lnTo>
                    <a:pt x="1741" y="3478"/>
                  </a:lnTo>
                  <a:lnTo>
                    <a:pt x="1726" y="3490"/>
                  </a:lnTo>
                  <a:lnTo>
                    <a:pt x="1711" y="3480"/>
                  </a:lnTo>
                  <a:lnTo>
                    <a:pt x="1714" y="3462"/>
                  </a:lnTo>
                  <a:lnTo>
                    <a:pt x="1693" y="3456"/>
                  </a:lnTo>
                  <a:lnTo>
                    <a:pt x="1675" y="3457"/>
                  </a:lnTo>
                  <a:lnTo>
                    <a:pt x="1663" y="3471"/>
                  </a:lnTo>
                  <a:lnTo>
                    <a:pt x="1663" y="3486"/>
                  </a:lnTo>
                  <a:lnTo>
                    <a:pt x="1662" y="3505"/>
                  </a:lnTo>
                  <a:lnTo>
                    <a:pt x="1653" y="3489"/>
                  </a:lnTo>
                  <a:lnTo>
                    <a:pt x="1632" y="3484"/>
                  </a:lnTo>
                  <a:lnTo>
                    <a:pt x="1618" y="3501"/>
                  </a:lnTo>
                  <a:lnTo>
                    <a:pt x="1596" y="3523"/>
                  </a:lnTo>
                  <a:lnTo>
                    <a:pt x="1584" y="3549"/>
                  </a:lnTo>
                  <a:lnTo>
                    <a:pt x="1581" y="3571"/>
                  </a:lnTo>
                  <a:lnTo>
                    <a:pt x="1578" y="3589"/>
                  </a:lnTo>
                  <a:lnTo>
                    <a:pt x="1591" y="3606"/>
                  </a:lnTo>
                  <a:lnTo>
                    <a:pt x="1570" y="3613"/>
                  </a:lnTo>
                  <a:lnTo>
                    <a:pt x="1551" y="3624"/>
                  </a:lnTo>
                  <a:lnTo>
                    <a:pt x="1525" y="3625"/>
                  </a:lnTo>
                  <a:lnTo>
                    <a:pt x="1513" y="3601"/>
                  </a:lnTo>
                  <a:lnTo>
                    <a:pt x="1512" y="3582"/>
                  </a:lnTo>
                  <a:lnTo>
                    <a:pt x="1501" y="3564"/>
                  </a:lnTo>
                  <a:lnTo>
                    <a:pt x="1486" y="3546"/>
                  </a:lnTo>
                  <a:lnTo>
                    <a:pt x="1468" y="3528"/>
                  </a:lnTo>
                  <a:lnTo>
                    <a:pt x="1441" y="3520"/>
                  </a:lnTo>
                  <a:lnTo>
                    <a:pt x="1423" y="3535"/>
                  </a:lnTo>
                  <a:lnTo>
                    <a:pt x="1398" y="3550"/>
                  </a:lnTo>
                  <a:lnTo>
                    <a:pt x="1386" y="3571"/>
                  </a:lnTo>
                  <a:lnTo>
                    <a:pt x="1363" y="3570"/>
                  </a:lnTo>
                  <a:lnTo>
                    <a:pt x="1344" y="3589"/>
                  </a:lnTo>
                  <a:lnTo>
                    <a:pt x="1318" y="3589"/>
                  </a:lnTo>
                  <a:lnTo>
                    <a:pt x="1302" y="3601"/>
                  </a:lnTo>
                  <a:lnTo>
                    <a:pt x="1288" y="3621"/>
                  </a:lnTo>
                  <a:lnTo>
                    <a:pt x="1267" y="3613"/>
                  </a:lnTo>
                  <a:lnTo>
                    <a:pt x="1255" y="3627"/>
                  </a:lnTo>
                  <a:lnTo>
                    <a:pt x="1228" y="3622"/>
                  </a:lnTo>
                  <a:lnTo>
                    <a:pt x="1222" y="3646"/>
                  </a:lnTo>
                  <a:lnTo>
                    <a:pt x="1204" y="3651"/>
                  </a:lnTo>
                  <a:lnTo>
                    <a:pt x="1210" y="3667"/>
                  </a:lnTo>
                  <a:lnTo>
                    <a:pt x="1200" y="3679"/>
                  </a:lnTo>
                  <a:lnTo>
                    <a:pt x="1197" y="3705"/>
                  </a:lnTo>
                  <a:lnTo>
                    <a:pt x="1198" y="3724"/>
                  </a:lnTo>
                  <a:lnTo>
                    <a:pt x="1210" y="3739"/>
                  </a:lnTo>
                  <a:lnTo>
                    <a:pt x="1200" y="3754"/>
                  </a:lnTo>
                  <a:lnTo>
                    <a:pt x="1216" y="3771"/>
                  </a:lnTo>
                  <a:lnTo>
                    <a:pt x="1206" y="3775"/>
                  </a:lnTo>
                  <a:lnTo>
                    <a:pt x="1200" y="3795"/>
                  </a:lnTo>
                  <a:lnTo>
                    <a:pt x="1212" y="3808"/>
                  </a:lnTo>
                  <a:lnTo>
                    <a:pt x="1200" y="3820"/>
                  </a:lnTo>
                  <a:lnTo>
                    <a:pt x="1180" y="3828"/>
                  </a:lnTo>
                  <a:lnTo>
                    <a:pt x="1165" y="3838"/>
                  </a:lnTo>
                  <a:lnTo>
                    <a:pt x="1150" y="3856"/>
                  </a:lnTo>
                  <a:lnTo>
                    <a:pt x="1128" y="3870"/>
                  </a:lnTo>
                  <a:lnTo>
                    <a:pt x="1110" y="3879"/>
                  </a:lnTo>
                  <a:lnTo>
                    <a:pt x="1084" y="3877"/>
                  </a:lnTo>
                  <a:lnTo>
                    <a:pt x="1077" y="3856"/>
                  </a:lnTo>
                  <a:lnTo>
                    <a:pt x="1081" y="3841"/>
                  </a:lnTo>
                  <a:lnTo>
                    <a:pt x="1074" y="3826"/>
                  </a:lnTo>
                  <a:lnTo>
                    <a:pt x="1083" y="3813"/>
                  </a:lnTo>
                  <a:lnTo>
                    <a:pt x="1101" y="3810"/>
                  </a:lnTo>
                  <a:lnTo>
                    <a:pt x="1089" y="3792"/>
                  </a:lnTo>
                  <a:lnTo>
                    <a:pt x="1095" y="3766"/>
                  </a:lnTo>
                  <a:lnTo>
                    <a:pt x="1111" y="3759"/>
                  </a:lnTo>
                  <a:lnTo>
                    <a:pt x="1120" y="3744"/>
                  </a:lnTo>
                  <a:lnTo>
                    <a:pt x="1116" y="3718"/>
                  </a:lnTo>
                  <a:lnTo>
                    <a:pt x="1104" y="3702"/>
                  </a:lnTo>
                  <a:lnTo>
                    <a:pt x="1105" y="3673"/>
                  </a:lnTo>
                  <a:lnTo>
                    <a:pt x="1090" y="3642"/>
                  </a:lnTo>
                  <a:lnTo>
                    <a:pt x="1077" y="3624"/>
                  </a:lnTo>
                  <a:lnTo>
                    <a:pt x="1080" y="3604"/>
                  </a:lnTo>
                  <a:lnTo>
                    <a:pt x="1078" y="3583"/>
                  </a:lnTo>
                  <a:lnTo>
                    <a:pt x="1065" y="3561"/>
                  </a:lnTo>
                  <a:lnTo>
                    <a:pt x="1050" y="3531"/>
                  </a:lnTo>
                  <a:lnTo>
                    <a:pt x="1050" y="3502"/>
                  </a:lnTo>
                  <a:lnTo>
                    <a:pt x="1038" y="3493"/>
                  </a:lnTo>
                  <a:lnTo>
                    <a:pt x="1033" y="3477"/>
                  </a:lnTo>
                  <a:lnTo>
                    <a:pt x="1018" y="3460"/>
                  </a:lnTo>
                  <a:lnTo>
                    <a:pt x="999" y="3448"/>
                  </a:lnTo>
                  <a:lnTo>
                    <a:pt x="975" y="3447"/>
                  </a:lnTo>
                  <a:lnTo>
                    <a:pt x="960" y="3426"/>
                  </a:lnTo>
                  <a:lnTo>
                    <a:pt x="934" y="3423"/>
                  </a:lnTo>
                  <a:lnTo>
                    <a:pt x="925" y="3403"/>
                  </a:lnTo>
                  <a:lnTo>
                    <a:pt x="901" y="3414"/>
                  </a:lnTo>
                  <a:lnTo>
                    <a:pt x="885" y="3414"/>
                  </a:lnTo>
                  <a:lnTo>
                    <a:pt x="865" y="3412"/>
                  </a:lnTo>
                  <a:lnTo>
                    <a:pt x="862" y="3391"/>
                  </a:lnTo>
                  <a:lnTo>
                    <a:pt x="864" y="3373"/>
                  </a:lnTo>
                  <a:lnTo>
                    <a:pt x="858" y="3352"/>
                  </a:lnTo>
                  <a:lnTo>
                    <a:pt x="844" y="3337"/>
                  </a:lnTo>
                  <a:lnTo>
                    <a:pt x="853" y="3327"/>
                  </a:lnTo>
                  <a:lnTo>
                    <a:pt x="835" y="3295"/>
                  </a:lnTo>
                  <a:lnTo>
                    <a:pt x="834" y="3268"/>
                  </a:lnTo>
                  <a:lnTo>
                    <a:pt x="814" y="3258"/>
                  </a:lnTo>
                  <a:lnTo>
                    <a:pt x="817" y="3235"/>
                  </a:lnTo>
                  <a:lnTo>
                    <a:pt x="790" y="3226"/>
                  </a:lnTo>
                  <a:lnTo>
                    <a:pt x="769" y="3232"/>
                  </a:lnTo>
                  <a:lnTo>
                    <a:pt x="769" y="3214"/>
                  </a:lnTo>
                  <a:lnTo>
                    <a:pt x="753" y="3193"/>
                  </a:lnTo>
                  <a:lnTo>
                    <a:pt x="762" y="3171"/>
                  </a:lnTo>
                  <a:lnTo>
                    <a:pt x="753" y="3154"/>
                  </a:lnTo>
                  <a:lnTo>
                    <a:pt x="762" y="3135"/>
                  </a:lnTo>
                  <a:lnTo>
                    <a:pt x="778" y="3112"/>
                  </a:lnTo>
                  <a:lnTo>
                    <a:pt x="766" y="3097"/>
                  </a:lnTo>
                  <a:lnTo>
                    <a:pt x="748" y="3084"/>
                  </a:lnTo>
                  <a:lnTo>
                    <a:pt x="736" y="3075"/>
                  </a:lnTo>
                  <a:lnTo>
                    <a:pt x="718" y="3043"/>
                  </a:lnTo>
                  <a:lnTo>
                    <a:pt x="724" y="3025"/>
                  </a:lnTo>
                  <a:lnTo>
                    <a:pt x="744" y="3007"/>
                  </a:lnTo>
                  <a:lnTo>
                    <a:pt x="765" y="3018"/>
                  </a:lnTo>
                  <a:lnTo>
                    <a:pt x="786" y="3030"/>
                  </a:lnTo>
                  <a:lnTo>
                    <a:pt x="811" y="3030"/>
                  </a:lnTo>
                  <a:lnTo>
                    <a:pt x="826" y="3042"/>
                  </a:lnTo>
                  <a:lnTo>
                    <a:pt x="855" y="3030"/>
                  </a:lnTo>
                  <a:lnTo>
                    <a:pt x="880" y="3022"/>
                  </a:lnTo>
                  <a:lnTo>
                    <a:pt x="871" y="2989"/>
                  </a:lnTo>
                  <a:lnTo>
                    <a:pt x="891" y="2976"/>
                  </a:lnTo>
                  <a:lnTo>
                    <a:pt x="901" y="2962"/>
                  </a:lnTo>
                  <a:lnTo>
                    <a:pt x="930" y="2962"/>
                  </a:lnTo>
                  <a:lnTo>
                    <a:pt x="945" y="2959"/>
                  </a:lnTo>
                  <a:lnTo>
                    <a:pt x="934" y="2938"/>
                  </a:lnTo>
                  <a:lnTo>
                    <a:pt x="940" y="2916"/>
                  </a:lnTo>
                  <a:lnTo>
                    <a:pt x="924" y="2896"/>
                  </a:lnTo>
                  <a:lnTo>
                    <a:pt x="901" y="2887"/>
                  </a:lnTo>
                  <a:lnTo>
                    <a:pt x="877" y="2881"/>
                  </a:lnTo>
                  <a:lnTo>
                    <a:pt x="852" y="2866"/>
                  </a:lnTo>
                  <a:lnTo>
                    <a:pt x="826" y="2850"/>
                  </a:lnTo>
                  <a:lnTo>
                    <a:pt x="802" y="2823"/>
                  </a:lnTo>
                  <a:lnTo>
                    <a:pt x="781" y="2844"/>
                  </a:lnTo>
                  <a:lnTo>
                    <a:pt x="756" y="2815"/>
                  </a:lnTo>
                  <a:lnTo>
                    <a:pt x="739" y="2790"/>
                  </a:lnTo>
                  <a:lnTo>
                    <a:pt x="717" y="2782"/>
                  </a:lnTo>
                  <a:lnTo>
                    <a:pt x="694" y="2760"/>
                  </a:lnTo>
                  <a:lnTo>
                    <a:pt x="696" y="2740"/>
                  </a:lnTo>
                  <a:lnTo>
                    <a:pt x="681" y="2710"/>
                  </a:lnTo>
                  <a:lnTo>
                    <a:pt x="663" y="2724"/>
                  </a:lnTo>
                  <a:lnTo>
                    <a:pt x="646" y="2742"/>
                  </a:lnTo>
                  <a:lnTo>
                    <a:pt x="637" y="2731"/>
                  </a:lnTo>
                  <a:lnTo>
                    <a:pt x="625" y="2710"/>
                  </a:lnTo>
                  <a:lnTo>
                    <a:pt x="610" y="2722"/>
                  </a:lnTo>
                  <a:lnTo>
                    <a:pt x="592" y="2724"/>
                  </a:lnTo>
                  <a:lnTo>
                    <a:pt x="586" y="2698"/>
                  </a:lnTo>
                  <a:lnTo>
                    <a:pt x="558" y="2697"/>
                  </a:lnTo>
                  <a:lnTo>
                    <a:pt x="556" y="2671"/>
                  </a:lnTo>
                  <a:lnTo>
                    <a:pt x="531" y="2671"/>
                  </a:lnTo>
                  <a:lnTo>
                    <a:pt x="513" y="2655"/>
                  </a:lnTo>
                  <a:lnTo>
                    <a:pt x="490" y="2652"/>
                  </a:lnTo>
                  <a:lnTo>
                    <a:pt x="477" y="2646"/>
                  </a:lnTo>
                  <a:lnTo>
                    <a:pt x="457" y="2632"/>
                  </a:lnTo>
                  <a:lnTo>
                    <a:pt x="454" y="2604"/>
                  </a:lnTo>
                  <a:lnTo>
                    <a:pt x="433" y="2599"/>
                  </a:lnTo>
                  <a:lnTo>
                    <a:pt x="405" y="2596"/>
                  </a:lnTo>
                  <a:lnTo>
                    <a:pt x="396" y="2577"/>
                  </a:lnTo>
                  <a:lnTo>
                    <a:pt x="399" y="2553"/>
                  </a:lnTo>
                  <a:lnTo>
                    <a:pt x="393" y="2526"/>
                  </a:lnTo>
                  <a:lnTo>
                    <a:pt x="370" y="2524"/>
                  </a:lnTo>
                  <a:lnTo>
                    <a:pt x="351" y="2509"/>
                  </a:lnTo>
                  <a:lnTo>
                    <a:pt x="345" y="2487"/>
                  </a:lnTo>
                  <a:lnTo>
                    <a:pt x="345" y="2466"/>
                  </a:lnTo>
                  <a:lnTo>
                    <a:pt x="330" y="2458"/>
                  </a:lnTo>
                  <a:lnTo>
                    <a:pt x="304" y="2452"/>
                  </a:lnTo>
                  <a:lnTo>
                    <a:pt x="286" y="2436"/>
                  </a:lnTo>
                  <a:lnTo>
                    <a:pt x="264" y="2430"/>
                  </a:lnTo>
                  <a:lnTo>
                    <a:pt x="258" y="2415"/>
                  </a:lnTo>
                  <a:lnTo>
                    <a:pt x="231" y="2409"/>
                  </a:lnTo>
                  <a:lnTo>
                    <a:pt x="205" y="2388"/>
                  </a:lnTo>
                  <a:lnTo>
                    <a:pt x="193" y="2364"/>
                  </a:lnTo>
                  <a:lnTo>
                    <a:pt x="198" y="2344"/>
                  </a:lnTo>
                  <a:lnTo>
                    <a:pt x="219" y="2340"/>
                  </a:lnTo>
                  <a:lnTo>
                    <a:pt x="214" y="2320"/>
                  </a:lnTo>
                  <a:lnTo>
                    <a:pt x="217" y="2305"/>
                  </a:lnTo>
                  <a:lnTo>
                    <a:pt x="214" y="2292"/>
                  </a:lnTo>
                  <a:lnTo>
                    <a:pt x="219" y="2278"/>
                  </a:lnTo>
                  <a:lnTo>
                    <a:pt x="235" y="2275"/>
                  </a:lnTo>
                  <a:lnTo>
                    <a:pt x="250" y="2278"/>
                  </a:lnTo>
                  <a:lnTo>
                    <a:pt x="265" y="2289"/>
                  </a:lnTo>
                  <a:lnTo>
                    <a:pt x="283" y="2281"/>
                  </a:lnTo>
                  <a:lnTo>
                    <a:pt x="297" y="2266"/>
                  </a:lnTo>
                  <a:lnTo>
                    <a:pt x="306" y="2280"/>
                  </a:lnTo>
                  <a:lnTo>
                    <a:pt x="304" y="2298"/>
                  </a:lnTo>
                  <a:lnTo>
                    <a:pt x="319" y="2307"/>
                  </a:lnTo>
                  <a:lnTo>
                    <a:pt x="340" y="2295"/>
                  </a:lnTo>
                  <a:lnTo>
                    <a:pt x="363" y="2301"/>
                  </a:lnTo>
                  <a:lnTo>
                    <a:pt x="384" y="2301"/>
                  </a:lnTo>
                  <a:lnTo>
                    <a:pt x="388" y="2283"/>
                  </a:lnTo>
                  <a:lnTo>
                    <a:pt x="376" y="2272"/>
                  </a:lnTo>
                  <a:lnTo>
                    <a:pt x="373" y="2253"/>
                  </a:lnTo>
                  <a:lnTo>
                    <a:pt x="384" y="2235"/>
                  </a:lnTo>
                  <a:lnTo>
                    <a:pt x="396" y="2235"/>
                  </a:lnTo>
                  <a:lnTo>
                    <a:pt x="408" y="2232"/>
                  </a:lnTo>
                  <a:lnTo>
                    <a:pt x="406" y="2215"/>
                  </a:lnTo>
                  <a:lnTo>
                    <a:pt x="400" y="2194"/>
                  </a:lnTo>
                  <a:lnTo>
                    <a:pt x="381" y="2176"/>
                  </a:lnTo>
                  <a:lnTo>
                    <a:pt x="372" y="2152"/>
                  </a:lnTo>
                  <a:lnTo>
                    <a:pt x="348" y="2131"/>
                  </a:lnTo>
                  <a:lnTo>
                    <a:pt x="340" y="2107"/>
                  </a:lnTo>
                  <a:lnTo>
                    <a:pt x="318" y="2106"/>
                  </a:lnTo>
                  <a:lnTo>
                    <a:pt x="304" y="2079"/>
                  </a:lnTo>
                  <a:lnTo>
                    <a:pt x="283" y="2059"/>
                  </a:lnTo>
                  <a:lnTo>
                    <a:pt x="273" y="2032"/>
                  </a:lnTo>
                  <a:lnTo>
                    <a:pt x="256" y="2007"/>
                  </a:lnTo>
                  <a:lnTo>
                    <a:pt x="240" y="1990"/>
                  </a:lnTo>
                  <a:lnTo>
                    <a:pt x="226" y="1966"/>
                  </a:lnTo>
                  <a:lnTo>
                    <a:pt x="217" y="1950"/>
                  </a:lnTo>
                  <a:lnTo>
                    <a:pt x="210" y="1932"/>
                  </a:lnTo>
                  <a:lnTo>
                    <a:pt x="216" y="1909"/>
                  </a:lnTo>
                  <a:lnTo>
                    <a:pt x="240" y="1920"/>
                  </a:lnTo>
                  <a:lnTo>
                    <a:pt x="264" y="1923"/>
                  </a:lnTo>
                  <a:lnTo>
                    <a:pt x="283" y="1936"/>
                  </a:lnTo>
                  <a:lnTo>
                    <a:pt x="303" y="1953"/>
                  </a:lnTo>
                  <a:lnTo>
                    <a:pt x="328" y="1962"/>
                  </a:lnTo>
                  <a:lnTo>
                    <a:pt x="358" y="1963"/>
                  </a:lnTo>
                  <a:lnTo>
                    <a:pt x="390" y="1965"/>
                  </a:lnTo>
                  <a:lnTo>
                    <a:pt x="414" y="1962"/>
                  </a:lnTo>
                  <a:lnTo>
                    <a:pt x="436" y="1947"/>
                  </a:lnTo>
                  <a:lnTo>
                    <a:pt x="433" y="1929"/>
                  </a:lnTo>
                  <a:lnTo>
                    <a:pt x="459" y="1923"/>
                  </a:lnTo>
                  <a:lnTo>
                    <a:pt x="474" y="1906"/>
                  </a:lnTo>
                  <a:lnTo>
                    <a:pt x="471" y="1884"/>
                  </a:lnTo>
                  <a:lnTo>
                    <a:pt x="456" y="1873"/>
                  </a:lnTo>
                  <a:lnTo>
                    <a:pt x="448" y="1884"/>
                  </a:lnTo>
                  <a:lnTo>
                    <a:pt x="433" y="1887"/>
                  </a:lnTo>
                  <a:lnTo>
                    <a:pt x="420" y="1869"/>
                  </a:lnTo>
                  <a:lnTo>
                    <a:pt x="397" y="1857"/>
                  </a:lnTo>
                  <a:lnTo>
                    <a:pt x="382" y="1837"/>
                  </a:lnTo>
                  <a:lnTo>
                    <a:pt x="372" y="1816"/>
                  </a:lnTo>
                  <a:lnTo>
                    <a:pt x="376" y="1798"/>
                  </a:lnTo>
                  <a:lnTo>
                    <a:pt x="349" y="1813"/>
                  </a:lnTo>
                  <a:lnTo>
                    <a:pt x="339" y="1800"/>
                  </a:lnTo>
                  <a:lnTo>
                    <a:pt x="328" y="1776"/>
                  </a:lnTo>
                  <a:lnTo>
                    <a:pt x="301" y="1759"/>
                  </a:lnTo>
                  <a:lnTo>
                    <a:pt x="291" y="1740"/>
                  </a:lnTo>
                  <a:lnTo>
                    <a:pt x="298" y="1720"/>
                  </a:lnTo>
                  <a:lnTo>
                    <a:pt x="285" y="1708"/>
                  </a:lnTo>
                  <a:lnTo>
                    <a:pt x="282" y="1687"/>
                  </a:lnTo>
                  <a:lnTo>
                    <a:pt x="264" y="1689"/>
                  </a:lnTo>
                  <a:lnTo>
                    <a:pt x="249" y="1681"/>
                  </a:lnTo>
                  <a:lnTo>
                    <a:pt x="234" y="1698"/>
                  </a:lnTo>
                  <a:lnTo>
                    <a:pt x="216" y="1687"/>
                  </a:lnTo>
                  <a:lnTo>
                    <a:pt x="205" y="1666"/>
                  </a:lnTo>
                  <a:lnTo>
                    <a:pt x="186" y="1677"/>
                  </a:lnTo>
                  <a:lnTo>
                    <a:pt x="174" y="1663"/>
                  </a:lnTo>
                  <a:lnTo>
                    <a:pt x="160" y="1651"/>
                  </a:lnTo>
                  <a:lnTo>
                    <a:pt x="159" y="1632"/>
                  </a:lnTo>
                  <a:lnTo>
                    <a:pt x="153" y="1620"/>
                  </a:lnTo>
                  <a:lnTo>
                    <a:pt x="144" y="1603"/>
                  </a:lnTo>
                  <a:lnTo>
                    <a:pt x="136" y="1579"/>
                  </a:lnTo>
                  <a:lnTo>
                    <a:pt x="159" y="1567"/>
                  </a:lnTo>
                  <a:lnTo>
                    <a:pt x="174" y="1552"/>
                  </a:lnTo>
                  <a:lnTo>
                    <a:pt x="162" y="1519"/>
                  </a:lnTo>
                  <a:lnTo>
                    <a:pt x="165" y="1500"/>
                  </a:lnTo>
                  <a:lnTo>
                    <a:pt x="160" y="1480"/>
                  </a:lnTo>
                  <a:lnTo>
                    <a:pt x="168" y="1462"/>
                  </a:lnTo>
                  <a:lnTo>
                    <a:pt x="195" y="1462"/>
                  </a:lnTo>
                  <a:lnTo>
                    <a:pt x="202" y="1435"/>
                  </a:lnTo>
                  <a:lnTo>
                    <a:pt x="201" y="1411"/>
                  </a:lnTo>
                  <a:lnTo>
                    <a:pt x="219" y="1393"/>
                  </a:lnTo>
                  <a:lnTo>
                    <a:pt x="219" y="1377"/>
                  </a:lnTo>
                  <a:lnTo>
                    <a:pt x="250" y="1363"/>
                  </a:lnTo>
                  <a:lnTo>
                    <a:pt x="246" y="1342"/>
                  </a:lnTo>
                  <a:lnTo>
                    <a:pt x="265" y="1330"/>
                  </a:lnTo>
                  <a:lnTo>
                    <a:pt x="285" y="1302"/>
                  </a:lnTo>
                  <a:lnTo>
                    <a:pt x="280" y="1276"/>
                  </a:lnTo>
                  <a:lnTo>
                    <a:pt x="294" y="1270"/>
                  </a:lnTo>
                  <a:lnTo>
                    <a:pt x="292" y="1254"/>
                  </a:lnTo>
                  <a:lnTo>
                    <a:pt x="276" y="1231"/>
                  </a:lnTo>
                  <a:lnTo>
                    <a:pt x="289" y="1213"/>
                  </a:lnTo>
                  <a:lnTo>
                    <a:pt x="295" y="1198"/>
                  </a:lnTo>
                  <a:lnTo>
                    <a:pt x="321" y="1194"/>
                  </a:lnTo>
                  <a:lnTo>
                    <a:pt x="310" y="1174"/>
                  </a:lnTo>
                  <a:lnTo>
                    <a:pt x="325" y="1158"/>
                  </a:lnTo>
                  <a:lnTo>
                    <a:pt x="309" y="1138"/>
                  </a:lnTo>
                  <a:lnTo>
                    <a:pt x="279" y="1119"/>
                  </a:lnTo>
                  <a:lnTo>
                    <a:pt x="249" y="1120"/>
                  </a:lnTo>
                  <a:lnTo>
                    <a:pt x="228" y="1137"/>
                  </a:lnTo>
                  <a:lnTo>
                    <a:pt x="217" y="1123"/>
                  </a:lnTo>
                  <a:lnTo>
                    <a:pt x="202" y="1104"/>
                  </a:lnTo>
                  <a:lnTo>
                    <a:pt x="189" y="1119"/>
                  </a:lnTo>
                  <a:lnTo>
                    <a:pt x="169" y="1129"/>
                  </a:lnTo>
                  <a:lnTo>
                    <a:pt x="142" y="1140"/>
                  </a:lnTo>
                  <a:lnTo>
                    <a:pt x="124" y="1158"/>
                  </a:lnTo>
                  <a:lnTo>
                    <a:pt x="94" y="1167"/>
                  </a:lnTo>
                  <a:lnTo>
                    <a:pt x="148" y="1141"/>
                  </a:lnTo>
                  <a:lnTo>
                    <a:pt x="199" y="1110"/>
                  </a:lnTo>
                  <a:lnTo>
                    <a:pt x="180" y="1125"/>
                  </a:lnTo>
                  <a:lnTo>
                    <a:pt x="157" y="1137"/>
                  </a:lnTo>
                  <a:lnTo>
                    <a:pt x="141" y="1147"/>
                  </a:lnTo>
                  <a:lnTo>
                    <a:pt x="133" y="1152"/>
                  </a:lnTo>
                  <a:lnTo>
                    <a:pt x="114" y="1161"/>
                  </a:lnTo>
                  <a:lnTo>
                    <a:pt x="105" y="1162"/>
                  </a:lnTo>
                  <a:lnTo>
                    <a:pt x="91" y="1159"/>
                  </a:lnTo>
                  <a:lnTo>
                    <a:pt x="90" y="1153"/>
                  </a:lnTo>
                  <a:lnTo>
                    <a:pt x="87" y="1143"/>
                  </a:lnTo>
                  <a:lnTo>
                    <a:pt x="81" y="1129"/>
                  </a:lnTo>
                  <a:lnTo>
                    <a:pt x="76" y="1114"/>
                  </a:lnTo>
                  <a:lnTo>
                    <a:pt x="91" y="1110"/>
                  </a:lnTo>
                  <a:lnTo>
                    <a:pt x="109" y="1108"/>
                  </a:lnTo>
                  <a:lnTo>
                    <a:pt x="121" y="1113"/>
                  </a:lnTo>
                  <a:lnTo>
                    <a:pt x="142" y="1119"/>
                  </a:lnTo>
                  <a:lnTo>
                    <a:pt x="142" y="1108"/>
                  </a:lnTo>
                  <a:lnTo>
                    <a:pt x="162" y="1098"/>
                  </a:lnTo>
                  <a:lnTo>
                    <a:pt x="187" y="1092"/>
                  </a:lnTo>
                  <a:lnTo>
                    <a:pt x="184" y="1071"/>
                  </a:lnTo>
                  <a:lnTo>
                    <a:pt x="171" y="1053"/>
                  </a:lnTo>
                  <a:lnTo>
                    <a:pt x="151" y="1063"/>
                  </a:lnTo>
                  <a:lnTo>
                    <a:pt x="127" y="1057"/>
                  </a:lnTo>
                  <a:lnTo>
                    <a:pt x="147" y="1044"/>
                  </a:lnTo>
                  <a:lnTo>
                    <a:pt x="157" y="1026"/>
                  </a:lnTo>
                  <a:lnTo>
                    <a:pt x="159" y="1002"/>
                  </a:lnTo>
                  <a:lnTo>
                    <a:pt x="159" y="970"/>
                  </a:lnTo>
                  <a:lnTo>
                    <a:pt x="150" y="948"/>
                  </a:lnTo>
                  <a:lnTo>
                    <a:pt x="142" y="931"/>
                  </a:lnTo>
                  <a:lnTo>
                    <a:pt x="145" y="912"/>
                  </a:lnTo>
                  <a:lnTo>
                    <a:pt x="175" y="919"/>
                  </a:lnTo>
                  <a:lnTo>
                    <a:pt x="196" y="910"/>
                  </a:lnTo>
                  <a:lnTo>
                    <a:pt x="205" y="895"/>
                  </a:lnTo>
                  <a:lnTo>
                    <a:pt x="204" y="874"/>
                  </a:lnTo>
                  <a:lnTo>
                    <a:pt x="207" y="858"/>
                  </a:lnTo>
                  <a:lnTo>
                    <a:pt x="226" y="874"/>
                  </a:lnTo>
                  <a:lnTo>
                    <a:pt x="244" y="886"/>
                  </a:lnTo>
                  <a:lnTo>
                    <a:pt x="268" y="892"/>
                  </a:lnTo>
                  <a:lnTo>
                    <a:pt x="274" y="874"/>
                  </a:lnTo>
                  <a:lnTo>
                    <a:pt x="282" y="853"/>
                  </a:lnTo>
                  <a:lnTo>
                    <a:pt x="304" y="859"/>
                  </a:lnTo>
                  <a:lnTo>
                    <a:pt x="307" y="883"/>
                  </a:lnTo>
                  <a:lnTo>
                    <a:pt x="321" y="900"/>
                  </a:lnTo>
                  <a:lnTo>
                    <a:pt x="345" y="898"/>
                  </a:lnTo>
                  <a:lnTo>
                    <a:pt x="370" y="895"/>
                  </a:lnTo>
                  <a:lnTo>
                    <a:pt x="381" y="874"/>
                  </a:lnTo>
                  <a:lnTo>
                    <a:pt x="376" y="855"/>
                  </a:lnTo>
                  <a:lnTo>
                    <a:pt x="358" y="838"/>
                  </a:lnTo>
                  <a:lnTo>
                    <a:pt x="331" y="840"/>
                  </a:lnTo>
                  <a:lnTo>
                    <a:pt x="303" y="838"/>
                  </a:lnTo>
                  <a:lnTo>
                    <a:pt x="273" y="835"/>
                  </a:lnTo>
                  <a:lnTo>
                    <a:pt x="250" y="823"/>
                  </a:lnTo>
                  <a:lnTo>
                    <a:pt x="229" y="810"/>
                  </a:lnTo>
                  <a:lnTo>
                    <a:pt x="204" y="802"/>
                  </a:lnTo>
                  <a:lnTo>
                    <a:pt x="192" y="795"/>
                  </a:lnTo>
                  <a:lnTo>
                    <a:pt x="171" y="783"/>
                  </a:lnTo>
                  <a:lnTo>
                    <a:pt x="159" y="762"/>
                  </a:lnTo>
                  <a:lnTo>
                    <a:pt x="147" y="735"/>
                  </a:lnTo>
                  <a:lnTo>
                    <a:pt x="117" y="729"/>
                  </a:lnTo>
                  <a:lnTo>
                    <a:pt x="96" y="723"/>
                  </a:lnTo>
                  <a:lnTo>
                    <a:pt x="79" y="702"/>
                  </a:lnTo>
                  <a:lnTo>
                    <a:pt x="84" y="678"/>
                  </a:lnTo>
                  <a:lnTo>
                    <a:pt x="111" y="678"/>
                  </a:lnTo>
                  <a:lnTo>
                    <a:pt x="120" y="663"/>
                  </a:lnTo>
                  <a:lnTo>
                    <a:pt x="97" y="649"/>
                  </a:lnTo>
                  <a:lnTo>
                    <a:pt x="99" y="621"/>
                  </a:lnTo>
                  <a:lnTo>
                    <a:pt x="105" y="600"/>
                  </a:lnTo>
                  <a:lnTo>
                    <a:pt x="132" y="609"/>
                  </a:lnTo>
                  <a:lnTo>
                    <a:pt x="151" y="607"/>
                  </a:lnTo>
                  <a:lnTo>
                    <a:pt x="168" y="595"/>
                  </a:lnTo>
                  <a:lnTo>
                    <a:pt x="165" y="571"/>
                  </a:lnTo>
                  <a:lnTo>
                    <a:pt x="142" y="567"/>
                  </a:lnTo>
                  <a:lnTo>
                    <a:pt x="127" y="552"/>
                  </a:lnTo>
                  <a:lnTo>
                    <a:pt x="94" y="561"/>
                  </a:lnTo>
                  <a:lnTo>
                    <a:pt x="60" y="562"/>
                  </a:lnTo>
                  <a:lnTo>
                    <a:pt x="34" y="550"/>
                  </a:lnTo>
                  <a:lnTo>
                    <a:pt x="21" y="532"/>
                  </a:lnTo>
                  <a:lnTo>
                    <a:pt x="24" y="514"/>
                  </a:lnTo>
                  <a:lnTo>
                    <a:pt x="22" y="496"/>
                  </a:lnTo>
                  <a:lnTo>
                    <a:pt x="39" y="486"/>
                  </a:lnTo>
                  <a:lnTo>
                    <a:pt x="49" y="471"/>
                  </a:lnTo>
                  <a:lnTo>
                    <a:pt x="67" y="456"/>
                  </a:lnTo>
                  <a:lnTo>
                    <a:pt x="87" y="447"/>
                  </a:lnTo>
                  <a:lnTo>
                    <a:pt x="85" y="430"/>
                  </a:lnTo>
                  <a:lnTo>
                    <a:pt x="67" y="432"/>
                  </a:lnTo>
                  <a:lnTo>
                    <a:pt x="45" y="424"/>
                  </a:lnTo>
                  <a:lnTo>
                    <a:pt x="33" y="405"/>
                  </a:lnTo>
                  <a:lnTo>
                    <a:pt x="37" y="385"/>
                  </a:lnTo>
                  <a:lnTo>
                    <a:pt x="42" y="360"/>
                  </a:lnTo>
                  <a:lnTo>
                    <a:pt x="24" y="334"/>
                  </a:lnTo>
                  <a:lnTo>
                    <a:pt x="12" y="313"/>
                  </a:lnTo>
                  <a:lnTo>
                    <a:pt x="12" y="297"/>
                  </a:lnTo>
                  <a:lnTo>
                    <a:pt x="25" y="282"/>
                  </a:lnTo>
                  <a:lnTo>
                    <a:pt x="18" y="265"/>
                  </a:lnTo>
                  <a:lnTo>
                    <a:pt x="1" y="258"/>
                  </a:lnTo>
                  <a:lnTo>
                    <a:pt x="0" y="243"/>
                  </a:lnTo>
                  <a:lnTo>
                    <a:pt x="19" y="234"/>
                  </a:lnTo>
                  <a:lnTo>
                    <a:pt x="37" y="228"/>
                  </a:lnTo>
                  <a:lnTo>
                    <a:pt x="40" y="211"/>
                  </a:lnTo>
                  <a:lnTo>
                    <a:pt x="58" y="210"/>
                  </a:lnTo>
                  <a:lnTo>
                    <a:pt x="81" y="217"/>
                  </a:lnTo>
                  <a:lnTo>
                    <a:pt x="108" y="220"/>
                  </a:lnTo>
                  <a:lnTo>
                    <a:pt x="112" y="204"/>
                  </a:lnTo>
                  <a:lnTo>
                    <a:pt x="118" y="186"/>
                  </a:lnTo>
                  <a:lnTo>
                    <a:pt x="138" y="189"/>
                  </a:lnTo>
                  <a:lnTo>
                    <a:pt x="163" y="190"/>
                  </a:lnTo>
                  <a:lnTo>
                    <a:pt x="162" y="172"/>
                  </a:lnTo>
                  <a:lnTo>
                    <a:pt x="157" y="153"/>
                  </a:lnTo>
                  <a:lnTo>
                    <a:pt x="168" y="135"/>
                  </a:lnTo>
                  <a:lnTo>
                    <a:pt x="186" y="121"/>
                  </a:lnTo>
                  <a:lnTo>
                    <a:pt x="204" y="121"/>
                  </a:lnTo>
                  <a:lnTo>
                    <a:pt x="201" y="139"/>
                  </a:lnTo>
                  <a:lnTo>
                    <a:pt x="201" y="159"/>
                  </a:lnTo>
                  <a:lnTo>
                    <a:pt x="223" y="168"/>
                  </a:lnTo>
                  <a:lnTo>
                    <a:pt x="244" y="157"/>
                  </a:lnTo>
                  <a:lnTo>
                    <a:pt x="267" y="159"/>
                  </a:lnTo>
                  <a:lnTo>
                    <a:pt x="291" y="162"/>
                  </a:lnTo>
                  <a:lnTo>
                    <a:pt x="294" y="144"/>
                  </a:lnTo>
                  <a:lnTo>
                    <a:pt x="310" y="136"/>
                  </a:lnTo>
                  <a:lnTo>
                    <a:pt x="325" y="120"/>
                  </a:lnTo>
                  <a:lnTo>
                    <a:pt x="345" y="120"/>
                  </a:lnTo>
                  <a:lnTo>
                    <a:pt x="367" y="126"/>
                  </a:lnTo>
                  <a:lnTo>
                    <a:pt x="381" y="109"/>
                  </a:lnTo>
                  <a:lnTo>
                    <a:pt x="394" y="94"/>
                  </a:lnTo>
                  <a:lnTo>
                    <a:pt x="412" y="97"/>
                  </a:lnTo>
                  <a:lnTo>
                    <a:pt x="412" y="79"/>
                  </a:lnTo>
                  <a:lnTo>
                    <a:pt x="424" y="66"/>
                  </a:lnTo>
                  <a:lnTo>
                    <a:pt x="447" y="66"/>
                  </a:lnTo>
                  <a:lnTo>
                    <a:pt x="454" y="51"/>
                  </a:lnTo>
                  <a:lnTo>
                    <a:pt x="441" y="43"/>
                  </a:lnTo>
                  <a:lnTo>
                    <a:pt x="441" y="27"/>
                  </a:lnTo>
                  <a:lnTo>
                    <a:pt x="463" y="28"/>
                  </a:lnTo>
                  <a:lnTo>
                    <a:pt x="471" y="13"/>
                  </a:lnTo>
                  <a:lnTo>
                    <a:pt x="486" y="1"/>
                  </a:lnTo>
                  <a:lnTo>
                    <a:pt x="501" y="9"/>
                  </a:lnTo>
                  <a:lnTo>
                    <a:pt x="525" y="7"/>
                  </a:lnTo>
                  <a:lnTo>
                    <a:pt x="550" y="0"/>
                  </a:lnTo>
                  <a:lnTo>
                    <a:pt x="570" y="7"/>
                  </a:lnTo>
                  <a:lnTo>
                    <a:pt x="586" y="21"/>
                  </a:lnTo>
                  <a:lnTo>
                    <a:pt x="606" y="36"/>
                  </a:lnTo>
                  <a:lnTo>
                    <a:pt x="622" y="51"/>
                  </a:lnTo>
                  <a:lnTo>
                    <a:pt x="639" y="57"/>
                  </a:lnTo>
                  <a:lnTo>
                    <a:pt x="649" y="45"/>
                  </a:lnTo>
                  <a:lnTo>
                    <a:pt x="661" y="30"/>
                  </a:lnTo>
                  <a:lnTo>
                    <a:pt x="685" y="34"/>
                  </a:lnTo>
                  <a:lnTo>
                    <a:pt x="702" y="19"/>
                  </a:lnTo>
                  <a:lnTo>
                    <a:pt x="732" y="13"/>
                  </a:lnTo>
                  <a:lnTo>
                    <a:pt x="760" y="13"/>
                  </a:lnTo>
                  <a:lnTo>
                    <a:pt x="774" y="34"/>
                  </a:lnTo>
                  <a:lnTo>
                    <a:pt x="780" y="51"/>
                  </a:lnTo>
                  <a:lnTo>
                    <a:pt x="798" y="31"/>
                  </a:lnTo>
                  <a:lnTo>
                    <a:pt x="817" y="13"/>
                  </a:lnTo>
                  <a:lnTo>
                    <a:pt x="826" y="31"/>
                  </a:lnTo>
                  <a:lnTo>
                    <a:pt x="837" y="48"/>
                  </a:lnTo>
                  <a:lnTo>
                    <a:pt x="856" y="48"/>
                  </a:lnTo>
                  <a:lnTo>
                    <a:pt x="867" y="31"/>
                  </a:lnTo>
                  <a:lnTo>
                    <a:pt x="882" y="42"/>
                  </a:lnTo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000000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8" name=""/>
            <p:cNvGraphicFramePr/>
            <p:nvPr/>
          </p:nvGraphicFramePr>
          <p:xfrm>
            <a:off x="152280" y="73080"/>
            <a:ext cx="8991720" cy="6710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280" y="73080"/>
                      <a:ext cx="8991720" cy="671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0" name=""/>
            <p:cNvSpPr/>
            <p:nvPr/>
          </p:nvSpPr>
          <p:spPr>
            <a:xfrm>
              <a:off x="4049640" y="4627440"/>
              <a:ext cx="4930920" cy="1454760"/>
            </a:xfrm>
            <a:prstGeom prst="roundRect">
              <a:avLst>
                <a:gd name="adj" fmla="val 16667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 u="sng">
                  <a:solidFill>
                    <a:srgbClr val="ffffff"/>
                  </a:solidFill>
                  <a:uFillTx/>
                  <a:latin typeface="Century Gothic"/>
                </a:rPr>
                <a:t>Real Estate Cadastre</a:t>
              </a:r>
              <a:br>
                <a:rPr sz="3200"/>
              </a:br>
              <a:r>
                <a:rPr b="1" i="1" lang="en-US" sz="2400" spc="-1" strike="noStrike">
                  <a:solidFill>
                    <a:srgbClr val="ffffcc"/>
                  </a:solidFill>
                  <a:latin typeface="Century Gothic"/>
                </a:rPr>
                <a:t>Registration of Small and Medium Enterpri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24080" y="60339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ccffcc"/>
                  </a:solidFill>
                  <a:latin typeface="Century Gothic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257800" y="5791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ccffcc"/>
                  </a:solidFill>
                  <a:latin typeface="Century Gothic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24080" y="5500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ccffcc"/>
                  </a:solidFill>
                  <a:latin typeface="Century Gothic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62320" y="525780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ccffcc"/>
                  </a:solidFill>
                  <a:latin typeface="Century Gothic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362320" y="49528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ccffcc"/>
                  </a:solidFill>
                  <a:latin typeface="Century Gothic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09880" y="46623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ccffcc"/>
                  </a:solidFill>
                  <a:latin typeface="Century Gothic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09880" y="4343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ccffcc"/>
                  </a:solidFill>
                  <a:latin typeface="Century Gothic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7200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ccffcc"/>
                  </a:solidFill>
                  <a:latin typeface="Century Gothic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24080" y="38242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ccffcc"/>
                  </a:solidFill>
                  <a:latin typeface="Century Gothic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09880" y="35193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ccffcc"/>
                  </a:solidFill>
                  <a:latin typeface="Century Gothic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62320" y="32767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ccffcc"/>
                  </a:solidFill>
                  <a:latin typeface="Century Gothic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62320" y="297180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ccffcc"/>
                  </a:solidFill>
                  <a:latin typeface="Century Gothic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62320" y="26668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ccffcc"/>
                  </a:solidFill>
                  <a:latin typeface="Century Gothic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62320" y="2376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ccffcc"/>
                  </a:solidFill>
                  <a:latin typeface="Century Gothic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24080" y="21337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ccffcc"/>
                  </a:solidFill>
                  <a:latin typeface="Century Gothic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72000" y="18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ccffcc"/>
                  </a:solidFill>
                  <a:latin typeface="Century Gothic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229600" y="10047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ccffcc"/>
                  </a:solidFill>
                  <a:latin typeface="Century Gothic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09880" y="12952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ccffcc"/>
                  </a:solidFill>
                  <a:latin typeface="Century Gothic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362320" y="15382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ccffcc"/>
                  </a:solidFill>
                  <a:latin typeface="Century Gothic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226200" y="208080"/>
              <a:ext cx="2635200" cy="509400"/>
            </a:xfrm>
            <a:prstGeom prst="roundRect">
              <a:avLst>
                <a:gd name="adj" fmla="val 16667"/>
              </a:avLst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 u="sng">
                  <a:solidFill>
                    <a:srgbClr val="ffffff"/>
                  </a:solidFill>
                  <a:uFillTx/>
                  <a:latin typeface="Century Gothic"/>
                </a:rPr>
                <a:t>AP VOJVODINA</a:t>
              </a:r>
              <a:r>
                <a:rPr b="1" i="1" lang="sl-SI" sz="2400" spc="-1" strike="noStrike">
                  <a:solidFill>
                    <a:srgbClr val="ffffff"/>
                  </a:solidFill>
                  <a:latin typeface="Century Gothic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114800" y="380880"/>
              <a:ext cx="1447920" cy="304920"/>
            </a:xfrm>
            <a:prstGeom prst="roundRect">
              <a:avLst>
                <a:gd name="adj" fmla="val 16667"/>
              </a:avLst>
            </a:prstGeom>
            <a:solidFill>
              <a:srgbClr val="00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99"/>
                  </a:solidFill>
                  <a:latin typeface="Century Gothic"/>
                </a:rPr>
                <a:t>No. of objec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0" y="0"/>
            <a:ext cx="9144000" cy="7273800"/>
            <a:chOff x="0" y="0"/>
            <a:chExt cx="9144000" cy="7273800"/>
          </a:xfrm>
        </p:grpSpPr>
        <p:grpSp>
          <p:nvGrpSpPr>
            <p:cNvPr id="193" name=""/>
            <p:cNvGrpSpPr/>
            <p:nvPr/>
          </p:nvGrpSpPr>
          <p:grpSpPr>
            <a:xfrm>
              <a:off x="0" y="0"/>
              <a:ext cx="9144000" cy="7273800"/>
              <a:chOff x="0" y="0"/>
              <a:chExt cx="9144000" cy="7273800"/>
            </a:xfrm>
          </p:grpSpPr>
          <p:pic>
            <p:nvPicPr>
              <p:cNvPr id="19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" name=""/>
              <p:cNvSpPr/>
              <p:nvPr/>
            </p:nvSpPr>
            <p:spPr>
              <a:xfrm>
                <a:off x="2144880" y="0"/>
                <a:ext cx="4789440" cy="6858000"/>
              </a:xfrm>
              <a:custGeom>
                <a:avLst/>
                <a:gdLst/>
                <a:ahLst/>
                <a:rect l="l" t="t" r="r" b="b"/>
                <a:pathLst>
                  <a:path w="2704" h="3879">
                    <a:moveTo>
                      <a:pt x="883" y="43"/>
                    </a:moveTo>
                    <a:lnTo>
                      <a:pt x="903" y="55"/>
                    </a:lnTo>
                    <a:lnTo>
                      <a:pt x="921" y="72"/>
                    </a:lnTo>
                    <a:lnTo>
                      <a:pt x="940" y="90"/>
                    </a:lnTo>
                    <a:lnTo>
                      <a:pt x="961" y="115"/>
                    </a:lnTo>
                    <a:lnTo>
                      <a:pt x="967" y="141"/>
                    </a:lnTo>
                    <a:lnTo>
                      <a:pt x="972" y="169"/>
                    </a:lnTo>
                    <a:lnTo>
                      <a:pt x="990" y="193"/>
                    </a:lnTo>
                    <a:lnTo>
                      <a:pt x="1014" y="213"/>
                    </a:lnTo>
                    <a:lnTo>
                      <a:pt x="1033" y="202"/>
                    </a:lnTo>
                    <a:lnTo>
                      <a:pt x="1057" y="196"/>
                    </a:lnTo>
                    <a:lnTo>
                      <a:pt x="1059" y="225"/>
                    </a:lnTo>
                    <a:lnTo>
                      <a:pt x="1063" y="252"/>
                    </a:lnTo>
                    <a:lnTo>
                      <a:pt x="1077" y="268"/>
                    </a:lnTo>
                    <a:lnTo>
                      <a:pt x="1098" y="258"/>
                    </a:lnTo>
                    <a:lnTo>
                      <a:pt x="1116" y="252"/>
                    </a:lnTo>
                    <a:lnTo>
                      <a:pt x="1119" y="273"/>
                    </a:lnTo>
                    <a:lnTo>
                      <a:pt x="1108" y="288"/>
                    </a:lnTo>
                    <a:lnTo>
                      <a:pt x="1120" y="304"/>
                    </a:lnTo>
                    <a:lnTo>
                      <a:pt x="1140" y="297"/>
                    </a:lnTo>
                    <a:lnTo>
                      <a:pt x="1156" y="307"/>
                    </a:lnTo>
                    <a:lnTo>
                      <a:pt x="1168" y="321"/>
                    </a:lnTo>
                    <a:lnTo>
                      <a:pt x="1159" y="343"/>
                    </a:lnTo>
                    <a:lnTo>
                      <a:pt x="1171" y="354"/>
                    </a:lnTo>
                    <a:lnTo>
                      <a:pt x="1191" y="361"/>
                    </a:lnTo>
                    <a:lnTo>
                      <a:pt x="1191" y="396"/>
                    </a:lnTo>
                    <a:lnTo>
                      <a:pt x="1215" y="403"/>
                    </a:lnTo>
                    <a:lnTo>
                      <a:pt x="1245" y="397"/>
                    </a:lnTo>
                    <a:lnTo>
                      <a:pt x="1243" y="372"/>
                    </a:lnTo>
                    <a:lnTo>
                      <a:pt x="1258" y="367"/>
                    </a:lnTo>
                    <a:lnTo>
                      <a:pt x="1275" y="375"/>
                    </a:lnTo>
                    <a:lnTo>
                      <a:pt x="1267" y="397"/>
                    </a:lnTo>
                    <a:lnTo>
                      <a:pt x="1257" y="412"/>
                    </a:lnTo>
                    <a:lnTo>
                      <a:pt x="1254" y="435"/>
                    </a:lnTo>
                    <a:lnTo>
                      <a:pt x="1255" y="477"/>
                    </a:lnTo>
                    <a:lnTo>
                      <a:pt x="1245" y="502"/>
                    </a:lnTo>
                    <a:lnTo>
                      <a:pt x="1234" y="522"/>
                    </a:lnTo>
                    <a:lnTo>
                      <a:pt x="1233" y="547"/>
                    </a:lnTo>
                    <a:lnTo>
                      <a:pt x="1261" y="550"/>
                    </a:lnTo>
                    <a:lnTo>
                      <a:pt x="1261" y="571"/>
                    </a:lnTo>
                    <a:lnTo>
                      <a:pt x="1272" y="589"/>
                    </a:lnTo>
                    <a:lnTo>
                      <a:pt x="1252" y="607"/>
                    </a:lnTo>
                    <a:lnTo>
                      <a:pt x="1233" y="622"/>
                    </a:lnTo>
                    <a:lnTo>
                      <a:pt x="1233" y="643"/>
                    </a:lnTo>
                    <a:lnTo>
                      <a:pt x="1267" y="642"/>
                    </a:lnTo>
                    <a:lnTo>
                      <a:pt x="1294" y="654"/>
                    </a:lnTo>
                    <a:lnTo>
                      <a:pt x="1296" y="676"/>
                    </a:lnTo>
                    <a:lnTo>
                      <a:pt x="1314" y="696"/>
                    </a:lnTo>
                    <a:lnTo>
                      <a:pt x="1332" y="708"/>
                    </a:lnTo>
                    <a:lnTo>
                      <a:pt x="1356" y="739"/>
                    </a:lnTo>
                    <a:lnTo>
                      <a:pt x="1372" y="757"/>
                    </a:lnTo>
                    <a:lnTo>
                      <a:pt x="1390" y="775"/>
                    </a:lnTo>
                    <a:lnTo>
                      <a:pt x="1411" y="771"/>
                    </a:lnTo>
                    <a:lnTo>
                      <a:pt x="1423" y="759"/>
                    </a:lnTo>
                    <a:lnTo>
                      <a:pt x="1428" y="781"/>
                    </a:lnTo>
                    <a:lnTo>
                      <a:pt x="1441" y="799"/>
                    </a:lnTo>
                    <a:lnTo>
                      <a:pt x="1455" y="793"/>
                    </a:lnTo>
                    <a:lnTo>
                      <a:pt x="1480" y="787"/>
                    </a:lnTo>
                    <a:lnTo>
                      <a:pt x="1492" y="772"/>
                    </a:lnTo>
                    <a:lnTo>
                      <a:pt x="1504" y="801"/>
                    </a:lnTo>
                    <a:lnTo>
                      <a:pt x="1516" y="822"/>
                    </a:lnTo>
                    <a:lnTo>
                      <a:pt x="1528" y="844"/>
                    </a:lnTo>
                    <a:lnTo>
                      <a:pt x="1551" y="856"/>
                    </a:lnTo>
                    <a:lnTo>
                      <a:pt x="1578" y="849"/>
                    </a:lnTo>
                    <a:lnTo>
                      <a:pt x="1605" y="861"/>
                    </a:lnTo>
                    <a:lnTo>
                      <a:pt x="1615" y="870"/>
                    </a:lnTo>
                    <a:lnTo>
                      <a:pt x="1644" y="859"/>
                    </a:lnTo>
                    <a:lnTo>
                      <a:pt x="1656" y="877"/>
                    </a:lnTo>
                    <a:lnTo>
                      <a:pt x="1677" y="883"/>
                    </a:lnTo>
                    <a:lnTo>
                      <a:pt x="1699" y="898"/>
                    </a:lnTo>
                    <a:lnTo>
                      <a:pt x="1720" y="915"/>
                    </a:lnTo>
                    <a:lnTo>
                      <a:pt x="1731" y="933"/>
                    </a:lnTo>
                    <a:lnTo>
                      <a:pt x="1716" y="942"/>
                    </a:lnTo>
                    <a:lnTo>
                      <a:pt x="1695" y="949"/>
                    </a:lnTo>
                    <a:lnTo>
                      <a:pt x="1678" y="961"/>
                    </a:lnTo>
                    <a:lnTo>
                      <a:pt x="1693" y="982"/>
                    </a:lnTo>
                    <a:lnTo>
                      <a:pt x="1684" y="1006"/>
                    </a:lnTo>
                    <a:lnTo>
                      <a:pt x="1653" y="1012"/>
                    </a:lnTo>
                    <a:lnTo>
                      <a:pt x="1627" y="1012"/>
                    </a:lnTo>
                    <a:lnTo>
                      <a:pt x="1600" y="1032"/>
                    </a:lnTo>
                    <a:lnTo>
                      <a:pt x="1594" y="1057"/>
                    </a:lnTo>
                    <a:lnTo>
                      <a:pt x="1612" y="1077"/>
                    </a:lnTo>
                    <a:lnTo>
                      <a:pt x="1639" y="1074"/>
                    </a:lnTo>
                    <a:lnTo>
                      <a:pt x="1660" y="1096"/>
                    </a:lnTo>
                    <a:lnTo>
                      <a:pt x="1687" y="1101"/>
                    </a:lnTo>
                    <a:lnTo>
                      <a:pt x="1708" y="1114"/>
                    </a:lnTo>
                    <a:lnTo>
                      <a:pt x="1734" y="1123"/>
                    </a:lnTo>
                    <a:lnTo>
                      <a:pt x="1746" y="1140"/>
                    </a:lnTo>
                    <a:lnTo>
                      <a:pt x="1740" y="1162"/>
                    </a:lnTo>
                    <a:lnTo>
                      <a:pt x="1717" y="1167"/>
                    </a:lnTo>
                    <a:lnTo>
                      <a:pt x="1696" y="1174"/>
                    </a:lnTo>
                    <a:lnTo>
                      <a:pt x="1668" y="1171"/>
                    </a:lnTo>
                    <a:lnTo>
                      <a:pt x="1636" y="1176"/>
                    </a:lnTo>
                    <a:lnTo>
                      <a:pt x="1611" y="1183"/>
                    </a:lnTo>
                    <a:lnTo>
                      <a:pt x="1609" y="1209"/>
                    </a:lnTo>
                    <a:lnTo>
                      <a:pt x="1617" y="1236"/>
                    </a:lnTo>
                    <a:lnTo>
                      <a:pt x="1614" y="1260"/>
                    </a:lnTo>
                    <a:lnTo>
                      <a:pt x="1620" y="1282"/>
                    </a:lnTo>
                    <a:lnTo>
                      <a:pt x="1641" y="1281"/>
                    </a:lnTo>
                    <a:lnTo>
                      <a:pt x="1657" y="1266"/>
                    </a:lnTo>
                    <a:lnTo>
                      <a:pt x="1678" y="1266"/>
                    </a:lnTo>
                    <a:lnTo>
                      <a:pt x="1707" y="1264"/>
                    </a:lnTo>
                    <a:lnTo>
                      <a:pt x="1732" y="1266"/>
                    </a:lnTo>
                    <a:lnTo>
                      <a:pt x="1756" y="1282"/>
                    </a:lnTo>
                    <a:lnTo>
                      <a:pt x="1770" y="1305"/>
                    </a:lnTo>
                    <a:lnTo>
                      <a:pt x="1776" y="1323"/>
                    </a:lnTo>
                    <a:lnTo>
                      <a:pt x="1768" y="1342"/>
                    </a:lnTo>
                    <a:lnTo>
                      <a:pt x="1783" y="1371"/>
                    </a:lnTo>
                    <a:lnTo>
                      <a:pt x="1816" y="1365"/>
                    </a:lnTo>
                    <a:lnTo>
                      <a:pt x="1842" y="1366"/>
                    </a:lnTo>
                    <a:lnTo>
                      <a:pt x="1875" y="1366"/>
                    </a:lnTo>
                    <a:lnTo>
                      <a:pt x="1902" y="1368"/>
                    </a:lnTo>
                    <a:lnTo>
                      <a:pt x="1930" y="1372"/>
                    </a:lnTo>
                    <a:lnTo>
                      <a:pt x="1953" y="1377"/>
                    </a:lnTo>
                    <a:lnTo>
                      <a:pt x="1987" y="1383"/>
                    </a:lnTo>
                    <a:lnTo>
                      <a:pt x="2008" y="1381"/>
                    </a:lnTo>
                    <a:lnTo>
                      <a:pt x="2023" y="1395"/>
                    </a:lnTo>
                    <a:lnTo>
                      <a:pt x="2035" y="1413"/>
                    </a:lnTo>
                    <a:lnTo>
                      <a:pt x="2041" y="1429"/>
                    </a:lnTo>
                    <a:lnTo>
                      <a:pt x="2041" y="1450"/>
                    </a:lnTo>
                    <a:lnTo>
                      <a:pt x="2047" y="1468"/>
                    </a:lnTo>
                    <a:lnTo>
                      <a:pt x="2064" y="1483"/>
                    </a:lnTo>
                    <a:lnTo>
                      <a:pt x="2073" y="1506"/>
                    </a:lnTo>
                    <a:lnTo>
                      <a:pt x="2080" y="1522"/>
                    </a:lnTo>
                    <a:lnTo>
                      <a:pt x="2095" y="1533"/>
                    </a:lnTo>
                    <a:lnTo>
                      <a:pt x="2116" y="1542"/>
                    </a:lnTo>
                    <a:lnTo>
                      <a:pt x="2139" y="1531"/>
                    </a:lnTo>
                    <a:lnTo>
                      <a:pt x="2149" y="1509"/>
                    </a:lnTo>
                    <a:lnTo>
                      <a:pt x="2172" y="1480"/>
                    </a:lnTo>
                    <a:lnTo>
                      <a:pt x="2181" y="1449"/>
                    </a:lnTo>
                    <a:lnTo>
                      <a:pt x="2193" y="1417"/>
                    </a:lnTo>
                    <a:lnTo>
                      <a:pt x="2202" y="1395"/>
                    </a:lnTo>
                    <a:lnTo>
                      <a:pt x="2215" y="1378"/>
                    </a:lnTo>
                    <a:lnTo>
                      <a:pt x="2223" y="1360"/>
                    </a:lnTo>
                    <a:lnTo>
                      <a:pt x="2244" y="1353"/>
                    </a:lnTo>
                    <a:lnTo>
                      <a:pt x="2268" y="1350"/>
                    </a:lnTo>
                    <a:lnTo>
                      <a:pt x="2287" y="1332"/>
                    </a:lnTo>
                    <a:lnTo>
                      <a:pt x="2304" y="1317"/>
                    </a:lnTo>
                    <a:lnTo>
                      <a:pt x="2323" y="1314"/>
                    </a:lnTo>
                    <a:lnTo>
                      <a:pt x="2346" y="1326"/>
                    </a:lnTo>
                    <a:lnTo>
                      <a:pt x="2359" y="1342"/>
                    </a:lnTo>
                    <a:lnTo>
                      <a:pt x="2370" y="1359"/>
                    </a:lnTo>
                    <a:lnTo>
                      <a:pt x="2394" y="1372"/>
                    </a:lnTo>
                    <a:lnTo>
                      <a:pt x="2416" y="1395"/>
                    </a:lnTo>
                    <a:lnTo>
                      <a:pt x="2436" y="1404"/>
                    </a:lnTo>
                    <a:lnTo>
                      <a:pt x="2455" y="1398"/>
                    </a:lnTo>
                    <a:lnTo>
                      <a:pt x="2482" y="1407"/>
                    </a:lnTo>
                    <a:lnTo>
                      <a:pt x="2497" y="1416"/>
                    </a:lnTo>
                    <a:lnTo>
                      <a:pt x="2514" y="1429"/>
                    </a:lnTo>
                    <a:lnTo>
                      <a:pt x="2524" y="1453"/>
                    </a:lnTo>
                    <a:lnTo>
                      <a:pt x="2521" y="1476"/>
                    </a:lnTo>
                    <a:lnTo>
                      <a:pt x="2505" y="1489"/>
                    </a:lnTo>
                    <a:lnTo>
                      <a:pt x="2473" y="1488"/>
                    </a:lnTo>
                    <a:lnTo>
                      <a:pt x="2452" y="1473"/>
                    </a:lnTo>
                    <a:lnTo>
                      <a:pt x="2431" y="1461"/>
                    </a:lnTo>
                    <a:lnTo>
                      <a:pt x="2407" y="1462"/>
                    </a:lnTo>
                    <a:lnTo>
                      <a:pt x="2391" y="1474"/>
                    </a:lnTo>
                    <a:lnTo>
                      <a:pt x="2395" y="1497"/>
                    </a:lnTo>
                    <a:lnTo>
                      <a:pt x="2386" y="1519"/>
                    </a:lnTo>
                    <a:lnTo>
                      <a:pt x="2367" y="1530"/>
                    </a:lnTo>
                    <a:lnTo>
                      <a:pt x="2343" y="1525"/>
                    </a:lnTo>
                    <a:lnTo>
                      <a:pt x="2322" y="1536"/>
                    </a:lnTo>
                    <a:lnTo>
                      <a:pt x="2338" y="1557"/>
                    </a:lnTo>
                    <a:lnTo>
                      <a:pt x="2355" y="1570"/>
                    </a:lnTo>
                    <a:lnTo>
                      <a:pt x="2352" y="1599"/>
                    </a:lnTo>
                    <a:lnTo>
                      <a:pt x="2367" y="1617"/>
                    </a:lnTo>
                    <a:lnTo>
                      <a:pt x="2367" y="1644"/>
                    </a:lnTo>
                    <a:lnTo>
                      <a:pt x="2386" y="1654"/>
                    </a:lnTo>
                    <a:lnTo>
                      <a:pt x="2400" y="1677"/>
                    </a:lnTo>
                    <a:lnTo>
                      <a:pt x="2419" y="1686"/>
                    </a:lnTo>
                    <a:lnTo>
                      <a:pt x="2445" y="1689"/>
                    </a:lnTo>
                    <a:lnTo>
                      <a:pt x="2470" y="1693"/>
                    </a:lnTo>
                    <a:lnTo>
                      <a:pt x="2479" y="1714"/>
                    </a:lnTo>
                    <a:lnTo>
                      <a:pt x="2473" y="1749"/>
                    </a:lnTo>
                    <a:lnTo>
                      <a:pt x="2454" y="1756"/>
                    </a:lnTo>
                    <a:lnTo>
                      <a:pt x="2448" y="1771"/>
                    </a:lnTo>
                    <a:lnTo>
                      <a:pt x="2460" y="1779"/>
                    </a:lnTo>
                    <a:lnTo>
                      <a:pt x="2437" y="1792"/>
                    </a:lnTo>
                    <a:lnTo>
                      <a:pt x="2431" y="1818"/>
                    </a:lnTo>
                    <a:lnTo>
                      <a:pt x="2436" y="1837"/>
                    </a:lnTo>
                    <a:lnTo>
                      <a:pt x="2437" y="1860"/>
                    </a:lnTo>
                    <a:lnTo>
                      <a:pt x="2440" y="1882"/>
                    </a:lnTo>
                    <a:lnTo>
                      <a:pt x="2416" y="1893"/>
                    </a:lnTo>
                    <a:lnTo>
                      <a:pt x="2391" y="1894"/>
                    </a:lnTo>
                    <a:lnTo>
                      <a:pt x="2373" y="1891"/>
                    </a:lnTo>
                    <a:lnTo>
                      <a:pt x="2352" y="1890"/>
                    </a:lnTo>
                    <a:lnTo>
                      <a:pt x="2343" y="1908"/>
                    </a:lnTo>
                    <a:lnTo>
                      <a:pt x="2326" y="1927"/>
                    </a:lnTo>
                    <a:lnTo>
                      <a:pt x="2307" y="1933"/>
                    </a:lnTo>
                    <a:lnTo>
                      <a:pt x="2289" y="1947"/>
                    </a:lnTo>
                    <a:lnTo>
                      <a:pt x="2269" y="1951"/>
                    </a:lnTo>
                    <a:lnTo>
                      <a:pt x="2260" y="1971"/>
                    </a:lnTo>
                    <a:lnTo>
                      <a:pt x="2262" y="1993"/>
                    </a:lnTo>
                    <a:lnTo>
                      <a:pt x="2256" y="2008"/>
                    </a:lnTo>
                    <a:lnTo>
                      <a:pt x="2259" y="2029"/>
                    </a:lnTo>
                    <a:lnTo>
                      <a:pt x="2268" y="2044"/>
                    </a:lnTo>
                    <a:lnTo>
                      <a:pt x="2283" y="2059"/>
                    </a:lnTo>
                    <a:lnTo>
                      <a:pt x="2274" y="2083"/>
                    </a:lnTo>
                    <a:lnTo>
                      <a:pt x="2263" y="2101"/>
                    </a:lnTo>
                    <a:lnTo>
                      <a:pt x="2274" y="2119"/>
                    </a:lnTo>
                    <a:lnTo>
                      <a:pt x="2283" y="2130"/>
                    </a:lnTo>
                    <a:lnTo>
                      <a:pt x="2298" y="2146"/>
                    </a:lnTo>
                    <a:lnTo>
                      <a:pt x="2295" y="2167"/>
                    </a:lnTo>
                    <a:lnTo>
                      <a:pt x="2296" y="2193"/>
                    </a:lnTo>
                    <a:lnTo>
                      <a:pt x="2310" y="2211"/>
                    </a:lnTo>
                    <a:lnTo>
                      <a:pt x="2326" y="2223"/>
                    </a:lnTo>
                    <a:lnTo>
                      <a:pt x="2347" y="2236"/>
                    </a:lnTo>
                    <a:lnTo>
                      <a:pt x="2361" y="2253"/>
                    </a:lnTo>
                    <a:lnTo>
                      <a:pt x="2355" y="2278"/>
                    </a:lnTo>
                    <a:lnTo>
                      <a:pt x="2358" y="2302"/>
                    </a:lnTo>
                    <a:lnTo>
                      <a:pt x="2356" y="2326"/>
                    </a:lnTo>
                    <a:lnTo>
                      <a:pt x="2371" y="2340"/>
                    </a:lnTo>
                    <a:lnTo>
                      <a:pt x="2368" y="2362"/>
                    </a:lnTo>
                    <a:lnTo>
                      <a:pt x="2380" y="2394"/>
                    </a:lnTo>
                    <a:lnTo>
                      <a:pt x="2401" y="2412"/>
                    </a:lnTo>
                    <a:lnTo>
                      <a:pt x="2422" y="2415"/>
                    </a:lnTo>
                    <a:lnTo>
                      <a:pt x="2428" y="2434"/>
                    </a:lnTo>
                    <a:lnTo>
                      <a:pt x="2440" y="2445"/>
                    </a:lnTo>
                    <a:lnTo>
                      <a:pt x="2455" y="2437"/>
                    </a:lnTo>
                    <a:lnTo>
                      <a:pt x="2473" y="2436"/>
                    </a:lnTo>
                    <a:lnTo>
                      <a:pt x="2476" y="2457"/>
                    </a:lnTo>
                    <a:lnTo>
                      <a:pt x="2487" y="2473"/>
                    </a:lnTo>
                    <a:lnTo>
                      <a:pt x="2512" y="2472"/>
                    </a:lnTo>
                    <a:lnTo>
                      <a:pt x="2532" y="2479"/>
                    </a:lnTo>
                    <a:lnTo>
                      <a:pt x="2542" y="2502"/>
                    </a:lnTo>
                    <a:lnTo>
                      <a:pt x="2571" y="2517"/>
                    </a:lnTo>
                    <a:lnTo>
                      <a:pt x="2590" y="2527"/>
                    </a:lnTo>
                    <a:lnTo>
                      <a:pt x="2590" y="2550"/>
                    </a:lnTo>
                    <a:lnTo>
                      <a:pt x="2592" y="2574"/>
                    </a:lnTo>
                    <a:lnTo>
                      <a:pt x="2610" y="2575"/>
                    </a:lnTo>
                    <a:lnTo>
                      <a:pt x="2611" y="2596"/>
                    </a:lnTo>
                    <a:lnTo>
                      <a:pt x="2628" y="2613"/>
                    </a:lnTo>
                    <a:lnTo>
                      <a:pt x="2644" y="2629"/>
                    </a:lnTo>
                    <a:lnTo>
                      <a:pt x="2670" y="2631"/>
                    </a:lnTo>
                    <a:lnTo>
                      <a:pt x="2695" y="2635"/>
                    </a:lnTo>
                    <a:lnTo>
                      <a:pt x="2704" y="2646"/>
                    </a:lnTo>
                    <a:lnTo>
                      <a:pt x="2700" y="2671"/>
                    </a:lnTo>
                    <a:lnTo>
                      <a:pt x="2704" y="2698"/>
                    </a:lnTo>
                    <a:lnTo>
                      <a:pt x="2689" y="2718"/>
                    </a:lnTo>
                    <a:lnTo>
                      <a:pt x="2664" y="2733"/>
                    </a:lnTo>
                    <a:lnTo>
                      <a:pt x="2638" y="2757"/>
                    </a:lnTo>
                    <a:lnTo>
                      <a:pt x="2631" y="2784"/>
                    </a:lnTo>
                    <a:lnTo>
                      <a:pt x="2617" y="2803"/>
                    </a:lnTo>
                    <a:lnTo>
                      <a:pt x="2586" y="2820"/>
                    </a:lnTo>
                    <a:lnTo>
                      <a:pt x="2563" y="2832"/>
                    </a:lnTo>
                    <a:lnTo>
                      <a:pt x="2557" y="2862"/>
                    </a:lnTo>
                    <a:lnTo>
                      <a:pt x="2559" y="2892"/>
                    </a:lnTo>
                    <a:lnTo>
                      <a:pt x="2550" y="2913"/>
                    </a:lnTo>
                    <a:lnTo>
                      <a:pt x="2533" y="2920"/>
                    </a:lnTo>
                    <a:lnTo>
                      <a:pt x="2515" y="2923"/>
                    </a:lnTo>
                    <a:lnTo>
                      <a:pt x="2497" y="2935"/>
                    </a:lnTo>
                    <a:lnTo>
                      <a:pt x="2479" y="2922"/>
                    </a:lnTo>
                    <a:lnTo>
                      <a:pt x="2460" y="2917"/>
                    </a:lnTo>
                    <a:lnTo>
                      <a:pt x="2442" y="2914"/>
                    </a:lnTo>
                    <a:lnTo>
                      <a:pt x="2424" y="2916"/>
                    </a:lnTo>
                    <a:lnTo>
                      <a:pt x="2422" y="2932"/>
                    </a:lnTo>
                    <a:lnTo>
                      <a:pt x="2407" y="2932"/>
                    </a:lnTo>
                    <a:lnTo>
                      <a:pt x="2392" y="2928"/>
                    </a:lnTo>
                    <a:lnTo>
                      <a:pt x="2386" y="2946"/>
                    </a:lnTo>
                    <a:lnTo>
                      <a:pt x="2373" y="2961"/>
                    </a:lnTo>
                    <a:lnTo>
                      <a:pt x="2352" y="2964"/>
                    </a:lnTo>
                    <a:lnTo>
                      <a:pt x="2335" y="2976"/>
                    </a:lnTo>
                    <a:lnTo>
                      <a:pt x="2338" y="2997"/>
                    </a:lnTo>
                    <a:lnTo>
                      <a:pt x="2355" y="3009"/>
                    </a:lnTo>
                    <a:lnTo>
                      <a:pt x="2364" y="3028"/>
                    </a:lnTo>
                    <a:lnTo>
                      <a:pt x="2379" y="3040"/>
                    </a:lnTo>
                    <a:lnTo>
                      <a:pt x="2376" y="3058"/>
                    </a:lnTo>
                    <a:lnTo>
                      <a:pt x="2367" y="3067"/>
                    </a:lnTo>
                    <a:lnTo>
                      <a:pt x="2359" y="3084"/>
                    </a:lnTo>
                    <a:lnTo>
                      <a:pt x="2362" y="3106"/>
                    </a:lnTo>
                    <a:lnTo>
                      <a:pt x="2347" y="3120"/>
                    </a:lnTo>
                    <a:lnTo>
                      <a:pt x="2359" y="3138"/>
                    </a:lnTo>
                    <a:lnTo>
                      <a:pt x="2344" y="3153"/>
                    </a:lnTo>
                    <a:lnTo>
                      <a:pt x="2347" y="3172"/>
                    </a:lnTo>
                    <a:lnTo>
                      <a:pt x="2337" y="3196"/>
                    </a:lnTo>
                    <a:lnTo>
                      <a:pt x="2361" y="3193"/>
                    </a:lnTo>
                    <a:lnTo>
                      <a:pt x="2376" y="3207"/>
                    </a:lnTo>
                    <a:lnTo>
                      <a:pt x="2376" y="3232"/>
                    </a:lnTo>
                    <a:lnTo>
                      <a:pt x="2394" y="3228"/>
                    </a:lnTo>
                    <a:lnTo>
                      <a:pt x="2412" y="3238"/>
                    </a:lnTo>
                    <a:lnTo>
                      <a:pt x="2421" y="3258"/>
                    </a:lnTo>
                    <a:lnTo>
                      <a:pt x="2416" y="3282"/>
                    </a:lnTo>
                    <a:lnTo>
                      <a:pt x="2406" y="3303"/>
                    </a:lnTo>
                    <a:lnTo>
                      <a:pt x="2410" y="3322"/>
                    </a:lnTo>
                    <a:lnTo>
                      <a:pt x="2397" y="3333"/>
                    </a:lnTo>
                    <a:lnTo>
                      <a:pt x="2382" y="3351"/>
                    </a:lnTo>
                    <a:lnTo>
                      <a:pt x="2379" y="3363"/>
                    </a:lnTo>
                    <a:lnTo>
                      <a:pt x="2361" y="3366"/>
                    </a:lnTo>
                    <a:lnTo>
                      <a:pt x="2364" y="3382"/>
                    </a:lnTo>
                    <a:lnTo>
                      <a:pt x="2353" y="3396"/>
                    </a:lnTo>
                    <a:lnTo>
                      <a:pt x="2350" y="3412"/>
                    </a:lnTo>
                    <a:lnTo>
                      <a:pt x="2326" y="3420"/>
                    </a:lnTo>
                    <a:lnTo>
                      <a:pt x="2299" y="3423"/>
                    </a:lnTo>
                    <a:lnTo>
                      <a:pt x="2269" y="3417"/>
                    </a:lnTo>
                    <a:lnTo>
                      <a:pt x="2251" y="3403"/>
                    </a:lnTo>
                    <a:lnTo>
                      <a:pt x="2254" y="3385"/>
                    </a:lnTo>
                    <a:lnTo>
                      <a:pt x="2245" y="3366"/>
                    </a:lnTo>
                    <a:lnTo>
                      <a:pt x="2224" y="3375"/>
                    </a:lnTo>
                    <a:lnTo>
                      <a:pt x="2208" y="3394"/>
                    </a:lnTo>
                    <a:lnTo>
                      <a:pt x="2188" y="3400"/>
                    </a:lnTo>
                    <a:lnTo>
                      <a:pt x="2164" y="3400"/>
                    </a:lnTo>
                    <a:lnTo>
                      <a:pt x="2157" y="3418"/>
                    </a:lnTo>
                    <a:lnTo>
                      <a:pt x="2142" y="3430"/>
                    </a:lnTo>
                    <a:lnTo>
                      <a:pt x="2121" y="3430"/>
                    </a:lnTo>
                    <a:lnTo>
                      <a:pt x="2098" y="3435"/>
                    </a:lnTo>
                    <a:lnTo>
                      <a:pt x="2076" y="3438"/>
                    </a:lnTo>
                    <a:lnTo>
                      <a:pt x="2056" y="3429"/>
                    </a:lnTo>
                    <a:lnTo>
                      <a:pt x="2031" y="3408"/>
                    </a:lnTo>
                    <a:lnTo>
                      <a:pt x="2010" y="3396"/>
                    </a:lnTo>
                    <a:lnTo>
                      <a:pt x="1992" y="3414"/>
                    </a:lnTo>
                    <a:lnTo>
                      <a:pt x="1990" y="3438"/>
                    </a:lnTo>
                    <a:lnTo>
                      <a:pt x="1962" y="3432"/>
                    </a:lnTo>
                    <a:lnTo>
                      <a:pt x="1933" y="3414"/>
                    </a:lnTo>
                    <a:lnTo>
                      <a:pt x="1924" y="3438"/>
                    </a:lnTo>
                    <a:lnTo>
                      <a:pt x="1909" y="3459"/>
                    </a:lnTo>
                    <a:lnTo>
                      <a:pt x="1884" y="3468"/>
                    </a:lnTo>
                    <a:lnTo>
                      <a:pt x="1855" y="3472"/>
                    </a:lnTo>
                    <a:lnTo>
                      <a:pt x="1846" y="3493"/>
                    </a:lnTo>
                    <a:lnTo>
                      <a:pt x="1825" y="3480"/>
                    </a:lnTo>
                    <a:lnTo>
                      <a:pt x="1803" y="3475"/>
                    </a:lnTo>
                    <a:lnTo>
                      <a:pt x="1777" y="3474"/>
                    </a:lnTo>
                    <a:lnTo>
                      <a:pt x="1759" y="3471"/>
                    </a:lnTo>
                    <a:lnTo>
                      <a:pt x="1741" y="3478"/>
                    </a:lnTo>
                    <a:lnTo>
                      <a:pt x="1726" y="3490"/>
                    </a:lnTo>
                    <a:lnTo>
                      <a:pt x="1711" y="3480"/>
                    </a:lnTo>
                    <a:lnTo>
                      <a:pt x="1714" y="3462"/>
                    </a:lnTo>
                    <a:lnTo>
                      <a:pt x="1693" y="3456"/>
                    </a:lnTo>
                    <a:lnTo>
                      <a:pt x="1675" y="3457"/>
                    </a:lnTo>
                    <a:lnTo>
                      <a:pt x="1663" y="3471"/>
                    </a:lnTo>
                    <a:lnTo>
                      <a:pt x="1663" y="3486"/>
                    </a:lnTo>
                    <a:lnTo>
                      <a:pt x="1662" y="3505"/>
                    </a:lnTo>
                    <a:lnTo>
                      <a:pt x="1653" y="3489"/>
                    </a:lnTo>
                    <a:lnTo>
                      <a:pt x="1632" y="3484"/>
                    </a:lnTo>
                    <a:lnTo>
                      <a:pt x="1618" y="3501"/>
                    </a:lnTo>
                    <a:lnTo>
                      <a:pt x="1596" y="3523"/>
                    </a:lnTo>
                    <a:lnTo>
                      <a:pt x="1584" y="3549"/>
                    </a:lnTo>
                    <a:lnTo>
                      <a:pt x="1581" y="3571"/>
                    </a:lnTo>
                    <a:lnTo>
                      <a:pt x="1578" y="3589"/>
                    </a:lnTo>
                    <a:lnTo>
                      <a:pt x="1591" y="3606"/>
                    </a:lnTo>
                    <a:lnTo>
                      <a:pt x="1570" y="3613"/>
                    </a:lnTo>
                    <a:lnTo>
                      <a:pt x="1551" y="3624"/>
                    </a:lnTo>
                    <a:lnTo>
                      <a:pt x="1525" y="3625"/>
                    </a:lnTo>
                    <a:lnTo>
                      <a:pt x="1513" y="3601"/>
                    </a:lnTo>
                    <a:lnTo>
                      <a:pt x="1512" y="3582"/>
                    </a:lnTo>
                    <a:lnTo>
                      <a:pt x="1501" y="3564"/>
                    </a:lnTo>
                    <a:lnTo>
                      <a:pt x="1486" y="3546"/>
                    </a:lnTo>
                    <a:lnTo>
                      <a:pt x="1468" y="3528"/>
                    </a:lnTo>
                    <a:lnTo>
                      <a:pt x="1441" y="3520"/>
                    </a:lnTo>
                    <a:lnTo>
                      <a:pt x="1423" y="3535"/>
                    </a:lnTo>
                    <a:lnTo>
                      <a:pt x="1398" y="3550"/>
                    </a:lnTo>
                    <a:lnTo>
                      <a:pt x="1386" y="3571"/>
                    </a:lnTo>
                    <a:lnTo>
                      <a:pt x="1363" y="3570"/>
                    </a:lnTo>
                    <a:lnTo>
                      <a:pt x="1344" y="3589"/>
                    </a:lnTo>
                    <a:lnTo>
                      <a:pt x="1318" y="3589"/>
                    </a:lnTo>
                    <a:lnTo>
                      <a:pt x="1302" y="3601"/>
                    </a:lnTo>
                    <a:lnTo>
                      <a:pt x="1288" y="3621"/>
                    </a:lnTo>
                    <a:lnTo>
                      <a:pt x="1267" y="3613"/>
                    </a:lnTo>
                    <a:lnTo>
                      <a:pt x="1255" y="3627"/>
                    </a:lnTo>
                    <a:lnTo>
                      <a:pt x="1228" y="3622"/>
                    </a:lnTo>
                    <a:lnTo>
                      <a:pt x="1222" y="3646"/>
                    </a:lnTo>
                    <a:lnTo>
                      <a:pt x="1204" y="3651"/>
                    </a:lnTo>
                    <a:lnTo>
                      <a:pt x="1210" y="3667"/>
                    </a:lnTo>
                    <a:lnTo>
                      <a:pt x="1200" y="3679"/>
                    </a:lnTo>
                    <a:lnTo>
                      <a:pt x="1197" y="3705"/>
                    </a:lnTo>
                    <a:lnTo>
                      <a:pt x="1198" y="3724"/>
                    </a:lnTo>
                    <a:lnTo>
                      <a:pt x="1210" y="3739"/>
                    </a:lnTo>
                    <a:lnTo>
                      <a:pt x="1200" y="3754"/>
                    </a:lnTo>
                    <a:lnTo>
                      <a:pt x="1216" y="3771"/>
                    </a:lnTo>
                    <a:lnTo>
                      <a:pt x="1206" y="3775"/>
                    </a:lnTo>
                    <a:lnTo>
                      <a:pt x="1200" y="3795"/>
                    </a:lnTo>
                    <a:lnTo>
                      <a:pt x="1212" y="3808"/>
                    </a:lnTo>
                    <a:lnTo>
                      <a:pt x="1200" y="3820"/>
                    </a:lnTo>
                    <a:lnTo>
                      <a:pt x="1180" y="3828"/>
                    </a:lnTo>
                    <a:lnTo>
                      <a:pt x="1165" y="3838"/>
                    </a:lnTo>
                    <a:lnTo>
                      <a:pt x="1150" y="3856"/>
                    </a:lnTo>
                    <a:lnTo>
                      <a:pt x="1128" y="3870"/>
                    </a:lnTo>
                    <a:lnTo>
                      <a:pt x="1110" y="3879"/>
                    </a:lnTo>
                    <a:lnTo>
                      <a:pt x="1084" y="3877"/>
                    </a:lnTo>
                    <a:lnTo>
                      <a:pt x="1077" y="3856"/>
                    </a:lnTo>
                    <a:lnTo>
                      <a:pt x="1081" y="3841"/>
                    </a:lnTo>
                    <a:lnTo>
                      <a:pt x="1074" y="3826"/>
                    </a:lnTo>
                    <a:lnTo>
                      <a:pt x="1083" y="3813"/>
                    </a:lnTo>
                    <a:lnTo>
                      <a:pt x="1101" y="3810"/>
                    </a:lnTo>
                    <a:lnTo>
                      <a:pt x="1089" y="3792"/>
                    </a:lnTo>
                    <a:lnTo>
                      <a:pt x="1095" y="3766"/>
                    </a:lnTo>
                    <a:lnTo>
                      <a:pt x="1111" y="3759"/>
                    </a:lnTo>
                    <a:lnTo>
                      <a:pt x="1120" y="3744"/>
                    </a:lnTo>
                    <a:lnTo>
                      <a:pt x="1116" y="3718"/>
                    </a:lnTo>
                    <a:lnTo>
                      <a:pt x="1104" y="3702"/>
                    </a:lnTo>
                    <a:lnTo>
                      <a:pt x="1105" y="3673"/>
                    </a:lnTo>
                    <a:lnTo>
                      <a:pt x="1090" y="3642"/>
                    </a:lnTo>
                    <a:lnTo>
                      <a:pt x="1077" y="3624"/>
                    </a:lnTo>
                    <a:lnTo>
                      <a:pt x="1080" y="3604"/>
                    </a:lnTo>
                    <a:lnTo>
                      <a:pt x="1078" y="3583"/>
                    </a:lnTo>
                    <a:lnTo>
                      <a:pt x="1065" y="3561"/>
                    </a:lnTo>
                    <a:lnTo>
                      <a:pt x="1050" y="3531"/>
                    </a:lnTo>
                    <a:lnTo>
                      <a:pt x="1050" y="3502"/>
                    </a:lnTo>
                    <a:lnTo>
                      <a:pt x="1038" y="3493"/>
                    </a:lnTo>
                    <a:lnTo>
                      <a:pt x="1033" y="3477"/>
                    </a:lnTo>
                    <a:lnTo>
                      <a:pt x="1018" y="3460"/>
                    </a:lnTo>
                    <a:lnTo>
                      <a:pt x="999" y="3448"/>
                    </a:lnTo>
                    <a:lnTo>
                      <a:pt x="975" y="3447"/>
                    </a:lnTo>
                    <a:lnTo>
                      <a:pt x="960" y="3426"/>
                    </a:lnTo>
                    <a:lnTo>
                      <a:pt x="934" y="3423"/>
                    </a:lnTo>
                    <a:lnTo>
                      <a:pt x="925" y="3403"/>
                    </a:lnTo>
                    <a:lnTo>
                      <a:pt x="901" y="3414"/>
                    </a:lnTo>
                    <a:lnTo>
                      <a:pt x="885" y="3414"/>
                    </a:lnTo>
                    <a:lnTo>
                      <a:pt x="865" y="3412"/>
                    </a:lnTo>
                    <a:lnTo>
                      <a:pt x="862" y="3391"/>
                    </a:lnTo>
                    <a:lnTo>
                      <a:pt x="864" y="3373"/>
                    </a:lnTo>
                    <a:lnTo>
                      <a:pt x="858" y="3352"/>
                    </a:lnTo>
                    <a:lnTo>
                      <a:pt x="844" y="3337"/>
                    </a:lnTo>
                    <a:lnTo>
                      <a:pt x="853" y="3327"/>
                    </a:lnTo>
                    <a:lnTo>
                      <a:pt x="835" y="3295"/>
                    </a:lnTo>
                    <a:lnTo>
                      <a:pt x="834" y="3268"/>
                    </a:lnTo>
                    <a:lnTo>
                      <a:pt x="814" y="3258"/>
                    </a:lnTo>
                    <a:lnTo>
                      <a:pt x="817" y="3235"/>
                    </a:lnTo>
                    <a:lnTo>
                      <a:pt x="790" y="3226"/>
                    </a:lnTo>
                    <a:lnTo>
                      <a:pt x="769" y="3232"/>
                    </a:lnTo>
                    <a:lnTo>
                      <a:pt x="769" y="3214"/>
                    </a:lnTo>
                    <a:lnTo>
                      <a:pt x="753" y="3193"/>
                    </a:lnTo>
                    <a:lnTo>
                      <a:pt x="762" y="3171"/>
                    </a:lnTo>
                    <a:lnTo>
                      <a:pt x="753" y="3154"/>
                    </a:lnTo>
                    <a:lnTo>
                      <a:pt x="762" y="3135"/>
                    </a:lnTo>
                    <a:lnTo>
                      <a:pt x="778" y="3112"/>
                    </a:lnTo>
                    <a:lnTo>
                      <a:pt x="766" y="3097"/>
                    </a:lnTo>
                    <a:lnTo>
                      <a:pt x="748" y="3084"/>
                    </a:lnTo>
                    <a:lnTo>
                      <a:pt x="736" y="3075"/>
                    </a:lnTo>
                    <a:lnTo>
                      <a:pt x="718" y="3043"/>
                    </a:lnTo>
                    <a:lnTo>
                      <a:pt x="724" y="3025"/>
                    </a:lnTo>
                    <a:lnTo>
                      <a:pt x="744" y="3007"/>
                    </a:lnTo>
                    <a:lnTo>
                      <a:pt x="765" y="3018"/>
                    </a:lnTo>
                    <a:lnTo>
                      <a:pt x="786" y="3030"/>
                    </a:lnTo>
                    <a:lnTo>
                      <a:pt x="811" y="3030"/>
                    </a:lnTo>
                    <a:lnTo>
                      <a:pt x="826" y="3042"/>
                    </a:lnTo>
                    <a:lnTo>
                      <a:pt x="855" y="3030"/>
                    </a:lnTo>
                    <a:lnTo>
                      <a:pt x="880" y="3022"/>
                    </a:lnTo>
                    <a:lnTo>
                      <a:pt x="871" y="2989"/>
                    </a:lnTo>
                    <a:lnTo>
                      <a:pt x="891" y="2976"/>
                    </a:lnTo>
                    <a:lnTo>
                      <a:pt x="901" y="2962"/>
                    </a:lnTo>
                    <a:lnTo>
                      <a:pt x="930" y="2962"/>
                    </a:lnTo>
                    <a:lnTo>
                      <a:pt x="945" y="2959"/>
                    </a:lnTo>
                    <a:lnTo>
                      <a:pt x="934" y="2938"/>
                    </a:lnTo>
                    <a:lnTo>
                      <a:pt x="940" y="2916"/>
                    </a:lnTo>
                    <a:lnTo>
                      <a:pt x="924" y="2896"/>
                    </a:lnTo>
                    <a:lnTo>
                      <a:pt x="901" y="2887"/>
                    </a:lnTo>
                    <a:lnTo>
                      <a:pt x="877" y="2881"/>
                    </a:lnTo>
                    <a:lnTo>
                      <a:pt x="852" y="2866"/>
                    </a:lnTo>
                    <a:lnTo>
                      <a:pt x="826" y="2850"/>
                    </a:lnTo>
                    <a:lnTo>
                      <a:pt x="802" y="2823"/>
                    </a:lnTo>
                    <a:lnTo>
                      <a:pt x="781" y="2844"/>
                    </a:lnTo>
                    <a:lnTo>
                      <a:pt x="756" y="2815"/>
                    </a:lnTo>
                    <a:lnTo>
                      <a:pt x="739" y="2790"/>
                    </a:lnTo>
                    <a:lnTo>
                      <a:pt x="717" y="2782"/>
                    </a:lnTo>
                    <a:lnTo>
                      <a:pt x="694" y="2760"/>
                    </a:lnTo>
                    <a:lnTo>
                      <a:pt x="696" y="2740"/>
                    </a:lnTo>
                    <a:lnTo>
                      <a:pt x="681" y="2710"/>
                    </a:lnTo>
                    <a:lnTo>
                      <a:pt x="663" y="2724"/>
                    </a:lnTo>
                    <a:lnTo>
                      <a:pt x="646" y="2742"/>
                    </a:lnTo>
                    <a:lnTo>
                      <a:pt x="637" y="2731"/>
                    </a:lnTo>
                    <a:lnTo>
                      <a:pt x="625" y="2710"/>
                    </a:lnTo>
                    <a:lnTo>
                      <a:pt x="610" y="2722"/>
                    </a:lnTo>
                    <a:lnTo>
                      <a:pt x="592" y="2724"/>
                    </a:lnTo>
                    <a:lnTo>
                      <a:pt x="586" y="2698"/>
                    </a:lnTo>
                    <a:lnTo>
                      <a:pt x="558" y="2697"/>
                    </a:lnTo>
                    <a:lnTo>
                      <a:pt x="556" y="2671"/>
                    </a:lnTo>
                    <a:lnTo>
                      <a:pt x="531" y="2671"/>
                    </a:lnTo>
                    <a:lnTo>
                      <a:pt x="513" y="2655"/>
                    </a:lnTo>
                    <a:lnTo>
                      <a:pt x="490" y="2652"/>
                    </a:lnTo>
                    <a:lnTo>
                      <a:pt x="477" y="2646"/>
                    </a:lnTo>
                    <a:lnTo>
                      <a:pt x="457" y="2632"/>
                    </a:lnTo>
                    <a:lnTo>
                      <a:pt x="454" y="2604"/>
                    </a:lnTo>
                    <a:lnTo>
                      <a:pt x="433" y="2599"/>
                    </a:lnTo>
                    <a:lnTo>
                      <a:pt x="405" y="2596"/>
                    </a:lnTo>
                    <a:lnTo>
                      <a:pt x="396" y="2577"/>
                    </a:lnTo>
                    <a:lnTo>
                      <a:pt x="399" y="2553"/>
                    </a:lnTo>
                    <a:lnTo>
                      <a:pt x="393" y="2526"/>
                    </a:lnTo>
                    <a:lnTo>
                      <a:pt x="370" y="2524"/>
                    </a:lnTo>
                    <a:lnTo>
                      <a:pt x="351" y="2509"/>
                    </a:lnTo>
                    <a:lnTo>
                      <a:pt x="345" y="2487"/>
                    </a:lnTo>
                    <a:lnTo>
                      <a:pt x="345" y="2466"/>
                    </a:lnTo>
                    <a:lnTo>
                      <a:pt x="330" y="2458"/>
                    </a:lnTo>
                    <a:lnTo>
                      <a:pt x="304" y="2452"/>
                    </a:lnTo>
                    <a:lnTo>
                      <a:pt x="286" y="2436"/>
                    </a:lnTo>
                    <a:lnTo>
                      <a:pt x="264" y="2430"/>
                    </a:lnTo>
                    <a:lnTo>
                      <a:pt x="258" y="2415"/>
                    </a:lnTo>
                    <a:lnTo>
                      <a:pt x="231" y="2409"/>
                    </a:lnTo>
                    <a:lnTo>
                      <a:pt x="205" y="2388"/>
                    </a:lnTo>
                    <a:lnTo>
                      <a:pt x="193" y="2364"/>
                    </a:lnTo>
                    <a:lnTo>
                      <a:pt x="198" y="2344"/>
                    </a:lnTo>
                    <a:lnTo>
                      <a:pt x="219" y="2340"/>
                    </a:lnTo>
                    <a:lnTo>
                      <a:pt x="214" y="2320"/>
                    </a:lnTo>
                    <a:lnTo>
                      <a:pt x="217" y="2305"/>
                    </a:lnTo>
                    <a:lnTo>
                      <a:pt x="214" y="2292"/>
                    </a:lnTo>
                    <a:lnTo>
                      <a:pt x="219" y="2278"/>
                    </a:lnTo>
                    <a:lnTo>
                      <a:pt x="235" y="2275"/>
                    </a:lnTo>
                    <a:lnTo>
                      <a:pt x="250" y="2278"/>
                    </a:lnTo>
                    <a:lnTo>
                      <a:pt x="265" y="2289"/>
                    </a:lnTo>
                    <a:lnTo>
                      <a:pt x="283" y="2281"/>
                    </a:lnTo>
                    <a:lnTo>
                      <a:pt x="297" y="2266"/>
                    </a:lnTo>
                    <a:lnTo>
                      <a:pt x="306" y="2280"/>
                    </a:lnTo>
                    <a:lnTo>
                      <a:pt x="304" y="2298"/>
                    </a:lnTo>
                    <a:lnTo>
                      <a:pt x="319" y="2307"/>
                    </a:lnTo>
                    <a:lnTo>
                      <a:pt x="340" y="2295"/>
                    </a:lnTo>
                    <a:lnTo>
                      <a:pt x="363" y="2301"/>
                    </a:lnTo>
                    <a:lnTo>
                      <a:pt x="384" y="2301"/>
                    </a:lnTo>
                    <a:lnTo>
                      <a:pt x="388" y="2283"/>
                    </a:lnTo>
                    <a:lnTo>
                      <a:pt x="376" y="2272"/>
                    </a:lnTo>
                    <a:lnTo>
                      <a:pt x="373" y="2253"/>
                    </a:lnTo>
                    <a:lnTo>
                      <a:pt x="384" y="2235"/>
                    </a:lnTo>
                    <a:lnTo>
                      <a:pt x="396" y="2235"/>
                    </a:lnTo>
                    <a:lnTo>
                      <a:pt x="408" y="2232"/>
                    </a:lnTo>
                    <a:lnTo>
                      <a:pt x="406" y="2215"/>
                    </a:lnTo>
                    <a:lnTo>
                      <a:pt x="400" y="2194"/>
                    </a:lnTo>
                    <a:lnTo>
                      <a:pt x="381" y="2176"/>
                    </a:lnTo>
                    <a:lnTo>
                      <a:pt x="372" y="2152"/>
                    </a:lnTo>
                    <a:lnTo>
                      <a:pt x="348" y="2131"/>
                    </a:lnTo>
                    <a:lnTo>
                      <a:pt x="340" y="2107"/>
                    </a:lnTo>
                    <a:lnTo>
                      <a:pt x="318" y="2106"/>
                    </a:lnTo>
                    <a:lnTo>
                      <a:pt x="304" y="2079"/>
                    </a:lnTo>
                    <a:lnTo>
                      <a:pt x="283" y="2059"/>
                    </a:lnTo>
                    <a:lnTo>
                      <a:pt x="273" y="2032"/>
                    </a:lnTo>
                    <a:lnTo>
                      <a:pt x="256" y="2007"/>
                    </a:lnTo>
                    <a:lnTo>
                      <a:pt x="240" y="1990"/>
                    </a:lnTo>
                    <a:lnTo>
                      <a:pt x="226" y="1966"/>
                    </a:lnTo>
                    <a:lnTo>
                      <a:pt x="217" y="1950"/>
                    </a:lnTo>
                    <a:lnTo>
                      <a:pt x="210" y="1932"/>
                    </a:lnTo>
                    <a:lnTo>
                      <a:pt x="216" y="1909"/>
                    </a:lnTo>
                    <a:lnTo>
                      <a:pt x="240" y="1920"/>
                    </a:lnTo>
                    <a:lnTo>
                      <a:pt x="264" y="1923"/>
                    </a:lnTo>
                    <a:lnTo>
                      <a:pt x="283" y="1936"/>
                    </a:lnTo>
                    <a:lnTo>
                      <a:pt x="303" y="1953"/>
                    </a:lnTo>
                    <a:lnTo>
                      <a:pt x="328" y="1962"/>
                    </a:lnTo>
                    <a:lnTo>
                      <a:pt x="358" y="1963"/>
                    </a:lnTo>
                    <a:lnTo>
                      <a:pt x="390" y="1965"/>
                    </a:lnTo>
                    <a:lnTo>
                      <a:pt x="414" y="1962"/>
                    </a:lnTo>
                    <a:lnTo>
                      <a:pt x="436" y="1947"/>
                    </a:lnTo>
                    <a:lnTo>
                      <a:pt x="433" y="1929"/>
                    </a:lnTo>
                    <a:lnTo>
                      <a:pt x="459" y="1923"/>
                    </a:lnTo>
                    <a:lnTo>
                      <a:pt x="474" y="1906"/>
                    </a:lnTo>
                    <a:lnTo>
                      <a:pt x="471" y="1884"/>
                    </a:lnTo>
                    <a:lnTo>
                      <a:pt x="456" y="1873"/>
                    </a:lnTo>
                    <a:lnTo>
                      <a:pt x="448" y="1884"/>
                    </a:lnTo>
                    <a:lnTo>
                      <a:pt x="433" y="1887"/>
                    </a:lnTo>
                    <a:lnTo>
                      <a:pt x="420" y="1869"/>
                    </a:lnTo>
                    <a:lnTo>
                      <a:pt x="397" y="1857"/>
                    </a:lnTo>
                    <a:lnTo>
                      <a:pt x="382" y="1837"/>
                    </a:lnTo>
                    <a:lnTo>
                      <a:pt x="372" y="1816"/>
                    </a:lnTo>
                    <a:lnTo>
                      <a:pt x="376" y="1798"/>
                    </a:lnTo>
                    <a:lnTo>
                      <a:pt x="349" y="1813"/>
                    </a:lnTo>
                    <a:lnTo>
                      <a:pt x="339" y="1800"/>
                    </a:lnTo>
                    <a:lnTo>
                      <a:pt x="328" y="1776"/>
                    </a:lnTo>
                    <a:lnTo>
                      <a:pt x="301" y="1759"/>
                    </a:lnTo>
                    <a:lnTo>
                      <a:pt x="291" y="1740"/>
                    </a:lnTo>
                    <a:lnTo>
                      <a:pt x="298" y="1720"/>
                    </a:lnTo>
                    <a:lnTo>
                      <a:pt x="285" y="1708"/>
                    </a:lnTo>
                    <a:lnTo>
                      <a:pt x="282" y="1687"/>
                    </a:lnTo>
                    <a:lnTo>
                      <a:pt x="264" y="1689"/>
                    </a:lnTo>
                    <a:lnTo>
                      <a:pt x="249" y="1681"/>
                    </a:lnTo>
                    <a:lnTo>
                      <a:pt x="234" y="1698"/>
                    </a:lnTo>
                    <a:lnTo>
                      <a:pt x="216" y="1687"/>
                    </a:lnTo>
                    <a:lnTo>
                      <a:pt x="205" y="1666"/>
                    </a:lnTo>
                    <a:lnTo>
                      <a:pt x="186" y="1677"/>
                    </a:lnTo>
                    <a:lnTo>
                      <a:pt x="174" y="1663"/>
                    </a:lnTo>
                    <a:lnTo>
                      <a:pt x="160" y="1651"/>
                    </a:lnTo>
                    <a:lnTo>
                      <a:pt x="159" y="1632"/>
                    </a:lnTo>
                    <a:lnTo>
                      <a:pt x="153" y="1620"/>
                    </a:lnTo>
                    <a:lnTo>
                      <a:pt x="144" y="1603"/>
                    </a:lnTo>
                    <a:lnTo>
                      <a:pt x="136" y="1579"/>
                    </a:lnTo>
                    <a:lnTo>
                      <a:pt x="159" y="1567"/>
                    </a:lnTo>
                    <a:lnTo>
                      <a:pt x="174" y="1552"/>
                    </a:lnTo>
                    <a:lnTo>
                      <a:pt x="162" y="1519"/>
                    </a:lnTo>
                    <a:lnTo>
                      <a:pt x="165" y="1500"/>
                    </a:lnTo>
                    <a:lnTo>
                      <a:pt x="160" y="1480"/>
                    </a:lnTo>
                    <a:lnTo>
                      <a:pt x="168" y="1462"/>
                    </a:lnTo>
                    <a:lnTo>
                      <a:pt x="195" y="1462"/>
                    </a:lnTo>
                    <a:lnTo>
                      <a:pt x="202" y="1435"/>
                    </a:lnTo>
                    <a:lnTo>
                      <a:pt x="201" y="1411"/>
                    </a:lnTo>
                    <a:lnTo>
                      <a:pt x="219" y="1393"/>
                    </a:lnTo>
                    <a:lnTo>
                      <a:pt x="219" y="1377"/>
                    </a:lnTo>
                    <a:lnTo>
                      <a:pt x="250" y="1363"/>
                    </a:lnTo>
                    <a:lnTo>
                      <a:pt x="246" y="1342"/>
                    </a:lnTo>
                    <a:lnTo>
                      <a:pt x="265" y="1330"/>
                    </a:lnTo>
                    <a:lnTo>
                      <a:pt x="285" y="1302"/>
                    </a:lnTo>
                    <a:lnTo>
                      <a:pt x="280" y="1276"/>
                    </a:lnTo>
                    <a:lnTo>
                      <a:pt x="294" y="1270"/>
                    </a:lnTo>
                    <a:lnTo>
                      <a:pt x="292" y="1254"/>
                    </a:lnTo>
                    <a:lnTo>
                      <a:pt x="276" y="1231"/>
                    </a:lnTo>
                    <a:lnTo>
                      <a:pt x="289" y="1213"/>
                    </a:lnTo>
                    <a:lnTo>
                      <a:pt x="295" y="1198"/>
                    </a:lnTo>
                    <a:lnTo>
                      <a:pt x="321" y="1194"/>
                    </a:lnTo>
                    <a:lnTo>
                      <a:pt x="310" y="1174"/>
                    </a:lnTo>
                    <a:lnTo>
                      <a:pt x="325" y="1158"/>
                    </a:lnTo>
                    <a:lnTo>
                      <a:pt x="309" y="1138"/>
                    </a:lnTo>
                    <a:lnTo>
                      <a:pt x="279" y="1119"/>
                    </a:lnTo>
                    <a:lnTo>
                      <a:pt x="249" y="1120"/>
                    </a:lnTo>
                    <a:lnTo>
                      <a:pt x="228" y="1137"/>
                    </a:lnTo>
                    <a:lnTo>
                      <a:pt x="217" y="1123"/>
                    </a:lnTo>
                    <a:lnTo>
                      <a:pt x="202" y="1104"/>
                    </a:lnTo>
                    <a:lnTo>
                      <a:pt x="189" y="1119"/>
                    </a:lnTo>
                    <a:lnTo>
                      <a:pt x="169" y="1129"/>
                    </a:lnTo>
                    <a:lnTo>
                      <a:pt x="142" y="1140"/>
                    </a:lnTo>
                    <a:lnTo>
                      <a:pt x="124" y="1158"/>
                    </a:lnTo>
                    <a:lnTo>
                      <a:pt x="94" y="1167"/>
                    </a:lnTo>
                    <a:lnTo>
                      <a:pt x="148" y="1141"/>
                    </a:lnTo>
                    <a:lnTo>
                      <a:pt x="199" y="1110"/>
                    </a:lnTo>
                    <a:lnTo>
                      <a:pt x="180" y="1125"/>
                    </a:lnTo>
                    <a:lnTo>
                      <a:pt x="157" y="1137"/>
                    </a:lnTo>
                    <a:lnTo>
                      <a:pt x="141" y="1147"/>
                    </a:lnTo>
                    <a:lnTo>
                      <a:pt x="133" y="1152"/>
                    </a:lnTo>
                    <a:lnTo>
                      <a:pt x="114" y="1161"/>
                    </a:lnTo>
                    <a:lnTo>
                      <a:pt x="105" y="1162"/>
                    </a:lnTo>
                    <a:lnTo>
                      <a:pt x="91" y="1159"/>
                    </a:lnTo>
                    <a:lnTo>
                      <a:pt x="90" y="1153"/>
                    </a:lnTo>
                    <a:lnTo>
                      <a:pt x="87" y="1143"/>
                    </a:lnTo>
                    <a:lnTo>
                      <a:pt x="81" y="1129"/>
                    </a:lnTo>
                    <a:lnTo>
                      <a:pt x="76" y="1114"/>
                    </a:lnTo>
                    <a:lnTo>
                      <a:pt x="91" y="1110"/>
                    </a:lnTo>
                    <a:lnTo>
                      <a:pt x="109" y="1108"/>
                    </a:lnTo>
                    <a:lnTo>
                      <a:pt x="121" y="1113"/>
                    </a:lnTo>
                    <a:lnTo>
                      <a:pt x="142" y="1119"/>
                    </a:lnTo>
                    <a:lnTo>
                      <a:pt x="142" y="1108"/>
                    </a:lnTo>
                    <a:lnTo>
                      <a:pt x="162" y="1098"/>
                    </a:lnTo>
                    <a:lnTo>
                      <a:pt x="187" y="1092"/>
                    </a:lnTo>
                    <a:lnTo>
                      <a:pt x="184" y="1071"/>
                    </a:lnTo>
                    <a:lnTo>
                      <a:pt x="171" y="1053"/>
                    </a:lnTo>
                    <a:lnTo>
                      <a:pt x="151" y="1063"/>
                    </a:lnTo>
                    <a:lnTo>
                      <a:pt x="127" y="1057"/>
                    </a:lnTo>
                    <a:lnTo>
                      <a:pt x="147" y="1044"/>
                    </a:lnTo>
                    <a:lnTo>
                      <a:pt x="157" y="1026"/>
                    </a:lnTo>
                    <a:lnTo>
                      <a:pt x="159" y="1002"/>
                    </a:lnTo>
                    <a:lnTo>
                      <a:pt x="159" y="970"/>
                    </a:lnTo>
                    <a:lnTo>
                      <a:pt x="150" y="948"/>
                    </a:lnTo>
                    <a:lnTo>
                      <a:pt x="142" y="931"/>
                    </a:lnTo>
                    <a:lnTo>
                      <a:pt x="145" y="912"/>
                    </a:lnTo>
                    <a:lnTo>
                      <a:pt x="175" y="919"/>
                    </a:lnTo>
                    <a:lnTo>
                      <a:pt x="196" y="910"/>
                    </a:lnTo>
                    <a:lnTo>
                      <a:pt x="205" y="895"/>
                    </a:lnTo>
                    <a:lnTo>
                      <a:pt x="204" y="874"/>
                    </a:lnTo>
                    <a:lnTo>
                      <a:pt x="207" y="858"/>
                    </a:lnTo>
                    <a:lnTo>
                      <a:pt x="226" y="874"/>
                    </a:lnTo>
                    <a:lnTo>
                      <a:pt x="244" y="886"/>
                    </a:lnTo>
                    <a:lnTo>
                      <a:pt x="268" y="892"/>
                    </a:lnTo>
                    <a:lnTo>
                      <a:pt x="274" y="874"/>
                    </a:lnTo>
                    <a:lnTo>
                      <a:pt x="282" y="853"/>
                    </a:lnTo>
                    <a:lnTo>
                      <a:pt x="304" y="859"/>
                    </a:lnTo>
                    <a:lnTo>
                      <a:pt x="307" y="883"/>
                    </a:lnTo>
                    <a:lnTo>
                      <a:pt x="321" y="900"/>
                    </a:lnTo>
                    <a:lnTo>
                      <a:pt x="345" y="898"/>
                    </a:lnTo>
                    <a:lnTo>
                      <a:pt x="370" y="895"/>
                    </a:lnTo>
                    <a:lnTo>
                      <a:pt x="381" y="874"/>
                    </a:lnTo>
                    <a:lnTo>
                      <a:pt x="376" y="855"/>
                    </a:lnTo>
                    <a:lnTo>
                      <a:pt x="358" y="838"/>
                    </a:lnTo>
                    <a:lnTo>
                      <a:pt x="331" y="840"/>
                    </a:lnTo>
                    <a:lnTo>
                      <a:pt x="303" y="838"/>
                    </a:lnTo>
                    <a:lnTo>
                      <a:pt x="273" y="835"/>
                    </a:lnTo>
                    <a:lnTo>
                      <a:pt x="250" y="823"/>
                    </a:lnTo>
                    <a:lnTo>
                      <a:pt x="229" y="810"/>
                    </a:lnTo>
                    <a:lnTo>
                      <a:pt x="204" y="802"/>
                    </a:lnTo>
                    <a:lnTo>
                      <a:pt x="192" y="795"/>
                    </a:lnTo>
                    <a:lnTo>
                      <a:pt x="171" y="783"/>
                    </a:lnTo>
                    <a:lnTo>
                      <a:pt x="159" y="762"/>
                    </a:lnTo>
                    <a:lnTo>
                      <a:pt x="147" y="735"/>
                    </a:lnTo>
                    <a:lnTo>
                      <a:pt x="117" y="729"/>
                    </a:lnTo>
                    <a:lnTo>
                      <a:pt x="96" y="723"/>
                    </a:lnTo>
                    <a:lnTo>
                      <a:pt x="79" y="702"/>
                    </a:lnTo>
                    <a:lnTo>
                      <a:pt x="84" y="678"/>
                    </a:lnTo>
                    <a:lnTo>
                      <a:pt x="111" y="678"/>
                    </a:lnTo>
                    <a:lnTo>
                      <a:pt x="120" y="663"/>
                    </a:lnTo>
                    <a:lnTo>
                      <a:pt x="97" y="649"/>
                    </a:lnTo>
                    <a:lnTo>
                      <a:pt x="99" y="621"/>
                    </a:lnTo>
                    <a:lnTo>
                      <a:pt x="105" y="600"/>
                    </a:lnTo>
                    <a:lnTo>
                      <a:pt x="132" y="609"/>
                    </a:lnTo>
                    <a:lnTo>
                      <a:pt x="151" y="607"/>
                    </a:lnTo>
                    <a:lnTo>
                      <a:pt x="168" y="595"/>
                    </a:lnTo>
                    <a:lnTo>
                      <a:pt x="165" y="571"/>
                    </a:lnTo>
                    <a:lnTo>
                      <a:pt x="142" y="567"/>
                    </a:lnTo>
                    <a:lnTo>
                      <a:pt x="127" y="552"/>
                    </a:lnTo>
                    <a:lnTo>
                      <a:pt x="94" y="561"/>
                    </a:lnTo>
                    <a:lnTo>
                      <a:pt x="60" y="562"/>
                    </a:lnTo>
                    <a:lnTo>
                      <a:pt x="34" y="550"/>
                    </a:lnTo>
                    <a:lnTo>
                      <a:pt x="21" y="532"/>
                    </a:lnTo>
                    <a:lnTo>
                      <a:pt x="24" y="514"/>
                    </a:lnTo>
                    <a:lnTo>
                      <a:pt x="22" y="496"/>
                    </a:lnTo>
                    <a:lnTo>
                      <a:pt x="39" y="486"/>
                    </a:lnTo>
                    <a:lnTo>
                      <a:pt x="49" y="471"/>
                    </a:lnTo>
                    <a:lnTo>
                      <a:pt x="67" y="456"/>
                    </a:lnTo>
                    <a:lnTo>
                      <a:pt x="87" y="447"/>
                    </a:lnTo>
                    <a:lnTo>
                      <a:pt x="85" y="430"/>
                    </a:lnTo>
                    <a:lnTo>
                      <a:pt x="67" y="432"/>
                    </a:lnTo>
                    <a:lnTo>
                      <a:pt x="45" y="424"/>
                    </a:lnTo>
                    <a:lnTo>
                      <a:pt x="33" y="405"/>
                    </a:lnTo>
                    <a:lnTo>
                      <a:pt x="37" y="385"/>
                    </a:lnTo>
                    <a:lnTo>
                      <a:pt x="42" y="360"/>
                    </a:lnTo>
                    <a:lnTo>
                      <a:pt x="24" y="334"/>
                    </a:lnTo>
                    <a:lnTo>
                      <a:pt x="12" y="313"/>
                    </a:lnTo>
                    <a:lnTo>
                      <a:pt x="12" y="297"/>
                    </a:lnTo>
                    <a:lnTo>
                      <a:pt x="25" y="282"/>
                    </a:lnTo>
                    <a:lnTo>
                      <a:pt x="18" y="265"/>
                    </a:lnTo>
                    <a:lnTo>
                      <a:pt x="1" y="258"/>
                    </a:lnTo>
                    <a:lnTo>
                      <a:pt x="0" y="243"/>
                    </a:lnTo>
                    <a:lnTo>
                      <a:pt x="19" y="234"/>
                    </a:lnTo>
                    <a:lnTo>
                      <a:pt x="37" y="228"/>
                    </a:lnTo>
                    <a:lnTo>
                      <a:pt x="40" y="211"/>
                    </a:lnTo>
                    <a:lnTo>
                      <a:pt x="58" y="210"/>
                    </a:lnTo>
                    <a:lnTo>
                      <a:pt x="81" y="217"/>
                    </a:lnTo>
                    <a:lnTo>
                      <a:pt x="108" y="220"/>
                    </a:lnTo>
                    <a:lnTo>
                      <a:pt x="112" y="204"/>
                    </a:lnTo>
                    <a:lnTo>
                      <a:pt x="118" y="186"/>
                    </a:lnTo>
                    <a:lnTo>
                      <a:pt x="138" y="189"/>
                    </a:lnTo>
                    <a:lnTo>
                      <a:pt x="163" y="190"/>
                    </a:lnTo>
                    <a:lnTo>
                      <a:pt x="162" y="172"/>
                    </a:lnTo>
                    <a:lnTo>
                      <a:pt x="157" y="153"/>
                    </a:lnTo>
                    <a:lnTo>
                      <a:pt x="168" y="135"/>
                    </a:lnTo>
                    <a:lnTo>
                      <a:pt x="186" y="121"/>
                    </a:lnTo>
                    <a:lnTo>
                      <a:pt x="204" y="121"/>
                    </a:lnTo>
                    <a:lnTo>
                      <a:pt x="201" y="139"/>
                    </a:lnTo>
                    <a:lnTo>
                      <a:pt x="201" y="159"/>
                    </a:lnTo>
                    <a:lnTo>
                      <a:pt x="223" y="168"/>
                    </a:lnTo>
                    <a:lnTo>
                      <a:pt x="244" y="157"/>
                    </a:lnTo>
                    <a:lnTo>
                      <a:pt x="267" y="159"/>
                    </a:lnTo>
                    <a:lnTo>
                      <a:pt x="291" y="162"/>
                    </a:lnTo>
                    <a:lnTo>
                      <a:pt x="294" y="144"/>
                    </a:lnTo>
                    <a:lnTo>
                      <a:pt x="310" y="136"/>
                    </a:lnTo>
                    <a:lnTo>
                      <a:pt x="325" y="120"/>
                    </a:lnTo>
                    <a:lnTo>
                      <a:pt x="345" y="120"/>
                    </a:lnTo>
                    <a:lnTo>
                      <a:pt x="367" y="126"/>
                    </a:lnTo>
                    <a:lnTo>
                      <a:pt x="381" y="109"/>
                    </a:lnTo>
                    <a:lnTo>
                      <a:pt x="394" y="94"/>
                    </a:lnTo>
                    <a:lnTo>
                      <a:pt x="412" y="97"/>
                    </a:lnTo>
                    <a:lnTo>
                      <a:pt x="412" y="79"/>
                    </a:lnTo>
                    <a:lnTo>
                      <a:pt x="424" y="66"/>
                    </a:lnTo>
                    <a:lnTo>
                      <a:pt x="447" y="66"/>
                    </a:lnTo>
                    <a:lnTo>
                      <a:pt x="454" y="51"/>
                    </a:lnTo>
                    <a:lnTo>
                      <a:pt x="441" y="43"/>
                    </a:lnTo>
                    <a:lnTo>
                      <a:pt x="441" y="27"/>
                    </a:lnTo>
                    <a:lnTo>
                      <a:pt x="463" y="28"/>
                    </a:lnTo>
                    <a:lnTo>
                      <a:pt x="471" y="13"/>
                    </a:lnTo>
                    <a:lnTo>
                      <a:pt x="486" y="1"/>
                    </a:lnTo>
                    <a:lnTo>
                      <a:pt x="501" y="9"/>
                    </a:lnTo>
                    <a:lnTo>
                      <a:pt x="525" y="7"/>
                    </a:lnTo>
                    <a:lnTo>
                      <a:pt x="550" y="0"/>
                    </a:lnTo>
                    <a:lnTo>
                      <a:pt x="570" y="7"/>
                    </a:lnTo>
                    <a:lnTo>
                      <a:pt x="586" y="21"/>
                    </a:lnTo>
                    <a:lnTo>
                      <a:pt x="606" y="36"/>
                    </a:lnTo>
                    <a:lnTo>
                      <a:pt x="622" y="51"/>
                    </a:lnTo>
                    <a:lnTo>
                      <a:pt x="639" y="57"/>
                    </a:lnTo>
                    <a:lnTo>
                      <a:pt x="649" y="45"/>
                    </a:lnTo>
                    <a:lnTo>
                      <a:pt x="661" y="30"/>
                    </a:lnTo>
                    <a:lnTo>
                      <a:pt x="685" y="34"/>
                    </a:lnTo>
                    <a:lnTo>
                      <a:pt x="702" y="19"/>
                    </a:lnTo>
                    <a:lnTo>
                      <a:pt x="732" y="13"/>
                    </a:lnTo>
                    <a:lnTo>
                      <a:pt x="760" y="13"/>
                    </a:lnTo>
                    <a:lnTo>
                      <a:pt x="774" y="34"/>
                    </a:lnTo>
                    <a:lnTo>
                      <a:pt x="780" y="51"/>
                    </a:lnTo>
                    <a:lnTo>
                      <a:pt x="798" y="31"/>
                    </a:lnTo>
                    <a:lnTo>
                      <a:pt x="817" y="13"/>
                    </a:lnTo>
                    <a:lnTo>
                      <a:pt x="826" y="31"/>
                    </a:lnTo>
                    <a:lnTo>
                      <a:pt x="837" y="48"/>
                    </a:lnTo>
                    <a:lnTo>
                      <a:pt x="856" y="48"/>
                    </a:lnTo>
                    <a:lnTo>
                      <a:pt x="867" y="31"/>
                    </a:lnTo>
                    <a:lnTo>
                      <a:pt x="882" y="42"/>
                    </a:lnTo>
                  </a:path>
                </a:pathLst>
              </a:cu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324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0"/>
                <a:ext cx="9144000" cy="6858000"/>
              </a:xfrm>
              <a:prstGeom prst="rect">
                <a:avLst/>
              </a:prstGeom>
              <a:solidFill>
                <a:srgbClr val="000000">
                  <a:alpha val="7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97" name=""/>
              <p:cNvGraphicFramePr/>
              <p:nvPr/>
            </p:nvGraphicFramePr>
            <p:xfrm>
              <a:off x="157320" y="228600"/>
              <a:ext cx="8986680" cy="70452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98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57320" y="228600"/>
                        <a:ext cx="8986680" cy="704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9" name=""/>
              <p:cNvSpPr/>
              <p:nvPr/>
            </p:nvSpPr>
            <p:spPr>
              <a:xfrm>
                <a:off x="4049640" y="4627440"/>
                <a:ext cx="4930920" cy="1454760"/>
              </a:xfrm>
              <a:prstGeom prst="roundRect">
                <a:avLst>
                  <a:gd name="adj" fmla="val 16667"/>
                </a:avLst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 u="sng">
                    <a:solidFill>
                      <a:srgbClr val="ffffff"/>
                    </a:solidFill>
                    <a:uFillTx/>
                    <a:latin typeface="Century Gothic"/>
                  </a:rPr>
                  <a:t>Real Estate Cadastre</a:t>
                </a:r>
                <a:br>
                  <a:rPr sz="3200"/>
                </a:br>
                <a:r>
                  <a:rPr b="1" i="1" lang="en-US" sz="2400" spc="-1" strike="noStrike">
                    <a:solidFill>
                      <a:srgbClr val="ffffcc"/>
                    </a:solidFill>
                    <a:latin typeface="Century Gothic"/>
                  </a:rPr>
                  <a:t>Registration of Small and Medium Enterpri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981080" y="609588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800" spc="-1" strike="noStrike">
                    <a:solidFill>
                      <a:srgbClr val="ccffcc"/>
                    </a:solidFill>
                    <a:latin typeface="Century Gothic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600200" y="579132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800" spc="-1" strike="noStrike">
                    <a:solidFill>
                      <a:srgbClr val="ccffcc"/>
                    </a:solidFill>
                    <a:latin typeface="Century Gothic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743200" y="41148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800" spc="-1" strike="noStrike">
                    <a:solidFill>
                      <a:srgbClr val="ccffcc"/>
                    </a:solidFill>
                    <a:latin typeface="Century Gothic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600200" y="34434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800" spc="-1" strike="noStrike">
                    <a:solidFill>
                      <a:srgbClr val="ccffcc"/>
                    </a:solidFill>
                    <a:latin typeface="Century Gothic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600200" y="313848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800" spc="-1" strike="noStrike">
                    <a:solidFill>
                      <a:srgbClr val="ccffcc"/>
                    </a:solidFill>
                    <a:latin typeface="Century Gothic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00200" y="281952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800" spc="-1" strike="noStrike">
                    <a:solidFill>
                      <a:srgbClr val="ccffcc"/>
                    </a:solidFill>
                    <a:latin typeface="Century Gothic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600200" y="245268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800" spc="-1" strike="noStrike">
                    <a:solidFill>
                      <a:srgbClr val="ccffcc"/>
                    </a:solidFill>
                    <a:latin typeface="Century Gothic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600200" y="213372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800" spc="-1" strike="noStrike">
                    <a:solidFill>
                      <a:srgbClr val="ccffcc"/>
                    </a:solidFill>
                    <a:latin typeface="Century Gothic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429000" y="176688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800" spc="-1" strike="noStrike">
                    <a:solidFill>
                      <a:srgbClr val="ccffcc"/>
                    </a:solidFill>
                    <a:latin typeface="Century Gothic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534520" y="106668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800" spc="-1" strike="noStrike">
                    <a:solidFill>
                      <a:srgbClr val="ccffcc"/>
                    </a:solidFill>
                    <a:latin typeface="Century Gothic"/>
                  </a:rPr>
                  <a:t>2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057400" y="11430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800" spc="-1" strike="noStrike">
                    <a:solidFill>
                      <a:srgbClr val="ccffcc"/>
                    </a:solidFill>
                    <a:latin typeface="Century Gothic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809880" y="144792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800" spc="-1" strike="noStrike">
                    <a:solidFill>
                      <a:srgbClr val="ccffcc"/>
                    </a:solidFill>
                    <a:latin typeface="Century Gothic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073920" y="208080"/>
                <a:ext cx="2787480" cy="509400"/>
              </a:xfrm>
              <a:prstGeom prst="roundRect">
                <a:avLst>
                  <a:gd name="adj" fmla="val 16667"/>
                </a:avLst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2400" spc="-1" strike="noStrike" u="sng">
                    <a:solidFill>
                      <a:srgbClr val="ffffff"/>
                    </a:solidFill>
                    <a:uFillTx/>
                    <a:latin typeface="Century Gothic"/>
                  </a:rPr>
                  <a:t>Central S</a:t>
                </a:r>
                <a:r>
                  <a:rPr b="1" i="1" lang="en-US" sz="2400" spc="-1" strike="noStrike" u="sng">
                    <a:solidFill>
                      <a:srgbClr val="ffffff"/>
                    </a:solidFill>
                    <a:uFillTx/>
                    <a:latin typeface="Century Gothic"/>
                  </a:rPr>
                  <a:t>E</a:t>
                </a:r>
                <a:r>
                  <a:rPr b="1" i="1" lang="sr-Latn-CS" sz="2400" spc="-1" strike="noStrike" u="sng">
                    <a:solidFill>
                      <a:srgbClr val="ffffff"/>
                    </a:solidFill>
                    <a:uFillTx/>
                    <a:latin typeface="Century Gothic"/>
                  </a:rPr>
                  <a:t>RBI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600200" y="380988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800" spc="-1" strike="noStrike">
                    <a:solidFill>
                      <a:srgbClr val="ccffcc"/>
                    </a:solidFill>
                    <a:latin typeface="Century Gothic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600200" y="441972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800" spc="-1" strike="noStrike">
                    <a:solidFill>
                      <a:srgbClr val="ccffcc"/>
                    </a:solidFill>
                    <a:latin typeface="Century Gothic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600200" y="48006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800" spc="-1" strike="noStrike">
                    <a:solidFill>
                      <a:srgbClr val="ccffcc"/>
                    </a:solidFill>
                    <a:latin typeface="Century Gothic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600200" y="510552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800" spc="-1" strike="noStrike">
                    <a:solidFill>
                      <a:srgbClr val="ccffcc"/>
                    </a:solidFill>
                    <a:latin typeface="Century Gothic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600200" y="542448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1800" spc="-1" strike="noStrike">
                    <a:solidFill>
                      <a:srgbClr val="ccffcc"/>
                    </a:solidFill>
                    <a:latin typeface="Century Gothic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4114800" y="304920"/>
              <a:ext cx="1447920" cy="304560"/>
            </a:xfrm>
            <a:prstGeom prst="roundRect">
              <a:avLst>
                <a:gd name="adj" fmla="val 16667"/>
              </a:avLst>
            </a:prstGeom>
            <a:solidFill>
              <a:srgbClr val="00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99"/>
                  </a:solidFill>
                  <a:latin typeface="Century Gothic"/>
                </a:rPr>
                <a:t>No. of objec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2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4559400" y="1347840"/>
              <a:ext cx="3441600" cy="2106000"/>
            </a:xfrm>
            <a:prstGeom prst="roundRect">
              <a:avLst>
                <a:gd name="adj" fmla="val 16667"/>
              </a:avLst>
            </a:prstGeom>
            <a:solidFill>
              <a:srgbClr val="000080">
                <a:alpha val="6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entury Gothic"/>
                </a:rPr>
                <a:t>R e p u b l i c   o f   S e r b i</a:t>
              </a:r>
              <a:r>
                <a:rPr b="0" i="1" lang="sr-Latn-CS" sz="1400" spc="-1" strike="noStrike">
                  <a:solidFill>
                    <a:srgbClr val="ffffff"/>
                  </a:solidFill>
                  <a:latin typeface="Century Gothic"/>
                </a:rPr>
                <a:t>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Century Gothic"/>
                </a:rPr>
                <a:t>a</a:t>
              </a: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Century Gothic"/>
                </a:rPr>
                <a:t>MINISTRY OF URBAN PLANNING AND CONSTRUCTION</a:t>
              </a:r>
              <a:br>
                <a:rPr sz="1600"/>
              </a:br>
              <a:r>
                <a:rPr b="0" i="1" lang="en-US" sz="1200" spc="-1" strike="noStrike">
                  <a:solidFill>
                    <a:srgbClr val="ffffff"/>
                  </a:solidFill>
                  <a:latin typeface="Century Gothic"/>
                </a:rPr>
                <a:t>Belgrade, 22-26 Nemanjina St.</a:t>
              </a:r>
              <a:r>
                <a:rPr b="0" lang="en-US" sz="1200" spc="-1" strike="noStrike">
                  <a:solidFill>
                    <a:srgbClr val="ffffff"/>
                  </a:solidFill>
                  <a:latin typeface="Century Gothic"/>
                </a:rPr>
                <a:t> </a:t>
              </a:r>
              <a:br>
                <a:rPr sz="1200"/>
              </a:br>
              <a:r>
                <a:rPr b="1" lang="sl-SI" sz="1200" spc="-1" strike="noStrike">
                  <a:solidFill>
                    <a:srgbClr val="99ffcc"/>
                  </a:solidFill>
                  <a:latin typeface="Century Gothic"/>
                </a:rPr>
                <a:t>http:</a:t>
              </a:r>
              <a:r>
                <a:rPr b="1" lang="en-US" sz="1200" spc="-1" strike="noStrike">
                  <a:solidFill>
                    <a:srgbClr val="99ffcc"/>
                  </a:solidFill>
                  <a:latin typeface="Century Gothic"/>
                </a:rPr>
                <a:t>//www.mugrs.sr.gov.yu</a:t>
              </a:r>
              <a:r>
                <a:rPr b="0" lang="en-US" sz="1200" spc="-1" strike="noStrike">
                  <a:solidFill>
                    <a:srgbClr val="99ffcc"/>
                  </a:solidFill>
                  <a:latin typeface="Century Gothic"/>
                </a:rPr>
                <a:t> </a:t>
              </a:r>
              <a:br>
                <a:rPr sz="1200"/>
              </a:br>
              <a:r>
                <a:rPr b="1" lang="en-US" sz="1200" spc="-1" strike="noStrike">
                  <a:solidFill>
                    <a:srgbClr val="99ffcc"/>
                  </a:solidFill>
                  <a:latin typeface="Century Gothic"/>
                </a:rPr>
                <a:t>e-mail: mugrs@EUnet.y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0" y="4876920"/>
              <a:ext cx="3429000" cy="1218960"/>
            </a:xfrm>
            <a:prstGeom prst="roundRect">
              <a:avLst>
                <a:gd name="adj" fmla="val 16667"/>
              </a:avLst>
            </a:prstGeom>
            <a:solidFill>
              <a:srgbClr val="000080">
                <a:alpha val="6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Century Gothic"/>
                </a:rPr>
                <a:t>M i n i s t e r</a:t>
              </a:r>
              <a:r>
                <a:rPr b="0" lang="en-US" sz="1600" spc="-1" strike="noStrike">
                  <a:solidFill>
                    <a:srgbClr val="ffffcc"/>
                  </a:solidFill>
                  <a:latin typeface="Century Gothic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cc"/>
                  </a:solidFill>
                  <a:latin typeface="Century Gothic"/>
                </a:rPr>
                <a:t>Prof.</a:t>
              </a:r>
              <a:r>
                <a:rPr b="1" i="1" lang="sr-Latn-CS" sz="1600" spc="-1" strike="noStrike">
                  <a:solidFill>
                    <a:srgbClr val="ffffcc"/>
                  </a:solidFill>
                  <a:latin typeface="Century Gothic"/>
                </a:rPr>
                <a:t> </a:t>
              </a:r>
              <a:r>
                <a:rPr b="1" i="1" lang="en-US" sz="1600" spc="-1" strike="noStrike">
                  <a:solidFill>
                    <a:srgbClr val="ffffcc"/>
                  </a:solidFill>
                  <a:latin typeface="Century Gothic"/>
                </a:rPr>
                <a:t>Dragoslav </a:t>
              </a:r>
              <a:r>
                <a:rPr b="1" i="1" lang="sl-SI" sz="1600" spc="-1" strike="noStrike">
                  <a:solidFill>
                    <a:srgbClr val="ffffcc"/>
                  </a:solidFill>
                  <a:latin typeface="Century Gothic"/>
                </a:rPr>
                <a:t>Š</a:t>
              </a:r>
              <a:r>
                <a:rPr b="1" i="1" lang="en-US" sz="1600" spc="-1" strike="noStrike">
                  <a:solidFill>
                    <a:srgbClr val="ffffcc"/>
                  </a:solidFill>
                  <a:latin typeface="Century Gothic"/>
                </a:rPr>
                <a:t>umarac, Ph. D. 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ffffcc"/>
                  </a:solidFill>
                  <a:latin typeface="Century Gothic"/>
                </a:rPr>
                <a:t>Be</a:t>
              </a:r>
              <a:r>
                <a:rPr b="0" lang="en-US" sz="1200" spc="-1" strike="noStrike">
                  <a:solidFill>
                    <a:srgbClr val="ffffcc"/>
                  </a:solidFill>
                  <a:latin typeface="Century Gothic"/>
                </a:rPr>
                <a:t>l</a:t>
              </a:r>
              <a:r>
                <a:rPr b="0" lang="sr-Latn-CS" sz="1200" spc="-1" strike="noStrike">
                  <a:solidFill>
                    <a:srgbClr val="ffffcc"/>
                  </a:solidFill>
                  <a:latin typeface="Century Gothic"/>
                </a:rPr>
                <a:t>grad</a:t>
              </a:r>
              <a:r>
                <a:rPr b="0" lang="en-US" sz="1200" spc="-1" strike="noStrike">
                  <a:solidFill>
                    <a:srgbClr val="ffffcc"/>
                  </a:solidFill>
                  <a:latin typeface="Century Gothic"/>
                </a:rPr>
                <a:t>e</a:t>
              </a:r>
              <a:r>
                <a:rPr b="0" lang="sr-Latn-CS" sz="1200" spc="-1" strike="noStrike">
                  <a:solidFill>
                    <a:srgbClr val="ffffcc"/>
                  </a:solidFill>
                  <a:latin typeface="Century Gothic"/>
                </a:rPr>
                <a:t>, </a:t>
              </a:r>
              <a:r>
                <a:rPr b="0" lang="en-US" sz="1200" spc="-1" strike="noStrike">
                  <a:solidFill>
                    <a:srgbClr val="ffffcc"/>
                  </a:solidFill>
                  <a:latin typeface="Century Gothic"/>
                </a:rPr>
                <a:t>14</a:t>
              </a:r>
              <a:r>
                <a:rPr b="0" lang="en-US" sz="1200" spc="-1" strike="noStrike" baseline="30000">
                  <a:solidFill>
                    <a:srgbClr val="ffffcc"/>
                  </a:solidFill>
                  <a:latin typeface="Century Gothic"/>
                </a:rPr>
                <a:t>th</a:t>
              </a:r>
              <a:r>
                <a:rPr b="0" lang="en-US" sz="1200" spc="-1" strike="noStrike">
                  <a:solidFill>
                    <a:srgbClr val="ffffcc"/>
                  </a:solidFill>
                  <a:latin typeface="Century Gothic"/>
                </a:rPr>
                <a:t> Novem</a:t>
              </a:r>
              <a:r>
                <a:rPr b="0" lang="sr-Latn-CS" sz="1200" spc="-1" strike="noStrike">
                  <a:solidFill>
                    <a:srgbClr val="ffffcc"/>
                  </a:solidFill>
                  <a:latin typeface="Century Gothic"/>
                </a:rPr>
                <a:t>b</a:t>
              </a:r>
              <a:r>
                <a:rPr b="0" lang="en-US" sz="1200" spc="-1" strike="noStrike">
                  <a:solidFill>
                    <a:srgbClr val="ffffcc"/>
                  </a:solidFill>
                  <a:latin typeface="Century Gothic"/>
                </a:rPr>
                <a:t>e</a:t>
              </a:r>
              <a:r>
                <a:rPr b="0" lang="sr-Latn-CS" sz="1200" spc="-1" strike="noStrike">
                  <a:solidFill>
                    <a:srgbClr val="ffffcc"/>
                  </a:solidFill>
                  <a:latin typeface="Century Gothic"/>
                </a:rPr>
                <a:t>r</a:t>
              </a:r>
              <a:r>
                <a:rPr b="0" lang="sr-Latn-CS" sz="2000" spc="-1" strike="noStrike">
                  <a:solidFill>
                    <a:srgbClr val="ffffcc"/>
                  </a:solidFill>
                  <a:latin typeface="Century Gothic"/>
                </a:rPr>
                <a:t> </a:t>
              </a:r>
              <a:r>
                <a:rPr b="0" lang="sr-Latn-CS" sz="1200" spc="-1" strike="noStrike">
                  <a:solidFill>
                    <a:srgbClr val="ffffcc"/>
                  </a:solidFill>
                  <a:latin typeface="Century Gothic"/>
                </a:rPr>
                <a:t>20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572000" y="3429000"/>
              <a:ext cx="3429000" cy="1143000"/>
            </a:xfrm>
            <a:prstGeom prst="roundRect">
              <a:avLst>
                <a:gd name="adj" fmla="val 16667"/>
              </a:avLst>
            </a:prstGeom>
            <a:solidFill>
              <a:srgbClr val="000080">
                <a:alpha val="6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Century Gothic"/>
                </a:rPr>
                <a:t>REAL ESTATE CADAST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" name="" descr=""/>
            <p:cNvPicPr/>
            <p:nvPr/>
          </p:nvPicPr>
          <p:blipFill>
            <a:blip r:embed="rId2"/>
            <a:stretch/>
          </p:blipFill>
          <p:spPr>
            <a:xfrm>
              <a:off x="1566720" y="2971800"/>
              <a:ext cx="1917720" cy="1440000"/>
            </a:xfrm>
            <a:prstGeom prst="rect">
              <a:avLst/>
            </a:prstGeom>
            <a:ln w="12600">
              <a:solidFill>
                <a:srgbClr val="000080"/>
              </a:solidFill>
              <a:miter/>
            </a:ln>
          </p:spPr>
        </p:pic>
        <p:pic>
          <p:nvPicPr>
            <p:cNvPr id="225" name="" descr=""/>
            <p:cNvPicPr/>
            <p:nvPr/>
          </p:nvPicPr>
          <p:blipFill>
            <a:blip r:embed="rId3"/>
            <a:stretch/>
          </p:blipFill>
          <p:spPr>
            <a:xfrm>
              <a:off x="457200" y="4579920"/>
              <a:ext cx="1917720" cy="1440000"/>
            </a:xfrm>
            <a:prstGeom prst="rect">
              <a:avLst/>
            </a:prstGeom>
            <a:ln w="12600">
              <a:solidFill>
                <a:srgbClr val="000080"/>
              </a:solidFill>
              <a:miter/>
            </a:ln>
          </p:spPr>
        </p:pic>
        <p:pic>
          <p:nvPicPr>
            <p:cNvPr id="226" name="" descr=""/>
            <p:cNvPicPr/>
            <p:nvPr/>
          </p:nvPicPr>
          <p:blipFill>
            <a:blip r:embed="rId4"/>
            <a:stretch/>
          </p:blipFill>
          <p:spPr>
            <a:xfrm>
              <a:off x="457200" y="1379520"/>
              <a:ext cx="1917720" cy="1440000"/>
            </a:xfrm>
            <a:prstGeom prst="rect">
              <a:avLst/>
            </a:prstGeom>
            <a:ln w="12600">
              <a:solidFill>
                <a:srgbClr val="000080"/>
              </a:solidFill>
              <a:miter/>
            </a:ln>
          </p:spPr>
        </p:pic>
        <p:sp>
          <p:nvSpPr>
            <p:cNvPr id="227" name=""/>
            <p:cNvSpPr/>
            <p:nvPr/>
          </p:nvSpPr>
          <p:spPr>
            <a:xfrm>
              <a:off x="7361280" y="1590840"/>
              <a:ext cx="92160" cy="85680"/>
            </a:xfrm>
            <a:prstGeom prst="ellipse">
              <a:avLst/>
            </a:prstGeom>
            <a:gradFill rotWithShape="0">
              <a:gsLst>
                <a:gs pos="0">
                  <a:srgbClr val="ff0000">
                    <a:alpha val="60392"/>
                  </a:srgbClr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453440" y="1590840"/>
              <a:ext cx="91800" cy="85680"/>
            </a:xfrm>
            <a:prstGeom prst="ellipse">
              <a:avLst/>
            </a:prstGeom>
            <a:gradFill rotWithShape="0">
              <a:gsLst>
                <a:gs pos="0">
                  <a:srgbClr val="0000ff">
                    <a:alpha val="60392"/>
                  </a:srgbClr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545240" y="1590840"/>
              <a:ext cx="92160" cy="85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0392"/>
                  </a:srgbClr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1T15:55:10Z</dcterms:created>
  <dc:creator> </dc:creator>
  <dc:description/>
  <dc:language>en-US</dc:language>
  <cp:lastModifiedBy>Jasmina</cp:lastModifiedBy>
  <dcterms:modified xsi:type="dcterms:W3CDTF">2002-11-14T17:29:40Z</dcterms:modified>
  <cp:revision>84</cp:revision>
  <dc:subject/>
  <dc:title>Slide 1</dc:title>
</cp:coreProperties>
</file>