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C46-AD49-49F8-A182-A0012127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D7C-2B7F-43C0-85B3-F3212D97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8EE-EFC1-4178-83F1-F3703683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8FB-47D8-4919-9D83-2EFC7A28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BEDB-D4BD-4E21-A1A2-2CB4FC85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65D6-A738-49F1-8ED0-21ADCA6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27A-6F0D-44B7-A9FF-11BC67E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CE42-2877-4177-BB01-4D65152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EDC-B710-42BC-B113-D0171CF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8149-2210-4C1F-82CC-BCF430C8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2C2-9EB1-4591-B419-9851955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94D-B84D-4854-A559-138CD16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4828-8EA6-4647-9003-1EF5479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44D9-13C9-421E-A9DA-7372D76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B8BF-B105-43C4-BF2C-473ABDB7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3F77-C287-41EA-A7C3-182F222F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4794-0B1E-420E-9A5F-FBEE2939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0F8-3D1C-42F4-A90D-555B84B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696-761B-48CB-AFAD-90C82F6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C7C-4FBE-4604-A9E3-B4D06DD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8DA-DDFA-449B-9093-C59613A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0F7-DC4A-4B21-ADA7-83D7605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60D-24FE-40B7-A986-0CAD5D8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945-2CFD-4F00-9B9B-2432922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917-EE39-4B61-95A9-165E1F8166C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892-CEE5-47C3-B3B1-13ACBDFA010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24280" y="8380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700" spc="-1" strike="noStrike">
                <a:solidFill>
                  <a:srgbClr val="404176"/>
                </a:solidFill>
                <a:latin typeface="Times New Roman"/>
              </a:rPr>
              <a:t>SEVERNO-BANATSKI </a:t>
            </a:r>
            <a:br>
              <a:rPr sz="2700"/>
            </a:br>
            <a:r>
              <a:rPr b="1" i="1" lang="sl-SI" sz="2700" spc="-1" strike="noStrike">
                <a:solidFill>
                  <a:srgbClr val="404176"/>
                </a:solidFill>
                <a:latin typeface="Times New Roman"/>
              </a:rPr>
              <a:t>OKRUG</a:t>
            </a:r>
            <a:endParaRPr b="0" lang="en-US" sz="27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724280" y="23619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Opštine: Ada, Kanjiža, Kikinda, Novi Kneževac, Senta, Čoka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stanovnika: 179.783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vršina: 2.329 km</a:t>
            </a:r>
            <a:r>
              <a:rPr b="1" lang="sl-SI" sz="20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ljoprivredne površine: 89,1%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vršine pod šumama: 0,7%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zaposlenih: 42.857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nezaposlenih: 17.913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3" descr=""/>
          <p:cNvPicPr/>
          <p:nvPr/>
        </p:nvPicPr>
        <p:blipFill>
          <a:blip r:embed="rId8"/>
          <a:stretch/>
        </p:blipFill>
        <p:spPr>
          <a:xfrm>
            <a:off x="542880" y="693720"/>
            <a:ext cx="3807000" cy="536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KOMPARATIVNE PREDNOSTI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Lokacija okruga na tromeđi tri držav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Četiri opštine su pograničn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Potencijali poljoprivrednog zemljišta za proizvodnju zdrave hran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načajna malazišta nafte, prirodnog gasa i geotermalnih voda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a Tisa i mreža kanala sistema DTD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 (plovni putevi, navodnjavanje i turizam)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Proizvodni kapaciteti industrije su izvozno orijentisani, a nosioci imaju usvojene sisteme ISO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standarda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Dobra ukupna obrazovna struktura stanovništva</a:t>
            </a:r>
            <a:r>
              <a:rPr b="0" lang="sl-SI" sz="1800" spc="-1" strike="noStrike">
                <a:solidFill>
                  <a:srgbClr val="8383ad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- PRIVREDA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POLJOPRIVREDA: uljane kulture, neke vrste povrća, jagodičasto voće, kvalitetno goveđe moso, jagnježe meso, svinjsko meso, seme ratarskih kultura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INDUSTRIJA: ulaganje u industriju građevinskog materijala, ulaganje u naftnu i hemijsku industriju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,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konstrukcija proizvodnih programa metalskog kompleksa preko MSP,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i osvajanje novih tehnologija u prehrambenoj industriji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TURIZAM: 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banjskog turizma (Kanjiža, Kikinda)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lovnog turizm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 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turizma koji je vezan za reku Tisu kao međunarodnu reku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 t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anzitni turizam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- INFRASTRUKTURA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Banatske magistral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auto-puta Temišvar-Kikinda-Sombor-Osjek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Kompletna rekonstrukcija putn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, dogradnja i osavremenjavanje postojeće PTT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konstrukcija elektro-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avršetak gasn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Stavljanje u funkciju kanalsk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      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izgradnja zalivnih sistem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uređaja za prečišćavanje otpadnih vod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regionalnog sistema za snabdevanje industrije tehničkom vodom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proširenje starih sistema za snabdevanje pijaćom vodom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postrojenja za dobijanje ispravne pijaće vod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     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nedostajuće kanalizacione mreže Izgradnja postrojenja za prečišćavanje otpadnih vod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– JAVNE SLUŽBE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premanje opština opremom za elektronsko poslovanje i prelazak na E-upravu i povezivanje u mrežu sa republičkim i pokrajinskim organim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       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opremanje zdravstvenih ustanova i preventivnih službi uz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 o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bezbeđivanje kadrov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bnavljanje škola i osavremenjavanje nastave uz primenu IT i rešavanje problema nedostajućeg kadr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izgradnja sportskih i rekreativnih objekata i rekonstrukcija objekata kulture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aštita spomenika kulture i urbanističke i građevinske baštine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rada GUP-a kao jedan od apsolutnih prioriteta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5:00:56Z</dcterms:created>
  <dc:creator>RZZR</dc:creator>
  <dc:description/>
  <dc:language>en-US</dc:language>
  <cp:lastModifiedBy>No Name</cp:lastModifiedBy>
  <dcterms:modified xsi:type="dcterms:W3CDTF">2001-10-03T17:14:01Z</dcterms:modified>
  <cp:revision>5</cp:revision>
  <dc:subject/>
  <dc:title>PowerPoint Presentation</dc:title>
</cp:coreProperties>
</file>